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D5ED-98AE-4F0D-AC97-5D7B7840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5877-5925-4B23-8AAD-61656A6A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A13-2CCA-41C6-841E-44857FBA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17E-C701-45B4-930A-FE60182C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DBCB8-8DBB-4F5B-80AF-9F8F7A3D11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FDC40-83E5-4210-B6A6-3E5A546DC5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7F94F-9277-4544-9ED0-0C25F47079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9D433-79F8-4FC7-9617-1EE1C1D74F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586A4-AD03-4734-B580-AB8C38C998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7467C-468F-4B03-8CF8-BBC848B6E1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8EA23-6753-42A4-A0AA-C027F2C9C2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CB87-DE12-4F2F-9036-B7C2D21C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2164D-A160-4D20-9697-8E66EDB0DD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621A3-C662-4258-87F2-4B3FF24F69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994FF-AF6A-4E9A-BE0F-23A9B8FE80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D5A09-070C-46A2-80C8-E6ED42A66F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5228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58640"/>
            <a:ext cx="264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17DA8-8841-44DC-8774-9198059C1D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181-ED5B-4840-9923-A72632A4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3AE-A934-4BF4-A64A-54940716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848-70BE-42BC-A717-E3F45E1B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53D2-500F-4E15-BF16-852640C9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B47-B864-4EDD-8B78-AD4FC8BE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864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5890-3F4B-4275-9931-FD3F170C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52280"/>
            <a:ext cx="40158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960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B16-8E14-4562-8999-081FF877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04000" y="6245280"/>
            <a:ext cx="5396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511C-82C7-46D2-B495-45472F8C4C7F}" type="slidenum"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52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977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e977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e9770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70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C1C1-A4DA-49E7-8BF6-8B562410E120}" type="slidenum"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785600"/>
            <a:ext cx="9144000" cy="3143160"/>
          </a:xfrm>
          <a:prstGeom prst="rect">
            <a:avLst/>
          </a:prstGeom>
          <a:solidFill>
            <a:srgbClr val="fde4cc"/>
          </a:solidFill>
          <a:ln w="25560">
            <a:solidFill>
              <a:srgbClr val="e9770a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Cambria"/>
              </a:rPr>
              <a:t>Сімвалы і сімволіка </a:t>
            </a:r>
            <a:br>
              <a:rPr sz="6600"/>
            </a:br>
            <a:r>
              <a:rPr b="1" lang="ru-RU" sz="6600" spc="-1" strike="noStrike">
                <a:solidFill>
                  <a:srgbClr val="00b050"/>
                </a:solidFill>
                <a:latin typeface="Cambria"/>
              </a:rPr>
              <a:t>Рэспублікі Беларусь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3571920" cy="1214280"/>
          </a:xfrm>
          <a:prstGeom prst="rect">
            <a:avLst/>
          </a:prstGeom>
          <a:solidFill>
            <a:srgbClr val="fbc9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Слоўнік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357120" y="2071800"/>
            <a:ext cx="8358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 u="sng">
                <a:solidFill>
                  <a:srgbClr val="e9770a"/>
                </a:solidFill>
                <a:uFillTx/>
                <a:latin typeface="Cambria"/>
              </a:rPr>
              <a:t>Сімвал</a:t>
            </a:r>
            <a:r>
              <a:rPr b="0" lang="be-BY" sz="3200" spc="-1" strike="noStrike">
                <a:solidFill>
                  <a:srgbClr val="e9770a"/>
                </a:solidFill>
                <a:latin typeface="Cambria"/>
              </a:rPr>
              <a:t> – гэта ўмоўны знак якога-небудзь      паняцця, з’явы, ідэі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 u="sng">
                <a:solidFill>
                  <a:srgbClr val="e9770a"/>
                </a:solidFill>
                <a:uFillTx/>
                <a:latin typeface="Cambria"/>
              </a:rPr>
              <a:t>Сімволіка</a:t>
            </a:r>
            <a:r>
              <a:rPr b="0" lang="be-BY" sz="3200" spc="-1" strike="noStrike">
                <a:solidFill>
                  <a:srgbClr val="e9770a"/>
                </a:solidFill>
                <a:latin typeface="Cambria"/>
              </a:rPr>
              <a:t> – сукупнасць якіх-небудзь    сімвалаў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428760" y="4071960"/>
            <a:ext cx="814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 u="sng">
                <a:solidFill>
                  <a:srgbClr val="e9770a"/>
                </a:solidFill>
                <a:uFillTx/>
                <a:latin typeface="Cambria"/>
              </a:rPr>
              <a:t>Арнамент</a:t>
            </a:r>
            <a:r>
              <a:rPr b="0" lang="be-BY" sz="3200" spc="-1" strike="noStrike">
                <a:solidFill>
                  <a:srgbClr val="e9770a"/>
                </a:solidFill>
                <a:latin typeface="Cambria"/>
              </a:rPr>
              <a:t> - узор са спалучэння геаметрычных, жывельных </a:t>
            </a:r>
            <a:r>
              <a:rPr b="0" lang="ru-RU" sz="3200" spc="-1" strike="noStrike">
                <a:solidFill>
                  <a:srgbClr val="e9770a"/>
                </a:solidFill>
                <a:latin typeface="Cambria"/>
              </a:rPr>
              <a:t>ц</a:t>
            </a:r>
            <a:r>
              <a:rPr b="0" lang="be-BY" sz="3200" spc="-1" strike="noStrike">
                <a:solidFill>
                  <a:srgbClr val="e9770a"/>
                </a:solidFill>
                <a:latin typeface="Cambria"/>
              </a:rPr>
              <a:t>і раслінных элементаў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47600" y="2966760"/>
            <a:ext cx="6296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лайд разделитель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Рисунок 2" descr="flagRB.jpg"/>
          <p:cNvPicPr/>
          <p:nvPr/>
        </p:nvPicPr>
        <p:blipFill>
          <a:blip r:embed="rId2"/>
          <a:stretch/>
        </p:blipFill>
        <p:spPr>
          <a:xfrm>
            <a:off x="0" y="2143080"/>
            <a:ext cx="9144000" cy="4714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0" y="332280"/>
            <a:ext cx="2857680" cy="703440"/>
          </a:xfrm>
          <a:prstGeom prst="rect">
            <a:avLst/>
          </a:prstGeom>
          <a:solidFill>
            <a:srgbClr val="fbc999"/>
          </a:solidFill>
          <a:ln w="255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b050"/>
                </a:solidFill>
                <a:latin typeface="Cambria"/>
              </a:rPr>
              <a:t>Сцяг РБ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0" y="332280"/>
            <a:ext cx="2857680" cy="703440"/>
          </a:xfrm>
          <a:prstGeom prst="rect">
            <a:avLst/>
          </a:prstGeom>
          <a:solidFill>
            <a:srgbClr val="fbc999"/>
          </a:solidFill>
          <a:ln w="255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b050"/>
                </a:solidFill>
                <a:latin typeface="Cambria"/>
              </a:rPr>
              <a:t>Герб РБ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95640" y="1700280"/>
            <a:ext cx="44384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0" y="332280"/>
            <a:ext cx="2857680" cy="703440"/>
          </a:xfrm>
          <a:prstGeom prst="rect">
            <a:avLst/>
          </a:prstGeom>
          <a:solidFill>
            <a:srgbClr val="fbc999"/>
          </a:solidFill>
          <a:ln w="255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b050"/>
                </a:solidFill>
                <a:latin typeface="Cambria"/>
              </a:rPr>
              <a:t>Слоўнік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642960" y="2214720"/>
            <a:ext cx="792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 u="sng">
                <a:solidFill>
                  <a:srgbClr val="e9770a"/>
                </a:solidFill>
                <a:uFillTx/>
                <a:latin typeface="Cambria"/>
              </a:rPr>
              <a:t>Гімн</a:t>
            </a:r>
            <a:r>
              <a:rPr b="0" lang="be-BY" sz="3200" spc="-1" strike="noStrike">
                <a:solidFill>
                  <a:srgbClr val="e9770a"/>
                </a:solidFill>
                <a:latin typeface="Cambria"/>
              </a:rPr>
              <a:t> - урачыстая песня, сімвал дзяржаўнага адзінства.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71680" y="3863160"/>
            <a:ext cx="85723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9770a"/>
                </a:solidFill>
                <a:uFillTx/>
                <a:latin typeface="Cambria Math"/>
                <a:ea typeface="Cambria Math"/>
              </a:rPr>
              <a:t>Словы</a:t>
            </a:r>
            <a:r>
              <a:rPr b="0" lang="ru-RU" sz="3200" spc="-1" strike="noStrike">
                <a:solidFill>
                  <a:srgbClr val="e9770a"/>
                </a:solidFill>
                <a:latin typeface="Cambria Math"/>
                <a:ea typeface="Cambria Math"/>
              </a:rPr>
              <a:t> </a:t>
            </a:r>
            <a:r>
              <a:rPr b="0" lang="ru-RU" sz="2800" spc="-1" strike="noStrike">
                <a:solidFill>
                  <a:srgbClr val="e9770a"/>
                </a:solidFill>
                <a:latin typeface="Cambria Math"/>
                <a:ea typeface="Cambria Math"/>
              </a:rPr>
              <a:t>Міхася Клімковіча, Уладзіміра Карызны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e9770a"/>
                </a:solidFill>
                <a:uFillTx/>
                <a:latin typeface="Cambria Math"/>
                <a:ea typeface="Cambria Math"/>
              </a:rPr>
              <a:t>Музыка </a:t>
            </a:r>
            <a:r>
              <a:rPr b="0" lang="ru-RU" sz="2800" spc="-1" strike="noStrike">
                <a:solidFill>
                  <a:srgbClr val="e9770a"/>
                </a:solidFill>
                <a:latin typeface="Cambria Math"/>
                <a:ea typeface="Cambria Math"/>
              </a:rPr>
              <a:t>Нестара Сакалоўскага </a:t>
            </a:r>
            <a:endParaRPr b="0" lang="en-US" sz="2800" spc="-1" strike="noStrike">
              <a:solidFill>
                <a:srgbClr val="e9770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2"/>
          <p:cNvSpPr/>
          <p:nvPr/>
        </p:nvSpPr>
        <p:spPr>
          <a:xfrm>
            <a:off x="0" y="88560"/>
            <a:ext cx="5857920" cy="1190880"/>
          </a:xfrm>
          <a:prstGeom prst="rect">
            <a:avLst/>
          </a:prstGeom>
          <a:solidFill>
            <a:srgbClr val="fbc999"/>
          </a:solidFill>
          <a:ln w="255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b050"/>
                </a:solidFill>
                <a:latin typeface="Cambria"/>
              </a:rPr>
              <a:t>Апытанне вучняў 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b050"/>
                </a:solidFill>
                <a:latin typeface="Cambria"/>
              </a:rPr>
              <a:t>(апытана 47 чалавек)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68454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0" y="-216000"/>
            <a:ext cx="5857920" cy="1800360"/>
          </a:xfrm>
          <a:prstGeom prst="rect">
            <a:avLst/>
          </a:prstGeom>
          <a:solidFill>
            <a:srgbClr val="fbc999"/>
          </a:solidFill>
          <a:ln w="25560">
            <a:solidFill>
              <a:srgbClr val="e977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b050"/>
                </a:solidFill>
                <a:latin typeface="Cambria"/>
              </a:rPr>
              <a:t>Апытанне настаўнікаў</a:t>
            </a:r>
            <a:endParaRPr b="0" lang="en-US" sz="4000" spc="-1" strike="noStrike">
              <a:solidFill>
                <a:srgbClr val="e9770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200" spc="-1" strike="noStrike">
                <a:solidFill>
                  <a:srgbClr val="00b050"/>
                </a:solidFill>
                <a:latin typeface="Cambria"/>
              </a:rPr>
              <a:t>(апытана 17 чалавек)</a:t>
            </a:r>
            <a:endParaRPr b="0" lang="en-US" sz="3200" spc="-1" strike="noStrike">
              <a:solidFill>
                <a:srgbClr val="e9770a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778040"/>
            <a:ext cx="694836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1:16:13Z</dcterms:created>
  <dc:creator>Helena</dc:creator>
  <dc:description/>
  <cp:keywords>"PowerLexis" - Презентационное агентство</cp:keywords>
  <dc:language>en-US</dc:language>
  <cp:lastModifiedBy>edu</cp:lastModifiedBy>
  <dcterms:modified xsi:type="dcterms:W3CDTF">2007-12-25T15:57:43Z</dcterms:modified>
  <cp:revision>42</cp:revision>
  <dc:subject/>
  <dc:title>Сімвалы і сімволіка  Рэспублікі Беларусь</dc:title>
</cp:coreProperties>
</file>