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0459-B7A1-42B2-A465-8CCFB5F61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;ujgjyt7iy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4EE-8A06-47FE-81B8-E14932F7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70A-06CF-425B-A55D-47721D80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CED-BD9D-49F4-B275-8FAFDE9E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A3B-FFC6-4D35-A2D9-6DD5C3CE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8837-CC4B-44E2-BFDC-4CE19244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B1D2-BAEB-4769-A6D8-CE4CC57A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38CC-9EA9-43E7-9FDD-9EC0BF4C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9091-8D73-488A-A72D-E11B4F46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15BE-C187-41DD-9DAC-C86AC110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0FAF-4813-4FF2-BF92-69DC076B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EBB6-B58F-40FF-B653-857350A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298-EB3B-4A49-8D74-A00B9F27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13BA-0F4B-4B8B-90CC-567DD73B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1CCD-34FE-482C-92C7-3BED6FD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DCE1-C99D-4166-ADF2-116E4D55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70C2-0953-426D-A866-6F6EABE5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8B7F-7F02-43B0-A2A9-FECCF503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122-3D5B-4283-8216-69DCC7A3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192-FA47-42B8-898A-0F6399FB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94B-E4A6-4C87-B11D-CDBB4B14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C88-05D0-4D09-89EF-83989E5A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1C8-6A4E-4EF3-B76B-0C7B24D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601-22AF-45F8-BF2A-C8A75BE9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BB4-8071-44AD-8D19-13C83E3B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3EAB-3BBD-45AA-B10B-16957D06EB5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4DC2-83CE-47A3-851E-FE48EA53357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be-BY" sz="3600" spc="-1" strike="noStrike">
                <a:solidFill>
                  <a:srgbClr val="006666"/>
                </a:solidFill>
                <a:latin typeface="Arial"/>
              </a:rPr>
              <a:t>Фактары, якія спрыялі станаўленню ВКЛ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Arial"/>
              </a:rPr>
              <a:t>Росквіт гарадоў Верхняга Панямоння ў 12-13 стст., іх размяшчэнне на гандлёвых шляхах. Гарады становяцца цэнтрамі асобных княстваў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Arial"/>
              </a:rPr>
              <a:t>Феадалам неабходна было аб’яднаць сілы для ўзмацнення прававога рэгулявання феадальных адносін, спыніць уцёкі сялян ад аднаго феадала да другога, прымацаваць іх да зямл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6666"/>
                </a:solidFill>
                <a:latin typeface="Arial"/>
              </a:rPr>
              <a:t>Княжанне Міндоў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0066"/>
                </a:solidFill>
                <a:latin typeface="Arial"/>
              </a:rPr>
              <a:t>1253 г.</a:t>
            </a: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 – каранацыя Міндоўга з бласлаўлення Папы рымскага Інакенція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IV</a:t>
            </a: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 (раскошная карона была зроблена залатых спраў майстрамі Рыгі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У </a:t>
            </a:r>
            <a:r>
              <a:rPr b="1" lang="be-BY" sz="2400" spc="-1" strike="noStrike">
                <a:solidFill>
                  <a:srgbClr val="ff0066"/>
                </a:solidFill>
                <a:latin typeface="Arial"/>
              </a:rPr>
              <a:t>1263 г.,</a:t>
            </a: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 калі войска Міндоўга знаходзілася ў паходзе на Бранск, валадар Літвы і Два яго малодшыя сыны былі забітыя ў час сну змоўшчыкамі, падкупіўшымі княжацкага слугу Астапа. На чале іх стаяў жмудскі князь Трайня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6666"/>
                </a:solidFill>
                <a:latin typeface="Arial"/>
              </a:rPr>
              <a:t>Княжанне Войшалка1264-1267 гг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Згодна летапісным звесткам у 1264 г. </a:t>
            </a:r>
            <a:r>
              <a:rPr b="1" lang="be-BY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ача княжити во всей земле Литовской и нача вороги свои убивати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далучыў балцкія землі </a:t>
            </a:r>
            <a:r>
              <a:rPr b="1" lang="be-BY" sz="2800" spc="-1" strike="noStrike">
                <a:solidFill>
                  <a:srgbClr val="666699"/>
                </a:solidFill>
                <a:latin typeface="Arial"/>
              </a:rPr>
              <a:t>Нальшчаны і Дзяволтву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ыхтава</a:t>
            </a: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ў праваслаўнае хрышчэнне Літв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Забіты ў 1267 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6666"/>
                </a:solidFill>
                <a:latin typeface="Arial"/>
              </a:rPr>
              <a:t>Княжанне Трайдэна 1270-1282 гг</a:t>
            </a:r>
            <a:r>
              <a:rPr b="0" lang="be-BY" sz="36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66"/>
                </a:solidFill>
                <a:latin typeface="Arial"/>
              </a:rPr>
              <a:t>Трайдэн (Тройдзень)– </a:t>
            </a:r>
            <a:r>
              <a:rPr b="0" lang="be-BY" sz="2000" spc="-1" strike="noStrike">
                <a:solidFill>
                  <a:srgbClr val="003366"/>
                </a:solidFill>
                <a:latin typeface="Arial"/>
              </a:rPr>
              <a:t>усталяваў сваю ўладу ў Верхнім Панямонні – першапачатковай тэрыторыі ВК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3366"/>
                </a:solidFill>
                <a:latin typeface="Arial"/>
              </a:rPr>
              <a:t>прадаўжаў палітыку Войшалка па ўмацаванню дзяржавы; барацьбіт з галіцка-валынскімі князямі, татарамі і крыжакамі: </a:t>
            </a:r>
            <a:r>
              <a:rPr b="0" lang="be-BY" sz="2000" spc="-1" strike="noStrike">
                <a:solidFill>
                  <a:srgbClr val="ff0066"/>
                </a:solidFill>
                <a:latin typeface="Arial"/>
              </a:rPr>
              <a:t>"шмат ваяваў і заўсёды перамагаў",</a:t>
            </a:r>
            <a:r>
              <a:rPr b="0" lang="be-BY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3366"/>
                </a:solidFill>
                <a:latin typeface="Arial"/>
              </a:rPr>
              <a:t>Галіцка-валынскі летапіс дае знішчальную характарыстыку Трайдзеню: </a:t>
            </a:r>
            <a:r>
              <a:rPr b="0" lang="be-BY" sz="2000" spc="-1" strike="noStrike">
                <a:solidFill>
                  <a:srgbClr val="ff0066"/>
                </a:solidFill>
                <a:latin typeface="Arial"/>
              </a:rPr>
              <a:t>"Окаянный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lang="be-BY" sz="2000" spc="-1" strike="noStrike">
                <a:solidFill>
                  <a:srgbClr val="ff0066"/>
                </a:solidFill>
                <a:latin typeface="Arial"/>
              </a:rPr>
              <a:t> беззаконный, проклятый, немилостивый Трайден, его же беззаконья не могохом писати срама ради..."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3366"/>
                </a:solidFill>
                <a:latin typeface="Arial"/>
              </a:rPr>
              <a:t>ВКЛ у часы Трайдзеня - унутрана стабільная дзяржава, здольная весці актыўную знешнюю наліты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6666"/>
                </a:solidFill>
                <a:latin typeface="Arial"/>
              </a:rPr>
              <a:t>Высно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Асаблівасць утварэння новай дзяржавы – перавага палітычных прычын над эканамічнымі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Па пытанню месцазнаходжання летапіснай Літвы ў сучаснай гістарычнай навуцы вядуцца вострыя дыскусіі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Новай дзяржаве удалося выстаяць у жорсткай барацьбе з крыжакамі, дасягнуць трывалага адзінства ўнутры дзяржавы і пачаць шлях свайго ўзвышэнн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6666"/>
                </a:solidFill>
                <a:latin typeface="Arial"/>
              </a:rPr>
              <a:t>Фактары, якія спрыялі станаўленню ВКЛ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Суседзямі заходніх зямель Русі былі лета-літоўскія племянныя аб’яднанні. У пачатку 13 ст. у іх не існавала сапраўдных гарадоў – цэнтраў гандлю і рамяства, не было пісьменнасці і хрысціянскай культуры. Князю Міндоўгу ўдалося шляхам крывавай барацьбы аб’яднаць большасць лета-літоўскіх плямё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 u="sng">
                <a:solidFill>
                  <a:srgbClr val="ff0066"/>
                </a:solidFill>
                <a:uFillTx/>
                <a:latin typeface="Arial"/>
              </a:rPr>
              <a:t>Асаблівасць утварэння новай дзяржавы – перавага палітычных прычын над эканамічнымі.</a:t>
            </a: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 У большай ступені ўплываў знешнепалітычны фактар – двайная пагроза: з захаду – ад нямецкіх феадалаў, з усходу – ад мангола-татараў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6666"/>
                </a:solidFill>
                <a:latin typeface="Arial"/>
              </a:rPr>
              <a:t>Наваградак – першая сталіца ВК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13 ст. – Наваградак развіты цэнтр рамяства і гандл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13 ст. – Наваградак – цэнтр княст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У першай палове 13 ст. яго не закранулі крывавыя падзеі, што былі звязаны з барацьбой з крыжакамі і мангола-татарам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6666"/>
                </a:solidFill>
                <a:latin typeface="Arial"/>
              </a:rPr>
              <a:t>Першае памінанне аб Літв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0066"/>
                </a:solidFill>
                <a:latin typeface="Arial"/>
              </a:rPr>
              <a:t>1009 г.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 – першае памінанне аб Літве ў запісах невялікага нямецкага горада Кведлінбурга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(</a:t>
            </a:r>
            <a:r>
              <a:rPr b="1" i="1" lang="be-BY" sz="2400" spc="-1" strike="noStrike">
                <a:solidFill>
                  <a:srgbClr val="666699"/>
                </a:solidFill>
                <a:latin typeface="Arial"/>
              </a:rPr>
              <a:t>у сувязі з забойствам місіянера біскупа Бруна "на сумежжы Русі і Літвы“</a:t>
            </a:r>
            <a:r>
              <a:rPr b="1" i="1" lang="en-US" sz="2400" spc="-1" strike="noStrike">
                <a:solidFill>
                  <a:srgbClr val="666699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i="1" lang="be-BY" sz="2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0066"/>
                </a:solidFill>
                <a:latin typeface="Arial"/>
              </a:rPr>
              <a:t>1040 г.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 – памінанне аб Літве ў “Аповесці мінулых часоў”, калі Яраслаў Мудры заваяваў землі Літвы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і прымусіў яе плаціць Кіеву данін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У 1132-1132 гг. на Літву хадзіў кіеўскі князь Мсціслаў Уладзіміравіч разам з Усеваладам Гародзенскі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6666"/>
                </a:solidFill>
                <a:latin typeface="Arial"/>
              </a:rPr>
              <a:t>Паходжанне назвы “Літва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ад лацінскага выразу </a:t>
            </a:r>
            <a:r>
              <a:rPr b="0" lang="be-BY" sz="2400" spc="-1" strike="noStrike">
                <a:solidFill>
                  <a:srgbClr val="f571e2"/>
                </a:solidFill>
                <a:latin typeface="Arial"/>
              </a:rPr>
              <a:t>"літус туба" (бераг, труба),</a:t>
            </a: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 якімі нібыта называлі прынёманскія землі рымляне, што нібыта перасяліліся сюды з Італіі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Назва звязана з балцкімі або славянскімі каранямі </a:t>
            </a:r>
            <a:r>
              <a:rPr b="0" lang="en-US" sz="2400" spc="-1" strike="noStrike">
                <a:solidFill>
                  <a:srgbClr val="f571e2"/>
                </a:solidFill>
                <a:latin typeface="Arial"/>
              </a:rPr>
              <a:t>lie</a:t>
            </a:r>
            <a:r>
              <a:rPr b="0" lang="be-BY" sz="2400" spc="-1" strike="noStrike">
                <a:solidFill>
                  <a:srgbClr val="f571e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571e2"/>
                </a:solidFill>
                <a:latin typeface="Arial"/>
              </a:rPr>
              <a:t>lieti</a:t>
            </a:r>
            <a:r>
              <a:rPr b="0" lang="be-BY" sz="2400" spc="-1" strike="noStrike">
                <a:solidFill>
                  <a:srgbClr val="f571e2"/>
                </a:solidFill>
                <a:latin typeface="Arial"/>
              </a:rPr>
              <a:t> (ліць, цячы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з назвай </a:t>
            </a:r>
            <a:r>
              <a:rPr b="0" lang="be-BY" sz="2400" spc="-1" strike="noStrike">
                <a:solidFill>
                  <a:srgbClr val="f571e2"/>
                </a:solidFill>
                <a:latin typeface="Arial"/>
              </a:rPr>
              <a:t>р. Ліетаўка ці Ліета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з кельцкім выразам </a:t>
            </a:r>
            <a:r>
              <a:rPr b="0" lang="en-US" sz="2400" spc="-1" strike="noStrike">
                <a:solidFill>
                  <a:srgbClr val="f571e2"/>
                </a:solidFill>
                <a:latin typeface="Arial"/>
              </a:rPr>
              <a:t>Litwi </a:t>
            </a:r>
            <a:r>
              <a:rPr b="0" lang="be-BY" sz="2400" spc="-1" strike="noStrike">
                <a:solidFill>
                  <a:srgbClr val="f571e2"/>
                </a:solidFill>
                <a:latin typeface="Arial"/>
              </a:rPr>
              <a:t>(прыбярэжная краін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з беларускім дыялектным </a:t>
            </a:r>
            <a:r>
              <a:rPr b="0" lang="be-BY" sz="2400" spc="-1" strike="noStrike">
                <a:solidFill>
                  <a:srgbClr val="f571e2"/>
                </a:solidFill>
                <a:latin typeface="Arial"/>
              </a:rPr>
              <a:t>"лютвін" (люты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be-BY" sz="3200" spc="-1" strike="noStrike">
                <a:solidFill>
                  <a:srgbClr val="006666"/>
                </a:solidFill>
                <a:latin typeface="Arial"/>
              </a:rPr>
              <a:t>Летапісная Літва”</a:t>
            </a:r>
            <a:br>
              <a:rPr sz="3200"/>
            </a:br>
            <a:r>
              <a:rPr b="1" lang="be-BY" sz="3200" spc="-1" strike="noStrike">
                <a:solidFill>
                  <a:srgbClr val="006666"/>
                </a:solidFill>
                <a:latin typeface="Arial"/>
              </a:rPr>
              <a:t>(месцазнаходжанн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2362320"/>
          <a:ext cx="7693200" cy="4065480"/>
        </p:xfrm>
        <a:graphic>
          <a:graphicData uri="http://schemas.openxmlformats.org/drawingml/2006/table">
            <a:tbl>
              <a:tblPr/>
              <a:tblGrid>
                <a:gridCol w="2293920"/>
                <a:gridCol w="5399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0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Аўтар канцэпцыі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0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Месца знаходжання Літв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Г. </a:t>
                      </a:r>
                      <a:r>
                        <a:rPr b="1" lang="be-BY" sz="2400" spc="-1" strike="noStrike">
                          <a:solidFill>
                            <a:srgbClr val="003366"/>
                          </a:solidFill>
                          <a:latin typeface="Courier New"/>
                          <a:ea typeface="Times New Roman"/>
                        </a:rPr>
                        <a:t>Лаўмянскі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003366"/>
                          </a:solidFill>
                          <a:latin typeface="Courier New"/>
                          <a:ea typeface="Times New Roman"/>
                        </a:rPr>
                        <a:t>Усходняя частка сучаснай Літоўскай рэспублікі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М. Ермаловіч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Верхняе Панямонне</a:t>
                      </a:r>
                      <a:r>
                        <a:rPr b="1" lang="be-BY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 на тэрыторыі сучаснай Беларусі паміж гарадамі </a:t>
                      </a:r>
                      <a:r>
                        <a:rPr b="1" lang="be-BY" sz="24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Маладзечнам, Наваградкам, Слонімам, Менскам</a:t>
                      </a:r>
                      <a:r>
                        <a:rPr b="1" lang="be-BY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А. Краўцэвіч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Тэрыторыя сучасных усходнелітоўскіх і паўночна-заходніх беларускіх зямел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0">
    <p:blinds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6666"/>
                </a:solidFill>
                <a:latin typeface="Arial"/>
              </a:rPr>
              <a:t>Памінанне аб Міндоўг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66"/>
                </a:solidFill>
                <a:latin typeface="Arial"/>
              </a:rPr>
              <a:t>1219 г.</a:t>
            </a: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 – памінанне аб Міндоўг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66"/>
                </a:solidFill>
                <a:latin typeface="Arial"/>
              </a:rPr>
              <a:t>1235 г. –</a:t>
            </a: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 памінаецца аб “Літве Міндоўга”.  У “Хроніцы Быхаўца “ </a:t>
            </a:r>
            <a:r>
              <a:rPr b="0" lang="be-BY" sz="2800" spc="-1" strike="noStrike">
                <a:solidFill>
                  <a:srgbClr val="003366"/>
                </a:solidFill>
                <a:latin typeface="Arial"/>
              </a:rPr>
              <a:t>гаворыцца, што Міндоўг адных сваіх сапернікаў забіў, другіх выгнаў з Літвы і </a:t>
            </a:r>
            <a:r>
              <a:rPr b="1" i="1" lang="be-BY" sz="2800" spc="-1" strike="noStrike">
                <a:solidFill>
                  <a:srgbClr val="ff0066"/>
                </a:solidFill>
                <a:latin typeface="Arial"/>
              </a:rPr>
              <a:t>“пачаў княжыць адзін ва ўсёй зямлі Літоўскай і вельмі гэтым ганарыўся, меў славу і гонар вялікі і не цярпеў супраць сябе нікога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6666"/>
                </a:solidFill>
                <a:latin typeface="Arial"/>
              </a:rPr>
              <a:t>Княжанне Міндоўга 1240-1263 гг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У сяр. 40 –х гг. 13 ст. Міндоўг пацярпеў паражэнне ў барацьбе з крыжакамі. У выніку міжусобнай барацьбы ён пакідае Літву і з прыхільнікамі ўцякае ў Наваграда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1246 г.</a:t>
            </a:r>
            <a:r>
              <a:rPr b="0" lang="be-BY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Міндоўг прыняў у Наваградку праваслаўе. Напэўна, перамена веры - умова абрання на пасаду князя наваградскага. Паводле Густынскага летапісу </a:t>
            </a:r>
            <a:r>
              <a:rPr b="1" i="1" lang="be-BY" sz="2400" spc="-1" strike="noStrike">
                <a:solidFill>
                  <a:srgbClr val="ff0066"/>
                </a:solidFill>
                <a:latin typeface="Arial"/>
              </a:rPr>
              <a:t>"прия веру Христову от Востока со многими своими баяры".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6666"/>
                </a:solidFill>
                <a:latin typeface="Arial"/>
              </a:rPr>
              <a:t>Княжанне Міндоў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Arial"/>
              </a:rPr>
              <a:t>У кан. 40-х – пачатку 50-х гг. Міндоўг адваёўвае Літву і далучае яе да Наваградка. Паводле Іпацьеўскага летапісу Міндоўг </a:t>
            </a:r>
            <a:r>
              <a:rPr b="0" i="1" lang="be-BY" sz="2800" spc="-1" strike="noStrike">
                <a:solidFill>
                  <a:srgbClr val="ff0066"/>
                </a:solidFill>
                <a:latin typeface="Arial"/>
              </a:rPr>
              <a:t>"Литву заиме, поимана бе вся земля Литовьская".</a:t>
            </a:r>
            <a:r>
              <a:rPr b="0" lang="be-BY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Arial"/>
              </a:rPr>
              <a:t>У 1248 г. супраць Міндоўга склалася вялікая кааліцыя князёў. Міндоўг вымушаны пайсці на саюз з крыжакамі і прыняць каталіцтв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0">
    <p:blinds dir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2:27:00Z</dcterms:created>
  <dc:creator>Andrei</dc:creator>
  <dc:description/>
  <dc:language>en-US</dc:language>
  <cp:lastModifiedBy>Andrei</cp:lastModifiedBy>
  <dcterms:modified xsi:type="dcterms:W3CDTF">2007-12-17T20:14:27Z</dcterms:modified>
  <cp:revision>24</cp:revision>
  <dc:subject/>
  <dc:title>   Лобанова Татьяна Михайловна учитель истории лицея г. Барань первой категории </dc:title>
</cp:coreProperties>
</file>