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86E-EC5C-48D0-B30A-45B4A075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E8F-09A4-48D2-9EC2-68F487A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6B8-1E6E-45EF-AF9E-2A88E6C7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5F9-2111-4191-BB4E-A01EBB68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932-B813-42FC-9DFF-940B7A21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F49-597C-4013-A55F-DA0103D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01A-B8C2-4C85-B61B-E10315B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8BD-D22F-40D2-B81C-DAC69A1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4D9-2D80-4F00-A902-82E76D5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72B-A860-4E1C-96B5-38F0034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883-3DD2-4A75-B69C-5C15BC3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9F7-5881-4BCC-8353-C123FA1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73C-AFDA-4164-997E-051E3C0C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333399"/>
                </a:solidFill>
                <a:latin typeface="Arial"/>
              </a:rPr>
              <a:t>УА “Дзяржаўная агульнаадукацый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333399"/>
                </a:solidFill>
                <a:latin typeface="Arial"/>
              </a:rPr>
              <a:t>сярэдняя школа №3 г. Глыбокае з ліцэйскімі класам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5334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33399"/>
                </a:solidFill>
                <a:latin typeface="Arial"/>
              </a:rPr>
              <a:t>Урок - прэзентацы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5920" y="62485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333399"/>
                </a:solidFill>
                <a:latin typeface="Arial"/>
              </a:rPr>
              <a:t>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057400"/>
            <a:ext cx="6629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500" spc="-1" strike="noStrike">
                <a:solidFill>
                  <a:srgbClr val="ff3300"/>
                </a:solidFill>
                <a:latin typeface="Monotype Corsiva"/>
              </a:rPr>
              <a:t>Мюзікл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500" spc="-1" strike="noStrike">
                <a:solidFill>
                  <a:srgbClr val="ff3300"/>
                </a:solidFill>
                <a:latin typeface="Monotype Corsiva"/>
              </a:rPr>
              <a:t>Каханне- вечная тэма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500" spc="-1" strike="noStrike">
                <a:solidFill>
                  <a:srgbClr val="ff3300"/>
                </a:solidFill>
                <a:latin typeface="Monotype Corsiva"/>
              </a:rPr>
              <a:t>ў мастацтве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0383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66cc"/>
                </a:solidFill>
                <a:latin typeface="Arial"/>
              </a:rPr>
              <a:t>Знаёмст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813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66cc"/>
                </a:solidFill>
                <a:latin typeface="Arial"/>
              </a:rPr>
              <a:t>з музыкальнай культурай Францы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813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Знаёмства з мюзікла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Р. Каша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“</a:t>
            </a: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Нотр –Дам дэ Пар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Arial"/>
              </a:rPr>
              <a:t>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66cc"/>
                </a:solidFill>
                <a:latin typeface="Arial"/>
              </a:rPr>
              <a:t>Занесены ў </a:t>
            </a:r>
            <a:r>
              <a:rPr b="1" i="1" lang="be-BY" sz="3600" spc="-1" strike="noStrike">
                <a:solidFill>
                  <a:srgbClr val="ff3300"/>
                </a:solidFill>
                <a:latin typeface="Arial"/>
              </a:rPr>
              <a:t>кнігу рэкордаў Гінэса</a:t>
            </a:r>
            <a:r>
              <a:rPr b="1" i="1" lang="be-BY" sz="3600" spc="-1" strike="noStrike">
                <a:solidFill>
                  <a:srgbClr val="0066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66cc"/>
                </a:solidFill>
                <a:latin typeface="Arial"/>
              </a:rPr>
              <a:t>як самы паспяховы мюзі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0066cc"/>
                </a:solidFill>
                <a:latin typeface="Arial"/>
              </a:rPr>
              <a:t>Галоўная песня  мюзікл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9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Belle</a:t>
            </a:r>
            <a:r>
              <a:rPr b="1" lang="be-BY" sz="96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7540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9600" spc="-1" strike="noStrike">
                <a:solidFill>
                  <a:srgbClr val="ff3300"/>
                </a:solidFill>
                <a:latin typeface="Arial"/>
              </a:rPr>
              <a:t>Тэ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952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Якія кампазітары звярталіся да трагедыі В.Шэкспі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51460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А) Бетховен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Б) Пракоф’еў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) Мусаргск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Якія кампазітары звярталіся да трагедыі В.Шэкспі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51460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А) Бетховен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333399"/>
                </a:solidFill>
                <a:latin typeface="Arial"/>
              </a:rPr>
              <a:t>Б) Пракоф’еў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) Мусаргск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Чым адрозніваец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мюзікл ад аперэ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1460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А) літаратурны матэрыял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Б) музыка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) харэаграф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Чым адрозніваец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мюзікл ад аперэ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0066cc"/>
                </a:solidFill>
                <a:latin typeface="Arial"/>
              </a:rPr>
              <a:t>А) літаратурны матэрыял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Б) музыка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) харэаграф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Мюзікл “Вестсайдская гісторыя” твор якога стагоддз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590920"/>
            <a:ext cx="4952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А)  18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Б)  19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)  20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Мюзікл “Вестсайдская гісторыя” твор якога стагоддз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590920"/>
            <a:ext cx="4952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А)  18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Б)  19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0066cc"/>
                </a:solidFill>
                <a:latin typeface="Arial"/>
              </a:rPr>
              <a:t>В)  20 с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0066cc"/>
                </a:solidFill>
                <a:uFillTx/>
                <a:latin typeface="Arial"/>
              </a:rPr>
              <a:t>Мэта ў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даць паняцце мюзікла і выявіць характэрныя асаблівас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пазнаёміць з мюзікла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Л. Бернстайна “Вестсайдская гісторыя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і Р.Кашана “Нотр-Дам- де Пары 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выхоўваць любоў вучняў да сусветнай музык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ывад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909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7920"/>
            <a:ext cx="8915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66cc"/>
                </a:solidFill>
                <a:latin typeface="Arial"/>
              </a:rPr>
              <a:t>Мюзіклы розныя  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- 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змес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- настро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- мастацка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be-BY" sz="4000" spc="-1" strike="noStrike">
                <a:solidFill>
                  <a:srgbClr val="0066cc"/>
                </a:solidFill>
                <a:latin typeface="Arial"/>
              </a:rPr>
              <a:t>сталі адной з яркіх тэатральна-музычных з’яў нашага ча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25909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907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6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6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be-BY" sz="6000" spc="-1" strike="noStrike">
                <a:solidFill>
                  <a:srgbClr val="0066cc"/>
                </a:solidFill>
                <a:latin typeface="Arial"/>
              </a:rPr>
              <a:t>Назавіце музычныя творы, песні,  якія вы ведаеце пра каханне?</a:t>
            </a:r>
            <a:r>
              <a:rPr b="1" lang="be-BY" sz="4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Пес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аб першым каханні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66cc"/>
                </a:solidFill>
                <a:latin typeface="Arial"/>
              </a:rPr>
              <a:t>муз. А.Пятр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66cc"/>
                </a:solidFill>
                <a:latin typeface="Arial"/>
              </a:rPr>
              <a:t>сл. Л. Кук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Непаўтараец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e-BY" sz="5400" spc="-1" strike="noStrike">
                <a:solidFill>
                  <a:srgbClr val="ff3300"/>
                </a:solidFill>
                <a:latin typeface="Arial"/>
              </a:rPr>
              <a:t>такое ніколі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66cc"/>
                </a:solidFill>
                <a:latin typeface="Arial"/>
              </a:rPr>
              <a:t>муз. С.Туліка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66cc"/>
                </a:solidFill>
                <a:latin typeface="Arial"/>
              </a:rPr>
              <a:t>сл. М. Пляцкоўск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086280" cy="41148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016080" cy="419076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7560" y="132480"/>
            <a:ext cx="4243680" cy="65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Двое ў лузе”</a:t>
            </a: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800" spc="-1" strike="noStrike">
                <a:solidFill>
                  <a:srgbClr val="0066cc"/>
                </a:solidFill>
                <a:latin typeface="Arial"/>
              </a:rPr>
              <a:t>муз. Ганны Шаколы, сл. В. Гаранові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Загарае твар дзяўчы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На падушцы з дзмухаў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Луг зялёнаю пярын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Стаў таксама для хлап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 u="sng">
                <a:solidFill>
                  <a:srgbClr val="000000"/>
                </a:solidFill>
                <a:uFillTx/>
                <a:latin typeface="Arial"/>
              </a:rPr>
              <a:t>Прыпеў:</a:t>
            </a:r>
            <a:r>
              <a:rPr b="1" i="1" lang="be-BY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Двое ў лузе,  двое ў све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Счаслівейшыя ад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А кахання сэрцы ў цве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Ды гаркотай палы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Вусны юныя спакус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Ідзе кругам гала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Для дзяўчыны дотык вусаў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Нібы першая тра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 u="sng">
                <a:solidFill>
                  <a:srgbClr val="000000"/>
                </a:solidFill>
                <a:uFillTx/>
                <a:latin typeface="Arial"/>
              </a:rPr>
              <a:t>Прыпеў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Пах салодкай канюшы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Быццам дыхае зя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Каб з травы ўстаць дзяўчын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А жанчынай стаць пас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 u="sng">
                <a:solidFill>
                  <a:srgbClr val="000000"/>
                </a:solidFill>
                <a:uFillTx/>
                <a:latin typeface="Arial"/>
              </a:rPr>
              <a:t>Прыпеў:</a:t>
            </a:r>
            <a:r>
              <a:rPr b="1" i="1" lang="be-BY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Двое ў лузе,  двое ў све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Счаслівейшыя ад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А кахання сэрцы ў цве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400" spc="-1" strike="noStrike">
                <a:solidFill>
                  <a:srgbClr val="000000"/>
                </a:solidFill>
                <a:latin typeface="Arial"/>
              </a:rPr>
              <a:t>Ды гаркотай палы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 u="sng">
                <a:solidFill>
                  <a:srgbClr val="ff99ff"/>
                </a:solidFill>
                <a:uFillTx/>
                <a:latin typeface="Arial"/>
              </a:rPr>
              <a:t>Тэма ках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Л.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“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Саната №14” (“Лунная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С.Пракоф’е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балет “Рамэо і Джульет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Ф.Шапэ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“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Вальс” до мі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Д.Вэрдз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опера “Рыгалет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А.Рыбніка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e-BY" sz="2800" spc="-1" strike="noStrike">
                <a:solidFill>
                  <a:srgbClr val="0066cc"/>
                </a:solidFill>
                <a:latin typeface="Arial"/>
              </a:rPr>
              <a:t>рок-опера “Юнона і Авос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ff3300"/>
                </a:solidFill>
                <a:uFillTx/>
                <a:latin typeface="Arial"/>
              </a:rPr>
              <a:t>Работа па тэхналогі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а) культура-выхаваў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б) лічнасна-арыентаван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cc"/>
                </a:solidFill>
                <a:latin typeface="Arial"/>
              </a:rPr>
              <a:t>в) вакальна-харавога музыцыра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52388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800" spc="-1" strike="noStrike">
                <a:solidFill>
                  <a:srgbClr val="ff3300"/>
                </a:solidFill>
                <a:latin typeface="Times New Roman"/>
              </a:rPr>
              <a:t>Каханне -</a:t>
            </a:r>
            <a:r>
              <a:rPr b="1" i="1" lang="be-BY" sz="8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be-BY" sz="8800" spc="-1" strike="noStrike">
                <a:solidFill>
                  <a:srgbClr val="ff3300"/>
                </a:solidFill>
                <a:latin typeface="Times New Roman"/>
              </a:rPr>
              <a:t>вечная тэм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800" spc="-1" strike="noStrike">
                <a:solidFill>
                  <a:srgbClr val="ff3300"/>
                </a:solidFill>
                <a:latin typeface="Times New Roman"/>
              </a:rPr>
              <a:t>ў мастацтв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748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25909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Музыка всегда бездон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Это значит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Хвалят иль порочат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Каждый в ней находит 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что хоч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0066cc"/>
                </a:solidFill>
                <a:latin typeface="Arial"/>
              </a:rPr>
              <a:t>Л.Мартына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304920"/>
            <a:ext cx="54100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Што большай моцы на све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Скажуць адны – гэта вец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Скажуць другія – вулк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Трэція – акі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Могуць назваць навальні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Гром і змяю – бліскаві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Ранак ці мо змяркан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Стрэчу ці развітан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Радасць над горам балюч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Дзень над агаркам ноч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Лета над белай зім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Голас над цішыню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Толькі з усіх прызнання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Я называю кахан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1" i="1" lang="be-BY" sz="2400" spc="-1" strike="noStrike">
                <a:solidFill>
                  <a:srgbClr val="0066cc"/>
                </a:solidFill>
                <a:latin typeface="Times New Roman"/>
              </a:rPr>
              <a:t>В.Гаранові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Рэфлекс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1143000" cy="838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505320"/>
            <a:ext cx="114300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3505320"/>
            <a:ext cx="1143000" cy="83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1143000" cy="8380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80060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бадзёрасць</a:t>
            </a:r>
            <a:br>
              <a:rPr sz="2400"/>
            </a:b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і </a:t>
            </a:r>
            <a:br>
              <a:rPr sz="2400"/>
            </a:b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дзейснас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светлы, цёплы на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8006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спак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724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трыв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ff0066"/>
                </a:solidFill>
                <a:latin typeface="Arial"/>
              </a:rPr>
              <a:t>Творчых поспехаў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14800"/>
            <a:ext cx="7345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66cc"/>
                </a:solidFill>
                <a:latin typeface="Arial"/>
              </a:rPr>
              <a:t>настаўнік музыкі:</a:t>
            </a:r>
            <a:br>
              <a:rPr sz="2400"/>
            </a:br>
            <a:r>
              <a:rPr b="1" lang="be-BY" sz="2800" spc="-1" strike="noStrike">
                <a:solidFill>
                  <a:srgbClr val="0066cc"/>
                </a:solidFill>
                <a:latin typeface="Arial"/>
              </a:rPr>
              <a:t>Шакола Ганна Казіміраўна</a:t>
            </a:r>
            <a:br>
              <a:rPr sz="2800"/>
            </a:br>
            <a:br>
              <a:rPr sz="2800"/>
            </a:br>
            <a:r>
              <a:rPr b="1" lang="be-BY" sz="2000" spc="-1" strike="noStrike">
                <a:solidFill>
                  <a:srgbClr val="0066cc"/>
                </a:solidFill>
                <a:latin typeface="Arial"/>
              </a:rPr>
              <a:t>Камп’ютэрны дызайн:</a:t>
            </a:r>
            <a:br>
              <a:rPr sz="2000"/>
            </a:br>
            <a:r>
              <a:rPr b="1" lang="be-BY" sz="2400" spc="-1" strike="noStrike">
                <a:solidFill>
                  <a:srgbClr val="0066cc"/>
                </a:solidFill>
                <a:latin typeface="Arial"/>
              </a:rPr>
              <a:t>Раманчук Лідзія Анатольеў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7795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600" spc="-1" strike="noStrike">
                <a:solidFill>
                  <a:srgbClr val="ff3300"/>
                </a:solidFill>
                <a:latin typeface="Arial"/>
              </a:rPr>
              <a:t>Дзякуем за ўваг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63840" y="0"/>
            <a:ext cx="4567320" cy="58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586728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99"/>
                </a:solidFill>
                <a:latin typeface="Arial"/>
              </a:rPr>
              <a:t>Леанард Бернстайн </a:t>
            </a:r>
            <a:r>
              <a:rPr b="1" lang="be-BY" sz="2400" spc="-1" strike="noStrike">
                <a:solidFill>
                  <a:srgbClr val="333399"/>
                </a:solidFill>
                <a:latin typeface="Arial"/>
              </a:rPr>
              <a:t>(1918-1990 г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ff3300"/>
                </a:solidFill>
                <a:uFillTx/>
                <a:latin typeface="Arial"/>
              </a:rPr>
              <a:t>Оперы</a:t>
            </a:r>
            <a:r>
              <a:rPr b="1" lang="be-BY" sz="40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0066cc"/>
                </a:solidFill>
                <a:uFillTx/>
                <a:latin typeface="Arial"/>
              </a:rPr>
              <a:t>Леанарда Бернстай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Ціхае месца”</a:t>
            </a: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(198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Фальстафа”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(198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Кармэ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Фідэлі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Хваляванні на Таіці”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(195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ff3300"/>
                </a:solidFill>
                <a:uFillTx/>
                <a:latin typeface="Arial"/>
              </a:rPr>
              <a:t>Аперэта</a:t>
            </a:r>
            <a:r>
              <a:rPr b="1" lang="be-BY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be-BY" sz="4000" spc="-1" strike="noStrike" u="sng">
                <a:solidFill>
                  <a:srgbClr val="0066cc"/>
                </a:solidFill>
                <a:uFillTx/>
                <a:latin typeface="Arial"/>
              </a:rPr>
              <a:t>Леанарда Бернстай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Кандід”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(1956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66cc"/>
                </a:solidFill>
                <a:latin typeface="Arial"/>
              </a:rPr>
              <a:t>Бале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66cc"/>
                </a:solidFill>
                <a:latin typeface="Arial"/>
              </a:rPr>
              <a:t>3 сімфоніі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66cc"/>
                </a:solidFill>
                <a:latin typeface="Arial"/>
              </a:rPr>
              <a:t>вакальныя цы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ff3300"/>
                </a:solidFill>
                <a:uFillTx/>
                <a:latin typeface="Arial"/>
              </a:rPr>
              <a:t>Мюзік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be-BY" sz="4000" spc="-1" strike="noStrike" u="sng">
                <a:solidFill>
                  <a:srgbClr val="333399"/>
                </a:solidFill>
                <a:uFillTx/>
                <a:latin typeface="Arial"/>
              </a:rPr>
              <a:t>Леанарда Бернстайн</a:t>
            </a:r>
            <a:r>
              <a:rPr b="1" lang="be-BY" sz="4000" spc="-1" strike="noStrike" u="sng">
                <a:solidFill>
                  <a:srgbClr val="000000"/>
                </a:solidFill>
                <a:uFillTx/>
                <a:latin typeface="Arial"/>
              </a:rPr>
              <a:t>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be-BY" sz="6000" spc="-1" strike="noStrike">
                <a:solidFill>
                  <a:srgbClr val="ff3300"/>
                </a:solidFill>
                <a:latin typeface="Arial"/>
              </a:rPr>
              <a:t>Вестсайдская гісторыя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e-BY" sz="3200" spc="-1" strike="noStrike">
                <a:solidFill>
                  <a:srgbClr val="ff3300"/>
                </a:solidFill>
                <a:latin typeface="Arial"/>
              </a:rPr>
              <a:t>(1957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 u="sng">
                <a:solidFill>
                  <a:srgbClr val="0066cc"/>
                </a:solidFill>
                <a:uFillTx/>
                <a:latin typeface="Arial"/>
              </a:rPr>
              <a:t>Выва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3300"/>
                </a:solidFill>
                <a:latin typeface="Arial"/>
              </a:rPr>
              <a:t>Чалавек звяртаецца да мастацтва мінулаг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3300"/>
                </a:solidFill>
                <a:latin typeface="Arial"/>
              </a:rPr>
              <a:t>каб праз яго пазнаць законы чалавечых адносі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000" spc="-1" strike="noStrike">
                <a:solidFill>
                  <a:srgbClr val="ff3300"/>
                </a:solidFill>
                <a:latin typeface="Arial"/>
              </a:rPr>
              <a:t>Фізкультхвілін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48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mbada</cp:lastModifiedBy>
  <dcterms:modified xsi:type="dcterms:W3CDTF">2008-01-03T14:52:5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