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414-D898-4A10-95DF-B18493D9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98D-F256-4280-ACB9-AF3BBC16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5A7-FE1E-478B-8A82-FCFA7F19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BFF-102C-4EAB-91B6-0F461F5C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3DCD3-A020-4C04-BFF5-7FDE9C37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08009-4585-432A-9423-EA6523E1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42A9B-99C2-49EC-BBE3-C8977B6A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3156B-C723-407B-BEAE-BEE143F3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D22E9-0F64-4E79-B946-B71C259B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F74B8-A15E-4B95-8CDA-D7B5B443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E6B52-452C-4FAF-8DEB-DC23214D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101-F0BC-40CF-99DA-32B4BD2C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79429-17E0-48E0-BFB3-E5653340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D140B-4DFC-4328-8762-9B10BF6B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F4CAD-A254-4490-9FA5-C50B808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2F696-F8FD-4318-A156-8CA3D00C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37BE7-052B-4115-B81B-9F4E18F3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C34-94E3-473C-B438-B48C871F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DB8-21D5-4ACD-A415-B6CA56B7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F2B-CAF2-4DC4-863D-0CDF6C08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23A-B6FF-4124-A545-6D913A83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2F1-F263-4E15-86F4-BF35BE3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7CB-386A-4ECC-845D-A3321429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F85-ADAC-4746-9F82-472DA32F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A8A8-D353-4B97-9BBA-941C25F101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359-AF33-4C29-B88B-BC32D99EC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ўтары праект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</a:t>
            </a:r>
            <a:r>
              <a:rPr b="0" lang="be-BY" sz="2800" spc="-1" strike="noStrike">
                <a:solidFill>
                  <a:srgbClr val="ffff66"/>
                </a:solidFill>
                <a:latin typeface="Arial"/>
              </a:rPr>
              <a:t>аладзько Алена Мікалаеў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Лазарэнка Наталія Васільеў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Шчасны Юры Аляксандраві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Планаванне і распрацоўка  методыкі правядзення даследавання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значэнне кірункаў эканоміі энергарэсурсаў у </a:t>
            </a: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быц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ар эфектыўных методык правядзення даследаванняў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рацоўка найбольш рацыянальных спосабаў апрацоўкі атрыманых вынікаў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ядзенне даследав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істэматызацыя атрыманай інфармацы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агульненне атрыманай інфармацыі і высно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4360" y="152712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a0600"/>
                </a:solidFill>
                <a:latin typeface="Arial"/>
              </a:rPr>
              <a:t>Планаван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Fixedsys"/>
              </a:rPr>
              <a:t>Планаванне і распрацоўка  методыкі правядзення даследавання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рацоўка табліцы для фіксацыі знойдзенай інфармацыі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шук неабходнай інфармацыі ў сродках масавай камунікацыі, спецыялізаваных часопісах, у інтэрнэц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будова параўнальных дыяграм, графіка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5480" y="1527120"/>
            <a:ext cx="75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3200" spc="-1" strike="noStrike">
                <a:solidFill>
                  <a:srgbClr val="fa0600"/>
                </a:solidFill>
                <a:latin typeface="Arial"/>
              </a:rPr>
              <a:t>Распрацоўка методыкі даследаван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Fixedsys"/>
              </a:rPr>
              <a:t>Планаванне і распрацоўка  методыкі правядзення даследавання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2485800"/>
            <a:ext cx="77040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казанні лічыльніка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шпартныя дадзеныя прыбора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ведкавыя дадзены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аван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лічальная тэхні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8720" y="152712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3200" spc="-1" strike="noStrike">
                <a:solidFill>
                  <a:srgbClr val="fa0600"/>
                </a:solidFill>
                <a:latin typeface="Arial"/>
              </a:rPr>
              <a:t>Сродк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Збор і сістэматызацыя атрыманай інфармацыі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абліцы  (Ехсе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ыягра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Графік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Аналіз и абагульненне атыманых дадзеных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236000" y="5157720"/>
            <a:ext cx="1301400" cy="1495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вярнуць увагу на: форму графікаў (вызначыць максімумы і мінімумы, калі яны ёсць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характарызаваць дыягра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ўнаць вынікі з гіпотэза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панаваць кірункі для далейшых даследа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Падрыхтоўка справаздач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ады навучэнцу перад публічным выступ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ласці кароткія тэзісы выступ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думаць спосабы данясення да аўдыторыі (прэзентацыя, відэа ….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есці трэнінгі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енератар новых паводзі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руг дасканаласці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cc"/>
                </a:solidFill>
                <a:latin typeface="Arial"/>
              </a:rPr>
              <a:t>Парады вучню па дакладзе, па адказах на пытанні апанентаў і членаў жур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ласці кароткі канспект выступ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гаварыць тэкст з улікам хронаметраж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лучыць фрагменты выступу, па якіх могуць паўстаць пытанн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казы на пытанні павінны быць пэўнымі, выразнымі, лаканічным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99"/>
                </a:solidFill>
                <a:latin typeface="Arial"/>
              </a:rPr>
              <a:t>Рэфлексі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і задаволены ты сваім выступа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і ёсць жаданне працягнуць прац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то б ты хацеў змяніць у выступе для яго паляпшэнн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зе ў далейшым ты зможаш скарыстаць набытыя ўменні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айчына! Ты зрабіў вялікі аб'ём працы і  набыў навыкі даследчай  дзейнасц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 rot="19657200">
            <a:off x="0" y="1197000"/>
            <a:ext cx="18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ытанні</a:t>
            </a:r>
            <a:endParaRPr b="0" lang="en-US" sz="1800" spc="1" strike="noStrike">
              <a:ln w="9360">
                <a:solidFill>
                  <a:srgbClr val="3399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 rot="19657200">
            <a:off x="0" y="4724280"/>
            <a:ext cx="167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кажу</a:t>
            </a:r>
            <a:endParaRPr b="0" lang="en-US" sz="1800" spc="1" strike="noStrike">
              <a:ln w="9360">
                <a:solidFill>
                  <a:srgbClr val="3399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Адукацыйная </a:t>
            </a:r>
            <a:r>
              <a:rPr b="0" lang="be-BY" sz="3600" spc="-1" strike="noStrike">
                <a:solidFill>
                  <a:srgbClr val="00ffcc"/>
                </a:solidFill>
                <a:latin typeface="Arial"/>
              </a:rPr>
              <a:t>галіна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32000" y="234936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ЭНЕРГЕТЫ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51640" y="5661000"/>
            <a:ext cx="676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Тып даследавання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4400" spc="-1" strike="noStrike">
                <a:solidFill>
                  <a:srgbClr val="ffff66"/>
                </a:solidFill>
                <a:latin typeface="Arial"/>
              </a:rPr>
              <a:t>Эмпірычна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ТЭМА </a:t>
            </a:r>
            <a:br>
              <a:rPr sz="3600"/>
            </a:b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вучнёўскага даследавання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Times New Roman"/>
              </a:rPr>
              <a:t>«Ці паспею я пакатацца на  «Кадылаку», купленым за кошт эканоміі энергарэсурсаў?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Праблемныя сітуацыі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ітуацыя -1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рапаноўваем задачу: Колькі прыйдзецца дадаткова выдаткаваць грошай, калі забыцца выключыць лямпачку на ноч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рганізуем дыскусію на тэму: «Як ты зэканоміш і навошта?» (Якую выгаду гэта можа даць? Што можна купіць а гэтыя грошы? Што бы вы хацелі мець? Памарым?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Выводзім  навучэнцаў на пытанне: «Колькі часу спатрэбіцца на пакупку «Кадылаку»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Сітуацыя - 2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- Міні-дэбаты на тэму: «Ці можна набыць «Кадылак» на зэканомленыя грошы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</a:rPr>
              <a:t>Мэта даследавання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Ацаніць памеры прыбытку пры максімальнай эканоміі энергарэсурсаў у пабытовых умов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ffcc"/>
                </a:solidFill>
                <a:uFillTx/>
                <a:latin typeface="Arial"/>
              </a:rPr>
              <a:t>Задачы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значыць кірункі эканоміі энергарэсурсаў у пабытовых умов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раць эфектыўныя методыкі правядзення даследа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рацаваць найбольш рацыянальныя спосабы апрацоўкі атрыманых выніка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істэматызаваць атрыманую інфармацы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дагульніць атрыманую інфармацыю і зрабіць высно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ffcc"/>
                </a:solidFill>
                <a:uFillTx/>
                <a:latin typeface="Arial"/>
              </a:rPr>
              <a:t>Гіпотэза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ff66"/>
                </a:solidFill>
                <a:latin typeface="Arial"/>
              </a:rPr>
              <a:t>Я набуду  «Кадылак», калі буду эканоміць энергарэсурсы на працягу  10 (дзесяці) гадоў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11:14:01Z</dcterms:created>
  <dc:creator>Ученик</dc:creator>
  <dc:description/>
  <dc:language>en-US</dc:language>
  <cp:lastModifiedBy>Lambada</cp:lastModifiedBy>
  <dcterms:modified xsi:type="dcterms:W3CDTF">2008-12-12T20:53:31Z</dcterms:modified>
  <cp:revision>21</cp:revision>
  <dc:subject/>
  <dc:title>Образовательная область</dc:title>
</cp:coreProperties>
</file>