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FA88-D4CB-4368-AC04-2A11A6075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AB34-0D05-47E0-A9E2-C5E6AE95C8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561-89EA-407F-A511-189CD489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504-9F54-4B30-A1DC-30C185B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0B1-E442-4E59-8313-5F18997E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CD6-C31C-4D09-8C8B-907CDEF6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FB8-3E43-4A6A-AD8D-72294773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526-5784-4B47-8E4F-0DC5C04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9AAE-09C6-4EB3-8E12-6D86AB4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134-8CD5-4E48-A61F-5A8AE7D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A439-930F-4D00-9786-39EA006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7624-D723-4364-8EE3-F00AA7B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0E8-979F-4BF0-A623-EAD60BC5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526-D437-4A2D-9AAA-73E87A2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60E7-1D68-436D-962F-79C4360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745C-4FC7-4AAA-82E2-1BE3BAB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5A1-1CFD-452F-BCAC-B9110CE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C7B7-379D-4008-9913-CCC26C76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FBBE-4C3E-46DD-9299-1EB8B86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F7C-F2FC-4130-9901-58BF00D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074-14A4-4677-8A98-A07C19F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ADD-AA03-417A-8FE9-3E9BDD7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B83-FBE0-4645-94BB-5CA6074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70F-82B5-445B-B6E1-0A65663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51A-0312-4A67-B043-A04695E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3DD-86C6-4779-8009-77A1C5C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719-C767-4F57-BE60-EA8D8F6B930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350E-7399-4FA6-BB1E-B116486CFB9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928080" y="6093000"/>
            <a:ext cx="77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Распрацавала група навічкоў метадычнага летніка Альхоўка-2008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4" descr="P1010359.JPG"/>
          <p:cNvPicPr/>
          <p:nvPr/>
        </p:nvPicPr>
        <p:blipFill>
          <a:blip r:embed="rId1"/>
          <a:stretch/>
        </p:blipFill>
        <p:spPr>
          <a:xfrm>
            <a:off x="1785960" y="2286000"/>
            <a:ext cx="4786200" cy="3589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0320" y="0"/>
            <a:ext cx="888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2060"/>
                </a:solidFill>
                <a:latin typeface="Comic Sans MS"/>
              </a:rPr>
              <a:t>Праект методыкі кіраванн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2060"/>
                </a:solidFill>
                <a:latin typeface="Comic Sans MS"/>
              </a:rPr>
              <a:t>эксперымертальны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be-BY" sz="4000" spc="-1" strike="noStrike">
                <a:solidFill>
                  <a:srgbClr val="002060"/>
                </a:solidFill>
                <a:latin typeface="Comic Sans MS"/>
              </a:rPr>
              <a:t>даследваннем вучняў па фізіц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IMG_1058.JPG"/>
          <p:cNvPicPr/>
          <p:nvPr/>
        </p:nvPicPr>
        <p:blipFill>
          <a:blip r:embed="rId1"/>
          <a:stretch/>
        </p:blipFill>
        <p:spPr>
          <a:xfrm>
            <a:off x="2643120" y="1571760"/>
            <a:ext cx="3571920" cy="47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79280" y="189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у </a:t>
            </a:r>
            <a:r>
              <a:rPr b="1" lang="en-US" sz="4000" spc="-1" strike="noStrike">
                <a:solidFill>
                  <a:srgbClr val="002060"/>
                </a:solidFill>
                <a:latin typeface="Comic Sans MS"/>
              </a:rPr>
              <a:t>CD-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блакадз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IMG_1063.JPG"/>
          <p:cNvPicPr/>
          <p:nvPr/>
        </p:nvPicPr>
        <p:blipFill>
          <a:blip r:embed="rId1"/>
          <a:stretch/>
        </p:blipFill>
        <p:spPr>
          <a:xfrm>
            <a:off x="2714760" y="1643040"/>
            <a:ext cx="375120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79280" y="189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</a:t>
            </a:r>
            <a:r>
              <a:rPr b="1" lang="be-BY" sz="4000" spc="-1" strike="noStrike">
                <a:solidFill>
                  <a:srgbClr val="002060"/>
                </a:solidFill>
                <a:latin typeface="Comic Sans MS"/>
              </a:rPr>
              <a:t>праз гум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IMG_1062.JPG"/>
          <p:cNvPicPr/>
          <p:nvPr/>
        </p:nvPicPr>
        <p:blipFill>
          <a:blip r:embed="rId1"/>
          <a:stretch/>
        </p:blipFill>
        <p:spPr>
          <a:xfrm>
            <a:off x="2843280" y="2060640"/>
            <a:ext cx="3465360" cy="46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у беспаветранай прасто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85840" y="2428920"/>
          <a:ext cx="8572320" cy="3556080"/>
        </p:xfrm>
        <a:graphic>
          <a:graphicData uri="http://schemas.openxmlformats.org/drawingml/2006/table">
            <a:tbl>
              <a:tblPr/>
              <a:tblGrid>
                <a:gridCol w="395280"/>
                <a:gridCol w="3510000"/>
                <a:gridCol w="2536560"/>
                <a:gridCol w="2130480"/>
              </a:tblGrid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в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апар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яроддз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яўнасць прыё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лёвая сфер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чная в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еб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г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біня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.1 м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умовая ізаляцы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мпакт-дыск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/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б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ны тэлефон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kia 3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Вобласць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паніжанага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атмасфернага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ціску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(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вышыня 3000м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над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узроўнем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ixedsys"/>
                          <a:ea typeface="Calibri"/>
                        </a:rPr>
                        <a:t>мора</a:t>
                      </a:r>
                      <a:r>
                        <a:rPr b="1" lang="ru-RU" sz="1100" spc="-1" strike="noStrike">
                          <a:solidFill>
                            <a:srgbClr val="808080"/>
                          </a:solidFill>
                          <a:latin typeface="Fixedsys"/>
                          <a:ea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перымент не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трымаў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2"/>
          <p:cNvSpPr/>
          <p:nvPr/>
        </p:nvSpPr>
        <p:spPr>
          <a:xfrm>
            <a:off x="1428840" y="5716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Табліца выніка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із і абагульненне навуковых дадзеных, праверка гіпотэз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іпотэза падцвердж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рмулёўка высноваў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дрыхтоўка справаздачы і прэзентацы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начэнне праблемнага поля для далейшых даследаванняў: 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Чым тлумачыцца ўплыў розных асяроддзяў на распаўсюджванне мікрахваляў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600" y="33336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Заключны эта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варэнне матывацыі ў навучэнца/навучэнцаў да даследчай  дзейнасц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значэнне сферы іх інтарэсаў у галіне фізік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эктаванне тэмы ў адпаведнасці з наяўнай навукова-тэхнічнай базай, а таксама з педагагічнай ацэнкай патэнцыялу і даследчых здольнасцяў вуч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476280"/>
            <a:ext cx="367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Выбар тэ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3714840" y="3571920"/>
            <a:ext cx="1071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ТЭ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Стрелка вправо 8"/>
          <p:cNvSpPr/>
          <p:nvPr/>
        </p:nvSpPr>
        <p:spPr>
          <a:xfrm>
            <a:off x="2428920" y="3286080"/>
            <a:ext cx="977760" cy="9129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Стрелка вниз 10"/>
          <p:cNvSpPr/>
          <p:nvPr/>
        </p:nvSpPr>
        <p:spPr>
          <a:xfrm>
            <a:off x="3714840" y="1928880"/>
            <a:ext cx="1071360" cy="12859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трелка вправо 12"/>
          <p:cNvSpPr/>
          <p:nvPr/>
        </p:nvSpPr>
        <p:spPr>
          <a:xfrm rot="10800000">
            <a:off x="5000400" y="3286080"/>
            <a:ext cx="114300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13"/>
          <p:cNvSpPr/>
          <p:nvPr/>
        </p:nvSpPr>
        <p:spPr>
          <a:xfrm rot="10800000">
            <a:off x="3785760" y="4285800"/>
            <a:ext cx="1071720" cy="1143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005280" y="1428840"/>
            <a:ext cx="2937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шук тэмы ў літа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221880" y="3429000"/>
            <a:ext cx="2373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ар тэмы 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панаванага спіс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21440" y="3429000"/>
            <a:ext cx="1206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ласны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іранн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2847240" y="5589720"/>
            <a:ext cx="3301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варэнне праблемнай сітуацы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-137520" y="214200"/>
            <a:ext cx="88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Спос</a:t>
            </a:r>
            <a:r>
              <a:rPr b="1" lang="be-BY" sz="4400" spc="-1" strike="noStrike">
                <a:solidFill>
                  <a:srgbClr val="002060"/>
                </a:solidFill>
                <a:latin typeface="Comic Sans MS"/>
              </a:rPr>
              <a:t>абы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 вызначэння тэмы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3" descr="IMG_1046.JPG"/>
          <p:cNvPicPr/>
          <p:nvPr/>
        </p:nvPicPr>
        <p:blipFill>
          <a:blip r:embed="rId1"/>
          <a:stretch/>
        </p:blipFill>
        <p:spPr>
          <a:xfrm>
            <a:off x="2556000" y="1844640"/>
            <a:ext cx="3450960" cy="46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917640" y="404640"/>
            <a:ext cx="693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Праблемная сітуацыя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ФІЗ-МАБІЛЬНАЯ ПАЎ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Fixedsys"/>
              </a:rPr>
              <a:t>Мэта: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 вывучыць уплыў знешніх фактараў на прыём сігналу мабільнымі тэлефонамі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Fixedsys"/>
              </a:rPr>
              <a:t>Задачы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1. Правесці агляд навуковых публікацый на дадзеную тэму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2. Вывучыць тэхнічную дакументацыю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3. Распрацаваць методыку даследаванн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4. Сістэматызаваць і абагульніць атрыманыя дадзены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5. Азначыць праблемнае поле для наступных даследаванняў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0" y="189000"/>
            <a:ext cx="746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Пастаноўка мэты і зада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даследаванн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ыкла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здольнасць мабільнага  тэлефона прымаць сігнал не аднолькавая ў розных асяроддз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Стрелка вправо 6"/>
          <p:cNvSpPr/>
          <p:nvPr/>
        </p:nvSpPr>
        <p:spPr>
          <a:xfrm>
            <a:off x="4286160" y="357192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31320" y="3500280"/>
            <a:ext cx="325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із крыніца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ядзенне эксперыменту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ацоўка табліц дадзе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із выніка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Стрелка вправо 8"/>
          <p:cNvSpPr/>
          <p:nvPr/>
        </p:nvSpPr>
        <p:spPr>
          <a:xfrm>
            <a:off x="4286160" y="4143240"/>
            <a:ext cx="1071720" cy="2145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Стрелка вправо 9"/>
          <p:cNvSpPr/>
          <p:nvPr/>
        </p:nvSpPr>
        <p:spPr>
          <a:xfrm>
            <a:off x="4286160" y="471492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Стрелка вправо 10"/>
          <p:cNvSpPr/>
          <p:nvPr/>
        </p:nvSpPr>
        <p:spPr>
          <a:xfrm>
            <a:off x="4286160" y="521496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9880" y="189000"/>
            <a:ext cx="26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Гіпотэ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645000"/>
            <a:ext cx="3743280" cy="17780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37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Метадалогія даследаванн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IMG_1044.JPG"/>
          <p:cNvPicPr/>
          <p:nvPr/>
        </p:nvPicPr>
        <p:blipFill>
          <a:blip r:embed="rId1"/>
          <a:stretch/>
        </p:blipFill>
        <p:spPr>
          <a:xfrm>
            <a:off x="571680" y="2571840"/>
            <a:ext cx="4714560" cy="35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Рисунок 4" descr="IMG_1051.JPG"/>
          <p:cNvPicPr/>
          <p:nvPr/>
        </p:nvPicPr>
        <p:blipFill>
          <a:blip r:embed="rId2"/>
          <a:stretch/>
        </p:blipFill>
        <p:spPr>
          <a:xfrm>
            <a:off x="5429160" y="1714680"/>
            <a:ext cx="328608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у вадз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IMG_1046.JPG"/>
          <p:cNvPicPr/>
          <p:nvPr/>
        </p:nvPicPr>
        <p:blipFill>
          <a:blip r:embed="rId1"/>
          <a:stretch/>
        </p:blipFill>
        <p:spPr>
          <a:xfrm>
            <a:off x="500040" y="1643040"/>
            <a:ext cx="3451320" cy="46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Рисунок 4" descr="IMG_1047.JPG"/>
          <p:cNvPicPr/>
          <p:nvPr/>
        </p:nvPicPr>
        <p:blipFill>
          <a:blip r:embed="rId2"/>
          <a:stretch/>
        </p:blipFill>
        <p:spPr>
          <a:xfrm>
            <a:off x="4286160" y="3071880"/>
            <a:ext cx="4172040" cy="31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79280" y="18900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у металічнай сфе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IMG_1053.JPG"/>
          <p:cNvPicPr/>
          <p:nvPr/>
        </p:nvPicPr>
        <p:blipFill>
          <a:blip r:embed="rId1"/>
          <a:stretch/>
        </p:blipFill>
        <p:spPr>
          <a:xfrm>
            <a:off x="714240" y="1714680"/>
            <a:ext cx="3411720" cy="45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Рисунок 4" descr="IMG_1056.JPG"/>
          <p:cNvPicPr/>
          <p:nvPr/>
        </p:nvPicPr>
        <p:blipFill>
          <a:blip r:embed="rId2"/>
          <a:stretch/>
        </p:blipFill>
        <p:spPr>
          <a:xfrm>
            <a:off x="5214960" y="1714680"/>
            <a:ext cx="337500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79280" y="189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ызначэнне распаўсюджвання мікрахваляў у пад зямлё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20:37Z</dcterms:created>
  <dc:creator>YAR</dc:creator>
  <dc:description/>
  <dc:language>en-US</dc:language>
  <cp:lastModifiedBy>Lambada</cp:lastModifiedBy>
  <dcterms:modified xsi:type="dcterms:W3CDTF">2008-12-12T20:47:10Z</dcterms:modified>
  <cp:revision>41</cp:revision>
  <dc:subject/>
  <dc:title>Проект методики управления учебным исследованием учащихся</dc:title>
</cp:coreProperties>
</file>