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CFB-5D92-420F-8550-46D533C1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984-109A-419E-9188-2E1377FF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000-F65B-4F81-8DF9-50C4C4E4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8ED-1D2B-4103-86F9-8E9A9BB3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5EF-643D-4E8C-8213-E2EF4142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869-BBD9-4F93-B0A0-9674744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AEE7-FB1C-436B-89B8-85C42070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4111-39C2-4EB1-B66E-A39380B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2717-67FF-4448-AE19-BA6EF9A8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AE7A-70D0-418A-BBC4-2324AFCA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5000-668F-4173-8B55-77066FD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021-DB8D-47C4-ACDB-203B6A2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0C7E-D14F-4082-96F0-7CCC810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CDC-7F92-48C1-B392-3B855B1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871-894D-413F-83B9-023E092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F225-3E4E-4DED-8860-A419D81D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0943-E51B-4E42-AFCC-CB99492B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085-29E9-4C7E-896E-3210F305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BDE-2223-4C7D-8714-0127934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72F-AB4B-413E-96DE-A91BE022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0D7-C8FA-41F1-8BAE-1F0D9188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E00-9648-40EF-B3FE-3E03BAD4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F72-EEED-4206-910A-9AAB4C0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CE3-28F6-48DF-804A-A3EE26E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413B-C88A-411D-8AD2-37E62125D1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BD9-6F2C-4C4F-B5B8-59A1ED0A13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Arial"/>
              </a:rPr>
              <a:t>Т</a:t>
            </a:r>
            <a:r>
              <a:rPr b="1" i="1" lang="be-BY" sz="3600" spc="-1" strike="noStrike">
                <a:solidFill>
                  <a:srgbClr val="eaeaea"/>
                </a:solidFill>
                <a:latin typeface="Arial"/>
              </a:rPr>
              <a:t>Э</a:t>
            </a:r>
            <a:r>
              <a:rPr b="1" i="1" lang="ru-RU" sz="3600" spc="-1" strike="noStrike">
                <a:solidFill>
                  <a:srgbClr val="eaeaea"/>
                </a:solidFill>
                <a:latin typeface="Arial"/>
              </a:rPr>
              <a:t>МА ДАСЛЕДАВАНН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злік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эсурсазберажэ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ы рацыянальным выкарыстанні в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АНАЛІЗ І АБАГУЛЬНЕННЕ ДАДЗЕНЫХ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ixedsys"/>
              </a:rPr>
              <a:t>Поўнасць сабранай інфармацы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ixedsys"/>
              </a:rPr>
              <a:t>Дакладнасць вымярэнняў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ixedsys"/>
              </a:rPr>
              <a:t>Слушнасць разлікаў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ixedsys"/>
              </a:rPr>
              <a:t>Практычная значнасц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ПАДРЫХТОЎКА СПРАВАЗДАЧ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Складзі план высту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Напішы ўсё, што хочаш сказаць і вылучы асноўна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Падумай, якія матэрыялы можна ўключыць у прэзентацы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Правядзі хронаметраж высту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Выкрэслі залішня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Прарэпетуй свой дакл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ПАРАДЫ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Добра выспац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Быць карэкт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Уважліва слухаць папярэдніх дакладчыка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Адказваць толькі па зместу зададзеных пытання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РЭФЛЕКСІ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АЙЧЫН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Што думаеш аб сваім выступ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Моцныя бакі высту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Што можна змяніц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Ці жадаеш працягнуць даследчую прац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НАД ПРАЕКТАМ ПРАЦАВАЛІ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Іда Аляксандраўна Сітнікав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. Віцебс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іна Уладзіміраўна Дашчонак, г.п. Расо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лена Леанідаўна Сарок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. Слоні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зяку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 ўвагу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і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упрацоўніцтв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086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ПРАБЛЕМНАЯ СІТУАЦЫ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2060280"/>
            <a:ext cx="77533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Фатаграфіі аквапар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Пашпарт аквапар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Артыкулы аб запасах прэснай вады і аб'ёмах яе спажыва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Квітанцыі аб аплаце    камунальных па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МЭТА ДАСЛЕДАВАНН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трыманне ведаў аб спосабах эканоміі вады ў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побы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ЗАДАЧЫ ДАСЛЕДАВАНН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ічыць хуткасць </a:t>
            </a:r>
            <a:r>
              <a:rPr b="1" lang="be-BY" sz="3200" spc="-1" strike="noStrike">
                <a:solidFill>
                  <a:srgbClr val="ffffff"/>
                </a:solidFill>
                <a:latin typeface="Tahoma"/>
              </a:rPr>
              <a:t>расходу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значыць найбольш рацыянальныя спосабы выкарыстання в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ічыць эканомію рэсурса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спрацаваць рэкамендацыі па рацыянальным выкарыстанні в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Arial"/>
              </a:rPr>
              <a:t>Г</a:t>
            </a:r>
            <a:r>
              <a:rPr b="1" i="1" lang="be-BY" sz="3600" spc="-1" strike="noStrike">
                <a:solidFill>
                  <a:srgbClr val="eaeaea"/>
                </a:solidFill>
                <a:latin typeface="Arial"/>
              </a:rPr>
              <a:t>І</a:t>
            </a:r>
            <a:r>
              <a:rPr b="1" i="1" lang="ru-RU" sz="3600" spc="-1" strike="noStrike">
                <a:solidFill>
                  <a:srgbClr val="eaeaea"/>
                </a:solidFill>
                <a:latin typeface="Arial"/>
              </a:rPr>
              <a:t>ПОТЭЗ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Fixedsys"/>
              </a:rPr>
              <a:t>Калі ўсе члены сям'і будуць эканомна расходваць ваду, прытрымліваючыся нашых парадаў, тады раз на паўгады мы будзем усёй сям'ёй дадаткова хадзіць у аквапарк на зэканомленыя грош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ПЛАНАВАННЕ І РАСПРАЦОЎКА МЕТОДЫКІ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ixedsys"/>
              </a:rPr>
              <a:t>Вылучэнне працэсаў, якія будзем даследавац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ixedsys"/>
              </a:rPr>
              <a:t>Распрацоўка табліц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ixedsys"/>
              </a:rPr>
              <a:t>Правядзенне вымярэнняў і разлікаў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ixedsys"/>
              </a:rPr>
              <a:t>Аналіз атрыманых дадзеных, выснов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ixedsys"/>
              </a:rPr>
              <a:t>Распрацоўка рэкамендацый (памятак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ixedsys"/>
              </a:rPr>
              <a:t>Падрыхтоўка справаздач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ЗБОР  І СІСТЭМАТЫЗАЦЫЯ ДАДЗЕНЫХ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Разлік хуткасці расходу в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Падрыхтоўка дадзеных і запаўненне таблі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Эканомія вады і грош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ixedsys"/>
              </a:rPr>
              <a:t>Калі ж ў аквапар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ЗБОР  І СІСТЭМАТЫЗАЦЫЯ ДАДЗЕНЫХ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1989000"/>
          <a:ext cx="8064360" cy="3851280"/>
        </p:xfrm>
        <a:graphic>
          <a:graphicData uri="http://schemas.openxmlformats.org/drawingml/2006/table">
            <a:tbl>
              <a:tblPr/>
              <a:tblGrid>
                <a:gridCol w="792000"/>
                <a:gridCol w="855720"/>
                <a:gridCol w="1089000"/>
                <a:gridCol w="1150920"/>
                <a:gridCol w="1008000"/>
                <a:gridCol w="1081080"/>
                <a:gridCol w="936720"/>
                <a:gridCol w="1150920"/>
              </a:tblGrid>
              <a:tr h="6390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уш (ванн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мыван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у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зін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тыдз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зін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тыдз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зін 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 тыдз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точна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б’ё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яча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б’ё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"/>
              </a:rPr>
              <a:t>ЗБОР  І СІСТЭМАТЫЗАЦЫЯ ДАДЗЕНЫХ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989000"/>
          <a:ext cx="8064360" cy="3816360"/>
        </p:xfrm>
        <a:graphic>
          <a:graphicData uri="http://schemas.openxmlformats.org/drawingml/2006/table">
            <a:tbl>
              <a:tblPr/>
              <a:tblGrid>
                <a:gridCol w="1368360"/>
                <a:gridCol w="1008000"/>
                <a:gridCol w="1079640"/>
                <a:gridCol w="1152360"/>
                <a:gridCol w="1224000"/>
                <a:gridCol w="863640"/>
                <a:gridCol w="1368360"/>
              </a:tblGrid>
              <a:tr h="78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б’ё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рыф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ш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рача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дагрэў ва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дагрэў ва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точна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ячая ва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ЬХОЎКА-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0:36:27Z</dcterms:created>
  <dc:creator>Ученик</dc:creator>
  <dc:description/>
  <dc:language>en-US</dc:language>
  <cp:lastModifiedBy>Lambada</cp:lastModifiedBy>
  <dcterms:modified xsi:type="dcterms:W3CDTF">2008-12-12T20:49:38Z</dcterms:modified>
  <cp:revision>27</cp:revision>
  <dc:subject/>
  <dc:title>ТЕМА ИССЛЕДОВАНИЯ</dc:title>
</cp:coreProperties>
</file>