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C6C-876B-44E5-88C2-5468ABC6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27F-7A74-4339-A017-6069864B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A37-1E46-4C31-BA0E-F9C6B0C2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FC9-A803-4662-AC74-98017ED0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024E-D34D-4E5F-BC39-87F78672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2CD3-27D6-473E-97E4-0EA536DB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FE07-F08D-4BEB-95A1-35FD9E72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904F-A424-4043-97DC-BEDCAF7B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FD0B-B793-45EA-ADB5-ED04D342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C358-078F-412C-8901-B8ABC935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E123-C31E-47A3-901F-44FEE3C0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45E-1E83-49F5-A409-A6DB0A96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6CC5-419A-4AE0-BBA0-BD3546E9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FD85-03AF-4F38-9FF7-AB94686D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0EA9-F5DD-4F2C-BE8B-762F7394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4A8A-B99C-44A0-908C-5DCF0798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2C47-4135-41FE-8A57-582750C2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A71-C4F5-4189-A118-78B313E4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323-CAA1-4AB4-A9B2-3D8BB35E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B3F-B6F1-4C46-823C-751E3197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765-BB5D-4E27-8635-F2D32A85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9B2-1436-4A62-AFA9-6817316F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5F9-D9D0-462D-B697-78AD11F9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A77-7878-4390-BB6B-BB8A4DF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E65E-1405-42E2-88ED-4381950195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D14A-DEB4-43D8-9B52-674FC8AF7E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e-BY" sz="5400" spc="-1" strike="noStrike">
                <a:solidFill>
                  <a:srgbClr val="ffffcc"/>
                </a:solidFill>
                <a:latin typeface="Tahoma"/>
              </a:rPr>
              <a:t>э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ма даследавання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14400" y="2362320"/>
            <a:ext cx="731520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алоўныя энергафагі ў дом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324480" y="4267080"/>
            <a:ext cx="2319480" cy="2260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66680" y="1371600"/>
            <a:ext cx="1841760" cy="1654200"/>
          </a:xfrm>
          <a:prstGeom prst="rect">
            <a:avLst/>
          </a:prstGeom>
          <a:ln w="0">
            <a:noFill/>
          </a:ln>
        </p:spPr>
      </p:pic>
      <p:sp>
        <p:nvSpPr>
          <p:cNvPr id="92" name="Litebulb"/>
          <p:cNvSpPr/>
          <p:nvPr/>
        </p:nvSpPr>
        <p:spPr>
          <a:xfrm>
            <a:off x="7924680" y="380880"/>
            <a:ext cx="866880" cy="1676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438280" y="4724280"/>
            <a:ext cx="179568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арады па падрыхтоўцы дакл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41560" y="990720"/>
            <a:ext cx="9169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Падрыхтаваць план выступ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рыдумаць «фішк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аверыць часавы хронаметр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Прадумаць магчымыя пытанні і варыянты адказаў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казваць на пытанні толькі па змес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радумаць, як адказаць на пытанне, адказ на як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 не ведае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Паспытаць пра псіхалагічныя прыёмы вядзення дыскусі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. Зрабіць рэпетыцыю выступ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эфлексі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10040" y="1676520"/>
            <a:ext cx="797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Што найлепш атрымалася падчас выступ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Што было зроблена нерацыяналь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Чаго вы чакалі ад канферэнцыі і што атрымала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Што і як можна змяніць у вашай працы, ка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ступны выступ быў больш паспяховы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д праектам працавалі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-2286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2. Эла Якубоўская,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Жодзінская СШ №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1. Людміла Марціна,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г. Минск, СШ№1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495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3. Аляксандр Якубоўскі,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Жодзінская СШ №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040640" y="609480"/>
            <a:ext cx="11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э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79640" y="2695680"/>
            <a:ext cx="15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7680" y="144792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ixedsys"/>
              </a:rPr>
              <a:t>Вызначыць, якія хатнія электрапрыбо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ixedsys"/>
              </a:rPr>
              <a:t>спажываюць найбольшую колькасць энергі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3160" y="34988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Вызначыць асноўныя электрапрыборы ў до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Высветліць тэхнічныя характарыстыкі 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шпартоў прыбора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Вызначыць часовыя прамежкі працы прыбора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Вылічыць і параўнаць спажыванне электраэнергіі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казаць у грашовым эквівален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іпотэз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64080" y="1328760"/>
            <a:ext cx="52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ноўнымі спажыўцам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ктраэнергіі ў хаце з'яўляюцц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10040" y="2919240"/>
            <a:ext cx="303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амп’ютэ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Тэлевіз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Халадзільні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Электрачайні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лан правядзення даследавання  і распрацоўка методыкі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43880" y="1862280"/>
            <a:ext cx="82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Даследаванне кватэры і вызначэнне ўсіх прыбораў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кія спажываюць электраэнергі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4320" y="3276720"/>
            <a:ext cx="60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Распрацоўка табліцы для фікса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ойдзенай інфармацы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000" y="4572000"/>
            <a:ext cx="484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Збор пашпартных дадзе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</a:t>
            </a:r>
            <a:r>
              <a:rPr b="0" lang="be-BY" sz="2400" spc="-1" strike="noStrike">
                <a:solidFill>
                  <a:srgbClr val="ffffff"/>
                </a:solidFill>
                <a:latin typeface="Tahoma"/>
              </a:rPr>
              <a:t>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мінальныя магутнасц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лан пр</a:t>
            </a:r>
            <a:r>
              <a:rPr b="0" lang="be-BY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еядзення даследавання і распрацоўка методыкі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86200" y="1646280"/>
            <a:ext cx="54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Вызначэнне часавых інтэрвалаў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ы электрапрыбораў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51460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Назіранне за рэжымам працы прыбораў 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значэнне параметраў вымярэння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Распрацоўка табліцы для фіксацыі вынікаў вымярэння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 Размеркаванне абавязкаў па фіксацыі рэжымаў пра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 Правядзенне вымярэнняў. Запаўненне табліцы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) Праверка эфектыўнасці вылучанай методыкі правядзення эксперымен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80" y="4535640"/>
            <a:ext cx="56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Вылічэнні і запаўненне табліцы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8600" y="5119560"/>
            <a:ext cx="72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Аналіз атрыманай інфармацыі і фармулёў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новаў. Праверка слушнасці гіпотэ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4560" y="590724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. Падрыхтоўка справаздач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абліца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3476520"/>
        </p:xfrm>
        <a:graphic>
          <a:graphicData uri="http://schemas.openxmlformats.org/drawingml/2006/table">
            <a:tbl>
              <a:tblPr/>
              <a:tblGrid>
                <a:gridCol w="1143000"/>
                <a:gridCol w="1828800"/>
                <a:gridCol w="1600200"/>
                <a:gridCol w="1752480"/>
                <a:gridCol w="190512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ыб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мінальная магутнас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ас прац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за тыдз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гульнае спажыване энергі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шт спажытай энергіі за меся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абліца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240" cy="4495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22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к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ыб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умар уключэн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ас  рабо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вярнуць увагу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52960" y="2286000"/>
            <a:ext cx="720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Хібнасць эксперымен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Ці ўплывае колькасць вымярэнняў на  вын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Якія знешнія фактары могуць уплываць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нік эксперымен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Практычная значнасц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камендацыі для падрыхтоўкі справаздач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601920" y="1633680"/>
            <a:ext cx="7959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Адбор матэрыялу для стварэння электронна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эзентацы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радстаўленне вынікаў у выглядзе гістагр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Адпаведнасць патрабаванням, прад'яўленым  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следчых раб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Рэкамендацыі па рэжыме выкарыстанн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ктрапрыбораў з мэтай эканоміі электраэнергі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mbada</cp:lastModifiedBy>
  <dcterms:modified xsi:type="dcterms:W3CDTF">2008-12-12T20:28:3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