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0B6-30F4-4E03-91BA-51AD3CAD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7C2-AAD9-4193-953B-AED82C20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975-DA5A-481B-B7A4-648B8C6B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5F3-5D6F-40DE-8266-E265BC65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68469-A652-40CC-8EE4-D381D58D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7540F-AAFF-4E17-BD38-674220CA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0CA86-C828-472E-8F89-DBC933EF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B1DF5-3B64-4AA8-88C9-45CA08D6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68103-BC96-4AB3-8090-D97FFA4F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EB0BA-5F09-42AA-AC93-9093AFC3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1F949-46C4-4CFE-A8D0-4C46EEFF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E10-99AC-4878-91CA-5246BB08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88E2E-562A-4C88-83FF-D2FCEB5F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C58F5-3F79-46F3-8566-3C4335AB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B96E1-0C98-4106-BB51-ACBA81D4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7837C-36BD-4F02-852B-27DD6E72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23FEB-6212-44FF-8C65-FBB3E9B1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16D-E207-4926-A232-7AE70F3B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EA5-8CBB-4E17-8B99-65A898A9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B45-EC43-4F92-8CAD-CEA7CE5D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58D-B8EB-4ADE-A03B-38684E5B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DFB-8890-45C1-9E24-7DD22BCF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482-A3D5-48A4-88FD-0DBD86E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2F1-4AF4-4431-B420-310399FD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2E20-0E77-4D6A-BD6C-BFE00D228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B73F-7AF5-40C9-BE66-E2E37C5C6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580500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000" spc="-1" strike="noStrike">
                <a:solidFill>
                  <a:srgbClr val="ffffff"/>
                </a:solidFill>
                <a:latin typeface="Tahoma"/>
              </a:rPr>
              <a:t>Альхоўка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-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1280" y="1052280"/>
            <a:ext cx="813744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ixedsys"/>
              </a:rPr>
              <a:t>Педагагічныя асновы і арганізацы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ixedsys"/>
              </a:rPr>
              <a:t>даследчай дзейнасці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ixedsys"/>
              </a:rPr>
              <a:t>навучэнцаў па праблем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ixedsys"/>
              </a:rPr>
              <a:t>энергазберажэн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ады і сродкі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ядзення даследаванн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2060640"/>
            <a:ext cx="82296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сперыментальная ўстаноўка для выначэння радыяцыйнага фону навакольнага паветр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Tahoma"/>
              </a:rPr>
              <a:t>Абсталяванн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ыніца сілкавання, секундамер, лічыльнік  Гейгера-Мюлера, пылас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70502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ліца для запісу дадзеных даследаван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95280" y="907920"/>
          <a:ext cx="7921800" cy="3171960"/>
        </p:xfrm>
        <a:graphic>
          <a:graphicData uri="http://schemas.openxmlformats.org/drawingml/2006/table">
            <a:tbl>
              <a:tblPr/>
              <a:tblGrid>
                <a:gridCol w="1533600"/>
                <a:gridCol w="447480"/>
                <a:gridCol w="989280"/>
                <a:gridCol w="990360"/>
                <a:gridCol w="990720"/>
                <a:gridCol w="988920"/>
                <a:gridCol w="992160"/>
                <a:gridCol w="989280"/>
              </a:tblGrid>
              <a:tr h="916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Fixedsys"/>
                        </a:rPr>
                        <a:t>Участак дарогі з ляжачым паліцыянта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Fixedsys"/>
                        </a:rPr>
                        <a:t>Участак дарогі з абмежаваннем хуткас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і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39920" y="4861080"/>
            <a:ext cx="4457880" cy="1866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4365720"/>
            <a:ext cx="82296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ixedsys"/>
              </a:rPr>
              <a:t>Схема размяшчэння пунктаў вымярэння на дароз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ixedsys"/>
              </a:rPr>
              <a:t>Аналіз і абагульненне атрыманых дадзеных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2846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0000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ixedsy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Fixedsys"/>
              </a:rPr>
              <a:t>1. Звярнуць увагу на паслядоўнасць,   атрыманых заканамернасцяў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Fixedsys"/>
              </a:rPr>
              <a:t>2. Для аб'ектыўнасці высноваў узбуйніць або ўдакладніць вынікі даследаванняў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Fixedsys"/>
              </a:rPr>
              <a:t>3. Ці адпавядаюць атрыманыя высновы сфармуляванай гіпотэзе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Fixedsys"/>
              </a:rPr>
              <a:t>4. Ці могуць атрыманыя высновы быць тэмай новай даследчай прац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ixedsys"/>
              </a:rPr>
              <a:t>Рэкамендацыі па падрыхтоўцы справаздачы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рабіць камп’ютэрную прэзентацыю вашага дакла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дугледзець запасны варыянт (не камп’ютэрны) прадстаўлення дакла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драбіць адпаведны імід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арады па выступленні на канферэнцы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карыстаць камп’ютэрную прэзентацыю даклад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зна рэгламентаваць час выступ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ажліва слухаць пытанні апанентаў і журы, даваць аргументаваныя адказ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есці рэпетыцыю выступ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060640"/>
            <a:ext cx="82296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флекс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алежна ад занятага месца на канферэнцыі пахваліць вуч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ам вызначыць шляхі пазбягання тых праблем якія ўзніклі падчас канферэнцы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панаваць  дапрацаваць і ўдакладніць дакл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эма работы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587664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Аўтары: Іван Кульбеда, Міхаіл Макаед, Сяргей Федарын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Даследаванне цёмных бакоў дзейнасці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ляжачага паліцыянт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be-BY" sz="4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кацыйная галі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Экалогія і энергазберажэнн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ып даследаванн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эмпірыч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блемная  сітуацы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628640"/>
            <a:ext cx="80848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ixedsys"/>
              </a:rPr>
              <a:t>Як вядома, «ляжачы паліцыянт» прызначаны для бяспекі пешаходаў. Таму найчасцей  яны знаходзяцца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Fixedsys"/>
              </a:rPr>
              <a:t>*  каля школ і грамадскіх месцаў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Fixedsys"/>
              </a:rPr>
              <a:t>*  каля небяспечных шматлюдных скрыжаванняў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Fixedsys"/>
              </a:rPr>
              <a:t>Аднак з пазітыўным уздзеяннем «ляжачы паліцыянт» можа аказваць негатыўнае ўздзеянне на пешаходаў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эта даследавагнн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Ацаніць ступень негатыўнага ўздзеяння «ляжачага паліцыянта» на навакольнае асяроддз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ч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773360"/>
            <a:ext cx="87138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Fixedsys"/>
              </a:rPr>
              <a:t>атрымаць эксперыментальныя дадзеныя пра стан экалогіі ў месцах размяшчэння «ляжачага паліцыянта»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Fixedsys"/>
              </a:rPr>
              <a:t>апрацаваць статыстычныя дадзеныя, атрыманыя на аснове апытання ўдзельнікаў руху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Fixedsys"/>
              </a:rPr>
              <a:t>сістэматызаваць атрыманую інфармацыю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Fixedsys"/>
              </a:rPr>
              <a:t>падагульніць атрыманую інфармацыю і зрабіць высновы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іпотэза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2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жна выказаць здагадку, што «ляжачы паліцыянт» аказвае ў большай ступені негатыўны ўплыў, чым пазітыў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ланаванне вядзення даследав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ixedsys"/>
              </a:rPr>
              <a:t>Вызначэнне радыяцыйнага фону навакольнага асяроддзя вакол «ляжачага паліцыянта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Fixedsys"/>
              </a:rPr>
              <a:t>Азначэнне загазаванасці паветра ў раёне «ляжачага паліцыянта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Fixedsys"/>
              </a:rPr>
              <a:t>Апытанне ўдзельнікаў руху і працаўнікоў станцыі тэхнічнага абслугоўванн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8:32:15Z</dcterms:created>
  <dc:creator>школа</dc:creator>
  <dc:description/>
  <dc:language>en-US</dc:language>
  <cp:lastModifiedBy>edu</cp:lastModifiedBy>
  <dcterms:modified xsi:type="dcterms:W3CDTF">2008-12-01T19:56:30Z</dcterms:modified>
  <cp:revision>24</cp:revision>
  <dc:subject/>
  <dc:title>Ольховка 2008</dc:title>
</cp:coreProperties>
</file>