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93E-4793-4ABA-93ED-3E2E84FC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9A7-9922-4F10-9F97-673EFEF1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00B-3FEE-40B1-8156-1E4F5681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17A-EFB0-4330-8A81-4867D48F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B81-0F71-4761-8F4F-5C5F66FB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CB4-BB75-409C-8153-70A74168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C22-2F7D-4D3A-B3EF-D176584E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7B6-DAC9-4F01-A6B6-D774D2D1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649-2AD2-4E3E-B176-793E8CD7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883-BACB-45DF-B8ED-519BCB18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895-7C58-483B-A87E-68A32841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27A-B77E-476F-AFED-E7F7FC79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A50C-ED70-4BD9-B199-670B10F7C2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Арыентавальная карта для распрацоўкі методыкі кіравання навучальным даследаваннем вучняў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ліна Унуковіч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іса Кунцэві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пажывнне электраэнергіі па месяца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9760" y="1628640"/>
          <a:ext cx="81975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628640"/>
                    <a:ext cx="81975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амп</a:t>
            </a:r>
            <a:r>
              <a:rPr b="0" lang="be-BY" sz="4400" spc="-1" strike="noStrike">
                <a:solidFill>
                  <a:srgbClr val="ffff99"/>
                </a:solidFill>
                <a:latin typeface="Arial"/>
              </a:rPr>
              <a:t>’ю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эрныя праграмы, выкарыстаныя пры апрацоўцы вынікаў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388764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Аналіз і апрацоўка атрыманых дадзены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і падцвердзідася гіпотэз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ласці парады па эканоміі электраэнергі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адрыхтоўка справаздач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ласці план выступ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думать нагляднасць падання матэрыялаў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лічыць рэгламент пры высту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экамендацыі для выступ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эўнена трымацца перад аўдыторыя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варыць дакладна, па спра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дстойваць свой пункт гледж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думываць адка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эпетаваць даклад пажадана перад настаўнікам, сябрам, люстэр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Рэфлексія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і спадабалася займацца даследчай праца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і будзеш ты яшчэ праводзіць даследаванні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і будзеш займацца гэтай тэмай у далейш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му ты прапануеш складзеныя рэкамендацыі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Fixedsys"/>
              </a:rPr>
              <a:t>Пры выкананні працы выкарыстоўваюцц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Fixedsys"/>
              </a:rPr>
              <a:t>Тэст на зберажэнне электраэнергі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Fixedsys"/>
              </a:rPr>
              <a:t>Энергетычны пашпарт кватэ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Fixedsys"/>
              </a:rPr>
              <a:t>Пашпарты электрапрыбора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Fixedsys"/>
              </a:rPr>
              <a:t>Літаратура (падручнік фізікі, розныя дапаможнікі па эканоміі і выкарыстанню электраэнергіі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Fixedsys"/>
              </a:rPr>
              <a:t>Кансультантамі, акрамя настаўніка фізікі, з'яўляюцца і старэйшыя члены сям'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Тэст на зберажэнне электраэнергіі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600" cy="4687920"/>
        </p:xfrm>
        <a:graphic>
          <a:graphicData uri="http://schemas.openxmlformats.org/drawingml/2006/table">
            <a:tbl>
              <a:tblPr/>
              <a:tblGrid>
                <a:gridCol w="4906800"/>
                <a:gridCol w="576360"/>
                <a:gridCol w="689040"/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нашам дом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к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н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Складзіце ўсе ТАК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д 1 да 5 ТАК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Fixedsys"/>
                        </a:rPr>
                        <a:t>Вам яшчэ шмат чаму трэба навучыцца, так што пачынайце зара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Fixedsys"/>
                        </a:rPr>
                        <a:t>Ад 6 да 10 ТАК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Fixedsys"/>
                        </a:rPr>
                        <a:t>У вас шмат добрых звычак, якія могуць служыць асновай для далейшай працы над сабо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Fixedsys"/>
                        </a:rPr>
                        <a:t>Ад 11 да 15 ТАК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Fixedsys"/>
                        </a:rPr>
                        <a:t>Вы з'яўляецеся добрым прыкладам для  астатні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Fixedsys"/>
                        </a:rPr>
                        <a:t>Ад 16 да 20 ТАК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Fixedsys"/>
                        </a:rPr>
                        <a:t>Хтосьці з вашай сям'і павінен стаць міністрам па ахове прыр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запісываем  нашыя  энергазатра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выключаем святло ў пакоях, калі адтуль сыходзі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льная машына заўсёды поўнасцю загружана пры выкарыстан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ладзільнік стаіць у прахладным пако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не ставім мэблю перад абагравальнік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карыстаемся энергазберагальнымі лямпачкамі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выкарыстоўваем мясцовае асвятленне (бра, таршэр, інш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іс можна працягнуц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Энергетычны пашпарт кватэры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981000"/>
          <a:ext cx="8229600" cy="5600880"/>
        </p:xfrm>
        <a:graphic>
          <a:graphicData uri="http://schemas.openxmlformats.org/drawingml/2006/table">
            <a:tbl>
              <a:tblPr/>
              <a:tblGrid>
                <a:gridCol w="585720"/>
                <a:gridCol w="2157480"/>
                <a:gridCol w="1371600"/>
                <a:gridCol w="1371600"/>
                <a:gridCol w="1371600"/>
                <a:gridCol w="13716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ькасц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рная магутнасць, кВ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 працы, гадзі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аэнергія за суткі, кВт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ычная лям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ладзільн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апеч (плі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льная машы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элевіза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п’ютэ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гнітаф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чайні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Інша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арнае спажыванне,  за дз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арнае спажыванне, за 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арнае спажыванне, за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81280" y="404640"/>
            <a:ext cx="5605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дукацыйная галін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Энергетыка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56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ып даследавання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Эмпірычны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эма даследавання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жыванне электраэнергіі сярэднестатыстычнай сям'ёй у залежнасці ад пары года (зіма, ле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2927520"/>
            <a:ext cx="3194280" cy="301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2852640"/>
            <a:ext cx="30938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?      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аблемная сітуацыя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зе ўзяць грошы на куплю новай рэчы (модных джынсаў, ровара, ролікавых канькоў, дыскаў, квіткоў на канцэрт любімай рок – групы і гэтак далей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57840" y="1195560"/>
            <a:ext cx="2414520" cy="2401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03640" y="3727440"/>
            <a:ext cx="3672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эта:                        Задачы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значэнне  эканоміі грашовых сродкаў на розніцы пры спажыванні электраэнергіі ўзімку і ўлет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аніць  розніцу спажывання электраэнергіі ўзімку і ўлет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аніць суму грашовых сродкаў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аляваць рэзерв эканоміі электраэнергі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іпотэз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Fixedsys"/>
              </a:rPr>
              <a:t>Спажыванне электраэнергіі ўлетку значна менш</a:t>
            </a:r>
            <a:r>
              <a:rPr b="0" lang="be-BY" sz="4800" spc="-1" strike="noStrike">
                <a:solidFill>
                  <a:srgbClr val="ffffff"/>
                </a:solidFill>
                <a:latin typeface="Fixedsys"/>
              </a:rPr>
              <a:t>ае</a:t>
            </a:r>
            <a:r>
              <a:rPr b="0" lang="ru-RU" sz="4800" spc="-1" strike="noStrike">
                <a:solidFill>
                  <a:srgbClr val="ffffff"/>
                </a:solidFill>
                <a:latin typeface="Fixedsys"/>
              </a:rPr>
              <a:t>, і эканомія складае прыкладна 50 000 рублё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Fixedsys"/>
              </a:rPr>
              <a:t>Планаванне і распрацоўка методыкі правядзення даследаванн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іксацыя паказанняў лічыльніка за зімовыя і летнія меся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ік работы электрычнага току кожным прыбор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ўнанне атрыманых вынікаў і выяўленне магчымых памылак пры разлі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ік кошту паводле  тарыфа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значэнне спажыўца, электрычнасці, на якім можна зэканоміц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із атрыманых дадзеных і фармулёўка высно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Fixedsys"/>
              </a:rPr>
              <a:t>Збор і сістэматызацыя атрыманай інфармацыі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907920"/>
          <a:ext cx="9483480" cy="4934160"/>
        </p:xfrm>
        <a:graphic>
          <a:graphicData uri="http://schemas.openxmlformats.org/drawingml/2006/table">
            <a:tbl>
              <a:tblPr/>
              <a:tblGrid>
                <a:gridCol w="2020680"/>
                <a:gridCol w="262080"/>
                <a:gridCol w="777960"/>
                <a:gridCol w="1128600"/>
                <a:gridCol w="860400"/>
                <a:gridCol w="1025640"/>
                <a:gridCol w="815760"/>
                <a:gridCol w="1008360"/>
                <a:gridCol w="86328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ы год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і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рыф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ежан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зень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т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эрвен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іп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нівен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каз-ні лічыльні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а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ыбор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элевіза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п’ютэ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ямпачк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зніц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аномі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9:01:11Z</dcterms:created>
  <dc:creator>Ученик</dc:creator>
  <dc:description/>
  <dc:language>en-US</dc:language>
  <cp:lastModifiedBy>Lambada</cp:lastModifiedBy>
  <dcterms:modified xsi:type="dcterms:W3CDTF">2008-12-12T20:45:27Z</dcterms:modified>
  <cp:revision>17</cp:revision>
  <dc:subject/>
  <dc:title>Ориентировочная карта для разработки методики управления учебным исследованием учащихся </dc:title>
</cp:coreProperties>
</file>