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01A-9C16-4CD6-9ADB-D86299E8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0C3-09C4-4BAF-BEC4-700994E4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0B7A-95AC-4099-83E7-5D88DEE4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EB4-AB8C-4788-88EB-31E7CC2C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79A5-978B-4611-BDB9-F9F83C5E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1687-3653-4FBD-A08A-C37C99F8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CE15-CE10-440D-864E-AB890700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4BC7-F8CA-41AB-B351-E5F0BFC7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E00F-CB1F-408D-BF91-9C5A17F2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921A-CE12-4756-8E6B-2E9D0E71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962A-BD7F-49F7-8332-C6FA7164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445-D8CA-4ADC-9078-E68E7283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1EAD-5461-481F-A206-FA20AE1D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3AEB-E5F9-451E-B067-42C1A1BE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485D-7BDA-4851-BFF4-331919E2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B531-C4DD-4FF6-991C-9C44B77B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AEEA-8912-47D4-BAF4-30073177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D2C90-4F32-4790-908C-8CF68589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DA0A-0F83-4656-AF99-72D83FE6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286CE-206C-4EE5-9EEA-436A7717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6E45-0BFD-40A4-BB49-BBA0A611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CBC3E-9FEC-4CB9-AE81-99B4DBB6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7F40-2C97-4575-9106-D43E2C9D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0826A-C071-4923-BD14-7E5A14B5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5FE09-4B50-44A6-BD06-8C6389C9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4506F-12F8-43C9-AE94-7587DE08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296B6-DC03-491E-BFB4-0F8E3848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F9C76-E34E-4347-864C-17021C8E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50547-75E1-4A19-9C88-9081FBE2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1321B-D32F-4317-BEA5-D381BD67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40145-AA11-47C2-87E5-06C98343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79BCD-3B11-4A64-8097-42FEBBCF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5AF6C-E2D3-4DEC-9E7A-00C34CEA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18C8-92FE-485D-BB4F-EC7D5DC2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D5E6C-A578-48E9-8149-D022E710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A7EE1-EE53-4D0D-987C-399B4739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F5D5D-53C5-4031-B096-9C040204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EFC5C-BA1E-4EFA-B593-1F59C277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DE7A1-F132-4D19-9D6E-2C2B3325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9791B-51E8-4398-9497-1C0B476E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B1DC3-2921-423F-A7F3-12C1E1E4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D2DDD-D1E7-4B4E-B30D-2D374FC2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A24D5-8836-4485-8B56-A681D462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52549-0470-43E8-BF51-198A984A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F01-CD04-49A5-B106-359F6D2A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4F12B-6814-48DC-A415-FE33B89B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C05FC-8A59-458E-8943-8B69547A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255C5-BF27-4273-BE83-F1B6A0CA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FE887-B145-47A0-BBE9-8CEFCDCD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E1DB6-6AE3-428B-96CB-F2214258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88908-7557-4BB9-A506-266F2419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2B50D-C981-4F05-BD68-794693A0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A364C-4472-4597-B3FE-4C35A7ED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4B25A-165C-4CE5-80C6-33E8E474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86598-7EE1-42A3-B6E1-8328D017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1C20-4270-47C2-BC8F-B4A885B4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16A99-C15A-4CF7-B84B-AFFA48F2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EE87E-2503-4E51-8C18-119FF915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C3877-C467-4600-86B5-2C778DA3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2E355-4981-41D5-8F30-48D2E09F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AD8B9-389D-48B4-9EAA-0C17455D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91298-229F-48CB-B7E9-C4FCFB62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4245C-DF1D-4266-AF54-3EBC5D66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1DCCF-D20A-41C3-99CD-C8679A5B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715B0-CBC7-4594-A126-2C06020C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831D4-08C2-4B8D-9D34-BCCBBC08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F1DB-11D2-46B3-8DD1-8953C380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56B3F-CF1B-4C3A-8DBD-1891C0C2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47360-AD20-4491-B103-372E8448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F17AB-51D1-4553-B180-4C5CD2F4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0EB-D5AA-4352-AB4C-A1B2F7CE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DE8-61F4-4CA2-B7ED-43ACCBBB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F6CA-89A9-4A0C-BF26-3DAFD2D383B4}" type="slidenum">
              <a:rPr b="0" lang="en-US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5FD7-EAD4-4640-8739-20C87E2CD9F1}" type="slidenum">
              <a:rPr b="0" lang="en-US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A1C2-81CC-4DF5-B666-17B04776DD3E}" type="slidenum">
              <a:rPr b="0" lang="en-US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1254-7197-444D-8331-914A722FEB6E}" type="slidenum">
              <a:rPr b="0" lang="en-US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F0A9-6F7C-4216-AB89-7E75DE443CA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7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8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2212-27C5-4354-9125-0CCBD8B7FAE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79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ctr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аследчая работа па фізі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800" spc="-1" strike="noStrike">
                <a:solidFill>
                  <a:srgbClr val="006666"/>
                </a:solidFill>
                <a:latin typeface="Arial"/>
              </a:rPr>
              <a:t>«Узаемадзеянне струменя вады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66"/>
                </a:solidFill>
                <a:latin typeface="Arial"/>
              </a:rPr>
              <a:t>з гукавой хваляй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0" lang="ru-RU" sz="900" spc="-1" strike="noStrike">
                <a:solidFill>
                  <a:srgbClr val="006666"/>
                </a:solidFill>
                <a:latin typeface="Arial"/>
              </a:rPr>
              <a:t>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 Unicode MS"/>
              </a:rPr>
              <a:t>Падрыхтоўка справаздачы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роткі план-канспект абароны праект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-схема ці прэзентацыя  работ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лежнае афармлен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 Unicode MS"/>
              </a:rPr>
              <a:t>Навуковы даклад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ога вытрымліваць рэгламент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разна і ўпэўнена адказваць на зададзеныя пытанн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 Unicode MS"/>
              </a:rPr>
              <a:t>Рефлексія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ы малайчына, зрабіў усё выдатна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і задаволены ты вынікамі свайго выступу і адзнакай журы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і будзеш працягваць працу ў гэтым кірунку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62120" y="15238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Mistral"/>
              </a:rPr>
              <a:t>ПРЕЗЕНТАЦЫЮ  ПАДРЫХТАВАЛІ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Mistral"/>
              </a:rPr>
              <a:t>     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Mistral"/>
              </a:rPr>
              <a:t>Віктар </a:t>
            </a: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33cc"/>
                </a:solidFill>
                <a:latin typeface="Mistral"/>
              </a:rPr>
              <a:t>Мікалаевіч Герцы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Mistral"/>
              </a:rPr>
              <a:t>Аляксандр Леанідавіч Казакеві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Mistral"/>
              </a:rPr>
              <a:t>                                                </a:t>
            </a:r>
            <a:r>
              <a:rPr b="1" lang="ru-RU" sz="3000" spc="-1" strike="noStrike">
                <a:solidFill>
                  <a:srgbClr val="0033cc"/>
                </a:solidFill>
                <a:latin typeface="Mistral"/>
              </a:rPr>
              <a:t>200</a:t>
            </a: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ru-RU" sz="3000" spc="-1" strike="noStrike">
                <a:solidFill>
                  <a:srgbClr val="0033cc"/>
                </a:solidFill>
                <a:latin typeface="Mistral"/>
              </a:rPr>
              <a:t>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4a6428"/>
                </a:solidFill>
                <a:latin typeface="Arial"/>
              </a:rPr>
              <a:t>              </a:t>
            </a:r>
            <a:r>
              <a:rPr b="0" lang="ru-RU" sz="4600" spc="-1" strike="noStrike">
                <a:solidFill>
                  <a:srgbClr val="4a6428"/>
                </a:solidFill>
                <a:latin typeface="Arial Unicode MS"/>
              </a:rPr>
              <a:t>Від даследавання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400" spc="-1" strike="noStrike">
                <a:solidFill>
                  <a:srgbClr val="006666"/>
                </a:solidFill>
                <a:latin typeface="Arial"/>
              </a:rPr>
              <a:t>Эмпірычны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ff"/>
                </a:solidFill>
                <a:latin typeface="Arial"/>
              </a:rPr>
              <a:t>Праблемная  сітуацы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ы дапамозе эксперыменту з вадзяным пісталетам, настаўнік паступова падводзіць вучня да фармулёўкі пытання: «Чаму адбываецца распад струменя на кроплі?». Можна правесці падобныя эксперыменты з іншымі вадзянымі крыніцам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адказу на пытанне настаўнік прапаноўвае звярнуцца да артыкула часопіса «Квант» №7, 1977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ы чытанні гэтага артыкула, навучэнец непазбежна сутыкнкцца з апісаннем эфекту зліпання стумянёў пад дзеяннем гукавой хвал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ff"/>
                </a:solidFill>
                <a:latin typeface="Arial Unicode MS"/>
              </a:rPr>
              <a:t>Пастаноўка мэты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светліць, якія параметры гукавой хвалі ўплываюць на працэс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трымаць веды аб прычынах, якія выклікаюць дадзеныя з'яв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ЗАДАЧЫ</a:t>
            </a:r>
            <a:r>
              <a:rPr b="0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ксперыментальна даследаваць, якім чынам узнікае эфект пры розных гукавых час</a:t>
            </a:r>
            <a:r>
              <a:rPr b="0" lang="be-BY" sz="2600" spc="-1" strike="noStrike">
                <a:solidFill>
                  <a:srgbClr val="000000"/>
                </a:solidFill>
                <a:latin typeface="Arial"/>
              </a:rPr>
              <a:t>цін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светліць, ці існуе залежнасць паміж хуткасцю выцякання струменя і часці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ё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гуку, пры якой узнікае эфек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істэматызаваць і падагульніць атрыманую інфармацыю, зрабіць выснов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думаць аб магчымасці практычнага ўжывання атрыманых вынікаў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ff"/>
                </a:solidFill>
                <a:latin typeface="Arial Unicode MS"/>
              </a:rPr>
              <a:t>Гіпотэза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Існуе  сувязь паміж хуткасцю выцякання струменя і часцінёй гуку, пры якой узнікае эфе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 Unicode MS"/>
              </a:rPr>
              <a:t>Планаванне і распрацоўка методыкі правядзення даследавання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браць уста</a:t>
            </a:r>
            <a:r>
              <a:rPr b="0" lang="be-BY" sz="30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ўк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трымаць дадзеныя эксперымент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йсці часціні, пры якіх назіраецца эфе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працаваць атрыманыя вынікі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рабіць выснов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панаваць магчымасць практычнага  ўжывання атрыманых вынікаў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 Unicode MS"/>
              </a:rPr>
              <a:t>Збор і сістэматызацыя 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Arial Unicode MS"/>
              </a:rPr>
              <a:t>атрыманай інфармацыі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523880" y="1905120"/>
          <a:ext cx="6580440" cy="4114440"/>
        </p:xfrm>
        <a:graphic>
          <a:graphicData uri="http://schemas.openxmlformats.org/drawingml/2006/table">
            <a:tbl>
              <a:tblPr/>
              <a:tblGrid>
                <a:gridCol w="1312560"/>
                <a:gridCol w="475560"/>
                <a:gridCol w="434880"/>
                <a:gridCol w="423360"/>
                <a:gridCol w="500400"/>
                <a:gridCol w="501120"/>
                <a:gridCol w="572040"/>
                <a:gridCol w="572400"/>
                <a:gridCol w="643680"/>
                <a:gridCol w="572040"/>
                <a:gridCol w="572400"/>
              </a:tblGrid>
              <a:tr h="20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ціня гукавой хвалі, (Гц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ткасць выцякання  вады, м/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Unicode MS"/>
              </a:rPr>
              <a:t>Аналіз і абагульненн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 Unicode MS"/>
              </a:rPr>
              <a:t> атрыманых дадзе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ярнуць увагу на магчымую аналогію са з’явай рэзананс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mbada</cp:lastModifiedBy>
  <dcterms:modified xsi:type="dcterms:W3CDTF">2008-12-12T20:21:51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