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63A1-AED6-4F2A-AF0E-2E2B10D1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CA5B-FBF0-4ABD-8868-227B2405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6BB8-5F3C-473A-AA55-FA2624DF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07C1-B742-4D90-AF77-5D5D9ED8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71CD-B30C-47A3-B1D0-59587BB5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2055-021B-412B-9738-87008C43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FCAA-7355-4671-BC9F-74BE14CA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C625-B70B-4C2D-8667-A74924E7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AB6A-CEB3-4C23-80CF-2BA27D9A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DFB1-641C-4ED8-925F-D5AEBDD0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7DFA-2A16-4032-9332-AB4F88A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C049-61F3-468B-BF93-604F471F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7AE9-7D7D-4036-A1BC-84D85CC3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40A3-9F88-46D3-BD26-9270473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44E0-09CF-4A8A-ADD0-B9CF52F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0D34-2A7F-48BB-9B78-5667DD9E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1658-CB7A-47EF-918A-065C5D69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FF2B-6047-46D9-8F7A-02256E5C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E1D9-3B03-4261-82F1-2CC024F5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CDC8-BC8A-4AF1-9B7D-8BCC9103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5E2D-9352-4AFB-BAEA-8DDB2989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1609-A870-41C8-8511-31C3477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838B-0308-4192-AF03-8DE5B03E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A569-645D-4B96-B7E8-98F1FB2F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D0DD-9101-403C-BB08-21BDEF2A0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F0C9-BB09-4A60-A572-4AAC2881A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40000" y="1828800"/>
            <a:ext cx="680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ixedsys"/>
              </a:rPr>
              <a:t>Распрацоўка методыкі кіравання навучальным даследаваннем </a:t>
            </a:r>
            <a:r>
              <a:rPr b="0" lang="be-BY" sz="4000" spc="-1" strike="noStrike">
                <a:solidFill>
                  <a:srgbClr val="ffffff"/>
                </a:solidFill>
                <a:latin typeface="Fixedsys"/>
              </a:rPr>
              <a:t>вучня</a:t>
            </a:r>
            <a:r>
              <a:rPr b="0" lang="ru-RU" sz="4000" spc="-1" strike="noStrike">
                <a:solidFill>
                  <a:srgbClr val="808080"/>
                </a:solidFill>
                <a:latin typeface="Fixedsy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. Планаванне і распрацоўка методык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792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Правядзенне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эксперыменту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Распрацоўк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табліцы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для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эксперыментальных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дадзе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Падбор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абсталявання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(псіхрометр,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тэрмометр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бытавы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медыцынск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універсальны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электронны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танометр, гадзіннік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Вымярэнне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вільготнасц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тэмпературы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ў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парылцы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, 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працягласц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сеансу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Вымярэнне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тэмпературы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цел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верхняг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ніжняг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ціскаў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пульсу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д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пасля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кожнаг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сеан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Атрыманне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залежнасц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тэмпературы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цел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верхняг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ніжняг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ціскаў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пульс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ад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наступных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параметраў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вільготнасць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тэмператур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працягласць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сеансу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від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венік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-42660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Аналіз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атрыманай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інфармацыі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фармулёўка</a:t>
            </a:r>
            <a:r>
              <a:rPr b="0" lang="ru-RU" sz="2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ixedsys"/>
              </a:rPr>
              <a:t>высно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2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.Збор і сістэматызацыя атрыіманай інфармацы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43000" y="2209680"/>
          <a:ext cx="8680320" cy="39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2209680"/>
                    <a:ext cx="8680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із і абагульненне атрыманых дадзе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ны арганізм індывідуальны, таму варта зважаць на змену паказчыкаў здароў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абіце выснову, ці падцвярджаюць атрыманыя дадзеныя вашу гіпотэ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ўнайце высновы тэарэтычных і эксперыментальных даследаванняў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экамендацыі па падрыхтоўцы справаздачы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ixedsys"/>
              </a:rPr>
              <a:t>Абапірацца</a:t>
            </a:r>
            <a:r>
              <a:rPr b="1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ixedsys"/>
              </a:rPr>
              <a:t>на</a:t>
            </a:r>
            <a:r>
              <a:rPr b="1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ixedsys"/>
              </a:rPr>
              <a:t>правілы</a:t>
            </a:r>
            <a:r>
              <a:rPr b="1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Fixedsys"/>
              </a:rPr>
              <a:t>афармлення</a:t>
            </a:r>
            <a:r>
              <a:rPr b="1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Fixedsys"/>
              </a:rPr>
              <a:t>справаздач</a:t>
            </a:r>
            <a:r>
              <a:rPr b="1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. Парады па падрыхтоўцы да дакладу на канферэнцы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Fixedsy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Загадзя спраўдзі, ці працуе патрэбнае  абсталяван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Fixedsy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Будзь уважлі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Fixedsy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Трымайся ўпэўн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Fixedsy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Перамога будзе за нам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Fixedsy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Рэпетыцыя дакладу неабход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але не дастатковая для перамог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. Рэфлексі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 малайчына! Мы выдатна папрацавалі. І я ганаруся, што ў мяне ёсць такі вучань, як 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к ты сам ацэньваеш свой высту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105680" cy="59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08360" y="5084640"/>
            <a:ext cx="441972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Аўтарскі калектыў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Віктар Кірэ</a:t>
            </a:r>
            <a:r>
              <a:rPr b="0" lang="be-BY" sz="1600" spc="-1" strike="noStrike">
                <a:solidFill>
                  <a:srgbClr val="ffffff"/>
                </a:solidFill>
                <a:latin typeface="Arial Black"/>
              </a:rPr>
              <a:t>е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ў.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МДАЛ №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Аляксандр Плятнёў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Ліцэй Б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Аляксандр Саковіч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М</a:t>
            </a:r>
            <a:r>
              <a:rPr b="0" lang="be-BY" sz="1600" spc="-1" strike="noStrike">
                <a:solidFill>
                  <a:srgbClr val="ffffff"/>
                </a:solidFill>
                <a:latin typeface="Arial Black"/>
              </a:rPr>
              <a:t>ДА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Л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Тып даследав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ixedsys"/>
              </a:rPr>
              <a:t>Тэарэтычна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ixedsys"/>
              </a:rPr>
              <a:t>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ixedsys"/>
              </a:rPr>
              <a:t>эмпірычна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3.Тэма даследавання*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3933720"/>
            <a:ext cx="808488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Fixedsys"/>
              </a:rPr>
              <a:t>Даследаванне ўплыву лазні на асноўныя медыцынскія паказчыкі стану здароў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040" y="6276960"/>
            <a:ext cx="862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*Тэма была абраная пад ўплывам лазні канструкацыі А. Якубоўскага (гл. </a:t>
            </a:r>
            <a:r>
              <a:rPr b="0" i="1" lang="be-BY" sz="1600" spc="-1" strike="noStrike">
                <a:solidFill>
                  <a:srgbClr val="ffff00"/>
                </a:solidFill>
                <a:latin typeface="Arial"/>
              </a:rPr>
              <a:t>фота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),</a:t>
            </a:r>
            <a:br>
              <a:rPr sz="1600"/>
            </a:b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таму патрабуе ад чытача гэтага матэрыялу творчага стаўлення  і  пачуцця гум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варэнне праблемнай сітуацы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ixedsys"/>
              </a:rPr>
              <a:t>Правядзенне</a:t>
            </a:r>
            <a:r>
              <a:rPr b="1" lang="ru-RU" sz="40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Fixedsys"/>
              </a:rPr>
              <a:t>класнай</a:t>
            </a:r>
            <a:r>
              <a:rPr b="1" lang="ru-RU" sz="40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Fixedsys"/>
              </a:rPr>
              <a:t>гадзіны</a:t>
            </a:r>
            <a:r>
              <a:rPr b="1" lang="ru-RU" sz="40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ixedsys"/>
              </a:rPr>
              <a:t>на</a:t>
            </a:r>
            <a:r>
              <a:rPr b="1" lang="ru-RU" sz="40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Fixedsys"/>
              </a:rPr>
              <a:t>тэму</a:t>
            </a:r>
            <a:r>
              <a:rPr b="1" lang="ru-RU" sz="40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Лазня карысная ўсім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ixedsys"/>
              </a:rPr>
              <a:t>у</a:t>
            </a:r>
            <a:r>
              <a:rPr b="1" lang="ru-RU" sz="40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Fixedsys"/>
              </a:rPr>
              <a:t>форме</a:t>
            </a:r>
            <a:r>
              <a:rPr b="1" lang="ru-RU" sz="40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Fixedsys"/>
              </a:rPr>
              <a:t>дэба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1 Мэта даследав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рыманне новых ведаў пра лазню: пра гісторыю, будынкі, мэты выкарыс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следаванне ўплыву лазні на асноўныя медыцынскія паказчыкі стану здароў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2 Задачы даследа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аналізаваць літаратуру пра гісторыю лазні, яе канструкцыі, мэтазгоднасць выкарыстання розных веніка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ляваць залежнасці тэмпературы цела, верхняга і ніжняга ціскаў і часціні пульсу ад наступных параметраў: вільготнасць, тэмпература, працягласць сеансу, від вені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Гіпотэ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азн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дмоўна ўплыва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здароў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. Планаванне і распрацоўка методык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Распрацоўка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табліцы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для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фіксацыі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знойдзенай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інфармацы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Пошук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неабходнай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інфармацыі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ў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літаратуры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С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Аналіз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атрыманай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інфармацыі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фармулёўка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высно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Правядзенне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эксперыменту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Агульны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аналіз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працы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фармулёўка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высно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Падрыхтоўка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справаздачы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1:34:59Z</dcterms:created>
  <dc:creator>Ученик</dc:creator>
  <dc:description/>
  <dc:language>en-US</dc:language>
  <cp:lastModifiedBy>Lambada</cp:lastModifiedBy>
  <dcterms:modified xsi:type="dcterms:W3CDTF">2008-12-12T20:40:43Z</dcterms:modified>
  <cp:revision>19</cp:revision>
  <dc:subject/>
  <dc:title>Разработка методики управления учебным исследованием учащегося </dc:title>
</cp:coreProperties>
</file>