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10D8-225B-460E-8737-B3A93FB5E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E36D-2C12-4C3D-9056-75BC05C5B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8802-5C93-469F-AF9B-02E6B8FE5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EE5A-A8EF-4F22-B589-1B2C8E73B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E8A1-981C-4516-A38B-8194C63DC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AD55-AF72-44FF-B986-558CA3C95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AB30-F573-4906-B6B1-09BB61135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5154-6147-44BE-8A98-D80CD7839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DFDE-7F79-4229-8805-8A09400A3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88C5-F2FB-4676-8C1F-2B6C5D8B1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8BDC-33CC-4B29-8B03-2995B2B50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F886-C298-4B4B-A54E-D6CC66EAA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FC934-05DC-4CF1-B911-D30118BB12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mick@academy.edu.by" TargetMode="External"/><Relationship Id="rId2" Type="http://schemas.openxmlformats.org/officeDocument/2006/relationships/hyperlink" Target="http://www.academy.edu.by/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fpmi.bsu.by/UniXXI/index.htlm" TargetMode="External"/><Relationship Id="rId2" Type="http://schemas.openxmlformats.org/officeDocument/2006/relationships/hyperlink" Target="http://www.fpmi.bsu.by/UniXXI/index.htlm" TargetMode="External"/><Relationship Id="rId3" Type="http://schemas.openxmlformats.org/officeDocument/2006/relationships/hyperlink" Target="http://www.fpmi.bsu.by/UniXXI/index.htlm" TargetMode="External"/><Relationship Id="rId4" Type="http://schemas.openxmlformats.org/officeDocument/2006/relationships/hyperlink" Target="http://www.fpmi.bsu.by/UniXXI/index.htlm" TargetMode="External"/><Relationship Id="rId5" Type="http://schemas.openxmlformats.org/officeDocument/2006/relationships/hyperlink" Target="http://www.fpmi.bsu.by/UniXXI/index.htlm" TargetMode="External"/><Relationship Id="rId6" Type="http://schemas.openxmlformats.org/officeDocument/2006/relationships/hyperlink" Target="http://www.fpmi.bsu.by/UniXXI/index.htlm" TargetMode="External"/><Relationship Id="rId7" Type="http://schemas.openxmlformats.org/officeDocument/2006/relationships/hyperlink" Target="http://www.fpmi.bsu.by/UniXXI/index.htlm" TargetMode="External"/><Relationship Id="rId8" Type="http://schemas.openxmlformats.org/officeDocument/2006/relationships/hyperlink" Target="http://www.fpmi.bsu.by/UniXXI/index.htlm" TargetMode="External"/><Relationship Id="rId9" Type="http://schemas.openxmlformats.org/officeDocument/2006/relationships/hyperlink" Target="http://www.fpmi.bsu.by/UniXXI/index.htlm" TargetMode="External"/><Relationship Id="rId10" Type="http://schemas.openxmlformats.org/officeDocument/2006/relationships/hyperlink" Target="http://www.fpmi.bsu.by/UniXXI/index.htlm" TargetMode="External"/><Relationship Id="rId11" Type="http://schemas.openxmlformats.org/officeDocument/2006/relationships/hyperlink" Target="http://www.fpmi.bsu.by/UniXXI/index.htlm" TargetMode="External"/><Relationship Id="rId12" Type="http://schemas.openxmlformats.org/officeDocument/2006/relationships/hyperlink" Target="http://www.fpmi.bsu.by/UniXXI/index.htlm" TargetMode="External"/><Relationship Id="rId13" Type="http://schemas.openxmlformats.org/officeDocument/2006/relationships/hyperlink" Target="http://www.fpmi.bsu.by/UniXXI/index.htlm" TargetMode="External"/><Relationship Id="rId14" Type="http://schemas.openxmlformats.org/officeDocument/2006/relationships/hyperlink" Target="http://www.fpmi.bsu.by/UniXXI/index.htlm" TargetMode="External"/><Relationship Id="rId15" Type="http://schemas.openxmlformats.org/officeDocument/2006/relationships/hyperlink" Target="http://www.fpmi.bsu.by/UniXXI/index.htlm" TargetMode="External"/><Relationship Id="rId16" Type="http://schemas.openxmlformats.org/officeDocument/2006/relationships/hyperlink" Target="http://www.researcher.ru/" TargetMode="External"/><Relationship Id="rId17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spare.net.ru/intrus/findfrnd/index.htm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7724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400" spc="-1" strike="noStrike">
                <a:solidFill>
                  <a:srgbClr val="ff3300"/>
                </a:solidFill>
                <a:latin typeface="Arial"/>
              </a:rPr>
              <a:t>Кіраванне даследчай дзейнасцю навучэнца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Загадчык  кафедрай педагогікі А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e-BY" sz="2800" spc="-1" strike="noStrike">
                <a:solidFill>
                  <a:srgbClr val="000000"/>
                </a:solidFill>
                <a:latin typeface="Arial"/>
              </a:rPr>
              <a:t>Мі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алай Іванавич Запрудск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mick@academy.edu.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academy.edu.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000" spc="-1" strike="noStrike">
                <a:solidFill>
                  <a:srgbClr val="ff3300"/>
                </a:solidFill>
                <a:latin typeface="Arial"/>
              </a:rPr>
              <a:t>Параўнаем праектаванне і даследаван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водле якіх падставаў будзем параўноўвац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Праектаванне і даследаванн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e-BY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Дзейнасці навучэнцаў па праектаванні і даследавання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е даўнюю гісторы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вучэнец стварае ім прыдуманы аб’е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вараецца тое, чаго яшчэ ня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вучэнцы вучацца праектавац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вая практы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вучэнец атрымоўвае  новыя ве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яўляецца тое, што ўжо ёсц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вучэнцы вучацца даследавац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Fixedsys"/>
              </a:rPr>
              <a:t>Даследчыя ўменні</a:t>
            </a: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менне ўбачыць (разглядзець) праблем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менне фармуляваць мэты даследаванн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менне сфармуляваць гіпотэз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менне планаваць даследаванн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менне  правядзення эксперыменту і (або) збору інфармацы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менне абагульняць і інтэрпрэтаваць свае вынік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менне прэзентаваць вынік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Прынцыпы арганізацыі даследчай дзейнасці навучэнца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рыентацыі на пазнавальныя інтарэсы навучэнца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абоды выба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дпаведнасці цыклу навуковага даследава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двойных веда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армавання ўяўлення пра даследаванне як стыль жыцц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поры на досвед вучняў у пошуку інфармацы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дтрымкі настаўні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Этапы исслед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50920" y="765000"/>
          <a:ext cx="8713800" cy="5824800"/>
        </p:xfrm>
        <a:graphic>
          <a:graphicData uri="http://schemas.openxmlformats.org/drawingml/2006/table">
            <a:tbl>
              <a:tblPr/>
              <a:tblGrid>
                <a:gridCol w="288720"/>
                <a:gridCol w="4443480"/>
                <a:gridCol w="3981600"/>
              </a:tblGrid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Fixedsys"/>
                          <a:ea typeface="Times New Roman"/>
                        </a:rPr>
                        <a:t>Даследчая</a:t>
                      </a:r>
                      <a:r>
                        <a:rPr b="1" lang="ru-RU" sz="1900" spc="-1" strike="noStrike">
                          <a:solidFill>
                            <a:srgbClr val="808080"/>
                          </a:solidFill>
                          <a:latin typeface="Fixedsys"/>
                          <a:ea typeface="Times New Roman"/>
                        </a:rPr>
                        <a:t>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Fixedsys"/>
                          <a:ea typeface="Times New Roman"/>
                        </a:rPr>
                        <a:t>дзейнасць</a:t>
                      </a:r>
                      <a:r>
                        <a:rPr b="1" lang="ru-RU" sz="1900" spc="-1" strike="noStrike">
                          <a:solidFill>
                            <a:srgbClr val="808080"/>
                          </a:solidFill>
                          <a:latin typeface="Fixedsys"/>
                          <a:ea typeface="Times New Roman"/>
                        </a:rPr>
                        <a:t> </a:t>
                      </a: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Fixedsys"/>
                          <a:ea typeface="Times New Roman"/>
                        </a:rPr>
                        <a:t>навучэнцаў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Fixedsys"/>
                          <a:ea typeface="Times New Roman"/>
                        </a:rPr>
                        <a:t>Кіруючая</a:t>
                      </a:r>
                      <a:r>
                        <a:rPr b="1" lang="ru-RU" sz="1900" spc="-1" strike="noStrike">
                          <a:solidFill>
                            <a:srgbClr val="808080"/>
                          </a:solidFill>
                          <a:latin typeface="Fixedsys"/>
                          <a:ea typeface="Times New Roman"/>
                        </a:rPr>
                        <a:t>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Fixedsys"/>
                          <a:ea typeface="Times New Roman"/>
                        </a:rPr>
                        <a:t>дзейнасць</a:t>
                      </a:r>
                      <a:r>
                        <a:rPr b="1" lang="ru-RU" sz="1900" spc="-1" strike="noStrike">
                          <a:solidFill>
                            <a:srgbClr val="808080"/>
                          </a:solidFill>
                          <a:latin typeface="Fixedsys"/>
                          <a:ea typeface="Times New Roman"/>
                        </a:rPr>
                        <a:t> </a:t>
                      </a: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Fixedsys"/>
                          <a:ea typeface="Times New Roman"/>
                        </a:rPr>
                        <a:t>настаўнік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1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Fixedsys"/>
                        </a:rPr>
                        <a:t>     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Fixedsys"/>
                        </a:rPr>
                        <a:t>Падбор</a:t>
                      </a:r>
                      <a:r>
                        <a:rPr b="0" lang="ru-RU" sz="1900" spc="-1" strike="noStrike">
                          <a:solidFill>
                            <a:srgbClr val="808080"/>
                          </a:solidFill>
                          <a:latin typeface="Fixedsys"/>
                        </a:rPr>
                        <a:t> 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Fixedsys"/>
                        </a:rPr>
                        <a:t>супярэчлівых</a:t>
                      </a:r>
                      <a:r>
                        <a:rPr b="0" lang="ru-RU" sz="1900" spc="-1" strike="noStrike">
                          <a:solidFill>
                            <a:srgbClr val="808080"/>
                          </a:solidFill>
                          <a:latin typeface="Fixedsys"/>
                        </a:rPr>
                        <a:t> </a:t>
                      </a:r>
                      <a:r>
                        <a:rPr b="0" lang="en-US" sz="1900" spc="-1" strike="noStrike">
                          <a:solidFill>
                            <a:srgbClr val="808080"/>
                          </a:solidFill>
                          <a:latin typeface="Fixedsys"/>
                        </a:rPr>
                        <a:t> 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Fixedsys"/>
                        </a:rPr>
                        <a:t>фактаў</a:t>
                      </a:r>
                      <a:r>
                        <a:rPr b="0" lang="ru-RU" sz="1900" spc="-1" strike="noStrike">
                          <a:solidFill>
                            <a:srgbClr val="808080"/>
                          </a:solidFill>
                          <a:latin typeface="Fixedsys"/>
                        </a:rPr>
                        <a:t>,</a:t>
                      </a:r>
                      <a:r>
                        <a:rPr b="0" lang="en-US" sz="1900" spc="-1" strike="noStrike">
                          <a:solidFill>
                            <a:srgbClr val="808080"/>
                          </a:solidFill>
                          <a:latin typeface="Fixedsys"/>
                        </a:rPr>
                        <a:t> 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Fixedsys"/>
                        </a:rPr>
                        <a:t>цікавай</a:t>
                      </a:r>
                      <a:r>
                        <a:rPr b="0" lang="ru-RU" sz="1900" spc="-1" strike="noStrike">
                          <a:solidFill>
                            <a:srgbClr val="808080"/>
                          </a:solidFill>
                          <a:latin typeface="Fixedsys"/>
                        </a:rPr>
                        <a:t> 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Fixedsys"/>
                        </a:rPr>
                        <a:t>інфармацыі</a:t>
                      </a:r>
                      <a:r>
                        <a:rPr b="0" lang="ru-RU" sz="1900" spc="-1" strike="noStrike">
                          <a:solidFill>
                            <a:srgbClr val="808080"/>
                          </a:solidFill>
                          <a:latin typeface="Fixedsys"/>
                        </a:rPr>
                        <a:t>, 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Fixedsys"/>
                        </a:rPr>
                        <a:t>выдумка</a:t>
                      </a:r>
                      <a:r>
                        <a:rPr b="0" lang="ru-RU" sz="1900" spc="-1" strike="noStrike">
                          <a:solidFill>
                            <a:srgbClr val="808080"/>
                          </a:solidFill>
                          <a:latin typeface="Fixedsys"/>
                        </a:rPr>
                        <a:t> 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Fixedsys"/>
                        </a:rPr>
                        <a:t>праблемных</a:t>
                      </a:r>
                      <a:r>
                        <a:rPr b="0" lang="ru-RU" sz="1900" spc="-1" strike="noStrike">
                          <a:solidFill>
                            <a:srgbClr val="808080"/>
                          </a:solidFill>
                          <a:latin typeface="Fixedsys"/>
                        </a:rPr>
                        <a:t> 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Fixedsys"/>
                        </a:rPr>
                        <a:t>сітуацый</a:t>
                      </a:r>
                      <a:r>
                        <a:rPr b="0" lang="ru-RU" sz="1900" spc="-1" strike="noStrike">
                          <a:solidFill>
                            <a:srgbClr val="808080"/>
                          </a:solidFill>
                          <a:latin typeface="Fixedsys"/>
                        </a:rPr>
                        <a:t>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0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900" spc="-1" strike="noStrike">
                          <a:solidFill>
                            <a:srgbClr val="00008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ru-RU" sz="1900" spc="-1" strike="noStrike">
                          <a:solidFill>
                            <a:srgbClr val="000080"/>
                          </a:solidFill>
                          <a:latin typeface="Arial Unicode MS"/>
                        </a:rPr>
                        <a:t>Праблематызацыя</a:t>
                      </a:r>
                      <a:r>
                        <a:rPr b="0" lang="ru-RU" sz="1900" spc="-1" strike="noStrike">
                          <a:solidFill>
                            <a:srgbClr val="808080"/>
                          </a:solidFill>
                          <a:latin typeface="Arial Unicode MS"/>
                        </a:rPr>
                        <a:t>: 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выяўленне</a:t>
                      </a:r>
                      <a:r>
                        <a:rPr b="0" lang="ru-RU" sz="1900" spc="-1" strike="noStrike">
                          <a:solidFill>
                            <a:srgbClr val="808080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супярэчнасцяў</a:t>
                      </a:r>
                      <a:r>
                        <a:rPr b="0" lang="ru-RU" sz="1900" spc="-1" strike="noStrike">
                          <a:solidFill>
                            <a:srgbClr val="808080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у</a:t>
                      </a:r>
                      <a:r>
                        <a:rPr b="0" lang="ru-RU" sz="1900" spc="-1" strike="noStrike">
                          <a:solidFill>
                            <a:srgbClr val="808080"/>
                          </a:solidFill>
                          <a:latin typeface="Arial Unicode MS"/>
                        </a:rPr>
                        <a:t>  </a:t>
                      </a:r>
                      <a:r>
                        <a:rPr b="0" lang="ru-RU" sz="1900" spc="-1" strike="noStrike">
                          <a:solidFill>
                            <a:srgbClr val="000080"/>
                          </a:solidFill>
                          <a:latin typeface="Arial Unicode MS"/>
                        </a:rPr>
                        <a:t>інфармацыі</a:t>
                      </a:r>
                      <a:r>
                        <a:rPr b="0" lang="ru-RU" sz="1900" spc="-1" strike="noStrike">
                          <a:solidFill>
                            <a:srgbClr val="808080"/>
                          </a:solidFill>
                          <a:latin typeface="Arial Unicode MS"/>
                        </a:rPr>
                        <a:t>, 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праява</a:t>
                      </a:r>
                      <a:r>
                        <a:rPr b="0" lang="ru-RU" sz="1900" spc="-1" strike="noStrike">
                          <a:solidFill>
                            <a:srgbClr val="808080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зацікаўленасці</a:t>
                      </a:r>
                      <a:r>
                        <a:rPr b="0" lang="ru-RU" sz="1900" spc="-1" strike="noStrike">
                          <a:solidFill>
                            <a:srgbClr val="808080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у</a:t>
                      </a:r>
                      <a:r>
                        <a:rPr b="0" lang="ru-RU" sz="1900" spc="-1" strike="noStrike">
                          <a:solidFill>
                            <a:srgbClr val="808080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вывучэнні</a:t>
                      </a:r>
                      <a:r>
                        <a:rPr b="0" lang="ru-RU" sz="1900" spc="-1" strike="noStrike">
                          <a:solidFill>
                            <a:srgbClr val="808080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таго</a:t>
                      </a:r>
                      <a:r>
                        <a:rPr b="0" lang="ru-RU" sz="1900" spc="-1" strike="noStrike">
                          <a:solidFill>
                            <a:srgbClr val="808080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або</a:t>
                      </a:r>
                      <a:r>
                        <a:rPr b="0" lang="ru-RU" sz="1900" spc="-1" strike="noStrike">
                          <a:solidFill>
                            <a:srgbClr val="808080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іншага</a:t>
                      </a:r>
                      <a:r>
                        <a:rPr b="0" lang="ru-RU" sz="1900" spc="-1" strike="noStrike">
                          <a:solidFill>
                            <a:srgbClr val="808080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аб'екта</a:t>
                      </a:r>
                      <a:r>
                        <a:rPr b="0" lang="ru-RU" sz="1900" spc="-1" strike="noStrike">
                          <a:solidFill>
                            <a:srgbClr val="808080"/>
                          </a:solidFill>
                          <a:latin typeface="Arial Unicode MS"/>
                        </a:rPr>
                        <a:t>, 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жаданні</a:t>
                      </a:r>
                      <a:r>
                        <a:rPr b="0" lang="ru-RU" sz="1900" spc="-1" strike="noStrike">
                          <a:solidFill>
                            <a:srgbClr val="808080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зразумець</a:t>
                      </a:r>
                      <a:r>
                        <a:rPr b="0" lang="ru-RU" sz="1900" spc="-1" strike="noStrike">
                          <a:solidFill>
                            <a:srgbClr val="808080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працэс</a:t>
                      </a:r>
                      <a:r>
                        <a:rPr b="0" lang="ru-RU" sz="1900" spc="-1" strike="noStrike">
                          <a:solidFill>
                            <a:srgbClr val="808080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або</a:t>
                      </a:r>
                      <a:r>
                        <a:rPr b="0" lang="ru-RU" sz="1900" spc="-1" strike="noStrike">
                          <a:solidFill>
                            <a:srgbClr val="808080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з'яву</a:t>
                      </a:r>
                      <a:r>
                        <a:rPr b="0" lang="ru-RU" sz="1900" spc="-1" strike="noStrike">
                          <a:solidFill>
                            <a:srgbClr val="808080"/>
                          </a:solidFill>
                          <a:latin typeface="Arial Unicode MS"/>
                        </a:rPr>
                        <a:t>, 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бачанне</a:t>
                      </a:r>
                      <a:r>
                        <a:rPr b="0" lang="ru-RU" sz="1900" spc="-1" strike="noStrike">
                          <a:solidFill>
                            <a:srgbClr val="808080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праблемы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Fixedsys"/>
                        </a:rPr>
                        <a:t>    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Fixedsys"/>
                        </a:rPr>
                        <a:t>Прад'яўленне</a:t>
                      </a:r>
                      <a:r>
                        <a:rPr b="0" lang="ru-RU" sz="1900" spc="-1" strike="noStrike">
                          <a:solidFill>
                            <a:srgbClr val="808080"/>
                          </a:solidFill>
                          <a:latin typeface="Fixedsys"/>
                        </a:rPr>
                        <a:t> 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Fixedsys"/>
                        </a:rPr>
                        <a:t>навучэнцам</a:t>
                      </a:r>
                      <a:r>
                        <a:rPr b="0" lang="ru-RU" sz="1900" spc="-1" strike="noStrike">
                          <a:solidFill>
                            <a:srgbClr val="808080"/>
                          </a:solidFill>
                          <a:latin typeface="Fixedsys"/>
                        </a:rPr>
                        <a:t> 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Fixedsys"/>
                        </a:rPr>
                        <a:t>фактаў</a:t>
                      </a:r>
                      <a:r>
                        <a:rPr b="0" lang="ru-RU" sz="1900" spc="-1" strike="noStrike">
                          <a:solidFill>
                            <a:srgbClr val="808080"/>
                          </a:solidFill>
                          <a:latin typeface="Fixedsys"/>
                        </a:rPr>
                        <a:t>, 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Fixedsys"/>
                        </a:rPr>
                        <a:t>супярэчлівай</a:t>
                      </a:r>
                      <a:r>
                        <a:rPr b="0" lang="ru-RU" sz="1900" spc="-1" strike="noStrike">
                          <a:solidFill>
                            <a:srgbClr val="808080"/>
                          </a:solidFill>
                          <a:latin typeface="Fixedsys"/>
                        </a:rPr>
                        <a:t>, 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Fixedsys"/>
                        </a:rPr>
                        <a:t>пры-вабнай</a:t>
                      </a:r>
                      <a:r>
                        <a:rPr b="0" lang="ru-RU" sz="1900" spc="-1" strike="noStrike">
                          <a:solidFill>
                            <a:srgbClr val="808080"/>
                          </a:solidFill>
                          <a:latin typeface="Fixedsys"/>
                        </a:rPr>
                        <a:t> 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Fixedsys"/>
                        </a:rPr>
                        <a:t>інфармацыі</a:t>
                      </a:r>
                      <a:r>
                        <a:rPr b="0" lang="ru-RU" sz="1900" spc="-1" strike="noStrike">
                          <a:solidFill>
                            <a:srgbClr val="808080"/>
                          </a:solidFill>
                          <a:latin typeface="Fixedsys"/>
                        </a:rPr>
                        <a:t>, 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Fixedsys"/>
                        </a:rPr>
                        <a:t>стварэн-не</a:t>
                      </a:r>
                      <a:r>
                        <a:rPr b="0" lang="ru-RU" sz="1900" spc="-1" strike="noStrike">
                          <a:solidFill>
                            <a:srgbClr val="808080"/>
                          </a:solidFill>
                          <a:latin typeface="Fixedsys"/>
                        </a:rPr>
                        <a:t> 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Fixedsys"/>
                        </a:rPr>
                        <a:t>праблемнай</a:t>
                      </a:r>
                      <a:r>
                        <a:rPr b="0" lang="ru-RU" sz="1900" spc="-1" strike="noStrike">
                          <a:solidFill>
                            <a:srgbClr val="808080"/>
                          </a:solidFill>
                          <a:latin typeface="Fixedsys"/>
                        </a:rPr>
                        <a:t> 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Fixedsys"/>
                        </a:rPr>
                        <a:t>сітуацыі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0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«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нкубацыйны</a:t>
                      </a:r>
                      <a:r>
                        <a:rPr b="0" lang="ru-RU" sz="1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ыяд</a:t>
                      </a:r>
                      <a:r>
                        <a:rPr b="0" lang="ru-RU" sz="1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». 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значэнне</a:t>
                      </a:r>
                      <a:r>
                        <a:rPr b="0" lang="ru-RU" sz="1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феры</a:t>
                      </a:r>
                      <a:r>
                        <a:rPr b="0" lang="ru-RU" sz="1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следавання</a:t>
                      </a:r>
                      <a:r>
                        <a:rPr b="0" lang="ru-RU" sz="1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 (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рмулёўка</a:t>
                      </a:r>
                      <a:r>
                        <a:rPr b="0" lang="ru-RU" sz="1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ытанняў</a:t>
                      </a:r>
                      <a:r>
                        <a:rPr b="0" lang="ru-RU" sz="1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, 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</a:t>
                      </a:r>
                      <a:r>
                        <a:rPr b="0" lang="ru-RU" sz="1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кія</a:t>
                      </a:r>
                      <a:r>
                        <a:rPr b="0" lang="ru-RU" sz="1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целася б</a:t>
                      </a:r>
                      <a:r>
                        <a:rPr b="0" lang="ru-RU" sz="1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трымаць</a:t>
                      </a:r>
                      <a:r>
                        <a:rPr b="0" lang="ru-RU" sz="1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казы</a:t>
                      </a:r>
                      <a:r>
                        <a:rPr b="0" lang="ru-RU" sz="1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Fixedsys"/>
                        </a:rPr>
                        <a:t>Ініцыяванне</a:t>
                      </a:r>
                      <a:r>
                        <a:rPr b="0" lang="ru-RU" sz="1900" spc="-1" strike="noStrike">
                          <a:solidFill>
                            <a:srgbClr val="808080"/>
                          </a:solidFill>
                          <a:latin typeface="Fixedsys"/>
                        </a:rPr>
                        <a:t> 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Fixedsys"/>
                        </a:rPr>
                        <a:t>пастаноўкі</a:t>
                      </a:r>
                      <a:r>
                        <a:rPr b="0" lang="ru-RU" sz="1900" spc="-1" strike="noStrike">
                          <a:solidFill>
                            <a:srgbClr val="808080"/>
                          </a:solidFill>
                          <a:latin typeface="Fixedsys"/>
                        </a:rPr>
                        <a:t> 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Fixedsys"/>
                        </a:rPr>
                        <a:t>навучэн-цамі</a:t>
                      </a:r>
                      <a:r>
                        <a:rPr b="0" lang="ru-RU" sz="1900" spc="-1" strike="noStrike">
                          <a:solidFill>
                            <a:srgbClr val="808080"/>
                          </a:solidFill>
                          <a:latin typeface="Fixedsys"/>
                        </a:rPr>
                        <a:t> 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Fixedsys"/>
                        </a:rPr>
                        <a:t>пытанняў</a:t>
                      </a:r>
                      <a:r>
                        <a:rPr b="0" lang="ru-RU" sz="1900" spc="-1" strike="noStrike">
                          <a:solidFill>
                            <a:srgbClr val="808080"/>
                          </a:solidFill>
                          <a:latin typeface="Fixedsys"/>
                        </a:rPr>
                        <a:t>, 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Fixedsys"/>
                        </a:rPr>
                        <a:t>заахвочванне</a:t>
                      </a:r>
                      <a:r>
                        <a:rPr b="0" lang="ru-RU" sz="1900" spc="-1" strike="noStrike">
                          <a:solidFill>
                            <a:srgbClr val="808080"/>
                          </a:solidFill>
                          <a:latin typeface="Fixedsys"/>
                        </a:rPr>
                        <a:t> 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Fixedsys"/>
                        </a:rPr>
                        <a:t>пошуку</a:t>
                      </a:r>
                      <a:r>
                        <a:rPr b="0" lang="ru-RU" sz="1900" spc="-1" strike="noStrike">
                          <a:solidFill>
                            <a:srgbClr val="808080"/>
                          </a:solidFill>
                          <a:latin typeface="Fixedsys"/>
                        </a:rPr>
                        <a:t>, 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Fixedsys"/>
                        </a:rPr>
                        <a:t>дапамога</a:t>
                      </a:r>
                      <a:r>
                        <a:rPr b="0" lang="ru-RU" sz="1900" spc="-1" strike="noStrike">
                          <a:solidFill>
                            <a:srgbClr val="808080"/>
                          </a:solidFill>
                          <a:latin typeface="Fixedsys"/>
                        </a:rPr>
                        <a:t> 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Fixedsys"/>
                        </a:rPr>
                        <a:t>ў</a:t>
                      </a:r>
                      <a:r>
                        <a:rPr b="0" lang="ru-RU" sz="1900" spc="-1" strike="noStrike">
                          <a:solidFill>
                            <a:srgbClr val="808080"/>
                          </a:solidFill>
                          <a:latin typeface="Fixedsys"/>
                        </a:rPr>
                        <a:t> 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Fixedsys"/>
                        </a:rPr>
                        <a:t>самавы-значэнні</a:t>
                      </a:r>
                      <a:r>
                        <a:rPr b="0" lang="ru-RU" sz="1900" spc="-1" strike="noStrike">
                          <a:solidFill>
                            <a:srgbClr val="808080"/>
                          </a:solidFill>
                          <a:latin typeface="Fixedsys"/>
                        </a:rPr>
                        <a:t> 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Fixedsys"/>
                        </a:rPr>
                        <a:t>ў</a:t>
                      </a:r>
                      <a:r>
                        <a:rPr b="0" lang="ru-RU" sz="1900" spc="-1" strike="noStrike">
                          <a:solidFill>
                            <a:srgbClr val="808080"/>
                          </a:solidFill>
                          <a:latin typeface="Fixedsys"/>
                        </a:rPr>
                        <a:t> 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Fixedsys"/>
                        </a:rPr>
                        <a:t>дачыненні</a:t>
                      </a:r>
                      <a:r>
                        <a:rPr b="0" lang="ru-RU" sz="1900" spc="-1" strike="noStrike">
                          <a:solidFill>
                            <a:srgbClr val="808080"/>
                          </a:solidFill>
                          <a:latin typeface="Fixedsys"/>
                        </a:rPr>
                        <a:t> 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Fixedsys"/>
                        </a:rPr>
                        <a:t>аб'екта</a:t>
                      </a:r>
                      <a:r>
                        <a:rPr b="0" lang="ru-RU" sz="1900" spc="-1" strike="noStrike">
                          <a:solidFill>
                            <a:srgbClr val="808080"/>
                          </a:solidFill>
                          <a:latin typeface="Fixedsys"/>
                        </a:rPr>
                        <a:t> 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Fixedsys"/>
                        </a:rPr>
                        <a:t>даследавання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Fixedsys"/>
                        </a:rPr>
                        <a:t>Вызначэнне</a:t>
                      </a:r>
                      <a:r>
                        <a:rPr b="0" lang="ru-RU" sz="1900" spc="-1" strike="noStrike">
                          <a:solidFill>
                            <a:srgbClr val="808080"/>
                          </a:solidFill>
                          <a:latin typeface="Fixedsys"/>
                        </a:rPr>
                        <a:t> 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Fixedsys"/>
                        </a:rPr>
                        <a:t>тэмы</a:t>
                      </a:r>
                      <a:r>
                        <a:rPr b="0" lang="ru-RU" sz="1900" spc="-1" strike="noStrike">
                          <a:solidFill>
                            <a:srgbClr val="808080"/>
                          </a:solidFill>
                          <a:latin typeface="Fixedsys"/>
                        </a:rPr>
                        <a:t> 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Fixedsys"/>
                        </a:rPr>
                        <a:t>даследавання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Fixedsys"/>
                        </a:rPr>
                        <a:t>Дапамога</a:t>
                      </a:r>
                      <a:r>
                        <a:rPr b="0" lang="ru-RU" sz="1900" spc="-1" strike="noStrike">
                          <a:solidFill>
                            <a:srgbClr val="808080"/>
                          </a:solidFill>
                          <a:latin typeface="Fixedsys"/>
                        </a:rPr>
                        <a:t> 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Fixedsys"/>
                        </a:rPr>
                        <a:t>ў</a:t>
                      </a:r>
                      <a:r>
                        <a:rPr b="0" lang="ru-RU" sz="1900" spc="-1" strike="noStrike">
                          <a:solidFill>
                            <a:srgbClr val="808080"/>
                          </a:solidFill>
                          <a:latin typeface="Fixedsys"/>
                        </a:rPr>
                        <a:t> 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Fixedsys"/>
                        </a:rPr>
                        <a:t>вызначэнні</a:t>
                      </a:r>
                      <a:r>
                        <a:rPr b="0" lang="ru-RU" sz="1900" spc="-1" strike="noStrike">
                          <a:solidFill>
                            <a:srgbClr val="808080"/>
                          </a:solidFill>
                          <a:latin typeface="Fixedsys"/>
                        </a:rPr>
                        <a:t> 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Fixedsys"/>
                        </a:rPr>
                        <a:t>прадмета</a:t>
                      </a:r>
                      <a:r>
                        <a:rPr b="0" lang="ru-RU" sz="1900" spc="-1" strike="noStrike">
                          <a:solidFill>
                            <a:srgbClr val="808080"/>
                          </a:solidFill>
                          <a:latin typeface="Fixedsys"/>
                        </a:rPr>
                        <a:t> 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Fixedsys"/>
                        </a:rPr>
                        <a:t>і</a:t>
                      </a:r>
                      <a:r>
                        <a:rPr b="0" lang="ru-RU" sz="1900" spc="-1" strike="noStrike">
                          <a:solidFill>
                            <a:srgbClr val="808080"/>
                          </a:solidFill>
                          <a:latin typeface="Fixedsys"/>
                        </a:rPr>
                        <a:t> 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Fixedsys"/>
                        </a:rPr>
                        <a:t>тэмы</a:t>
                      </a:r>
                      <a:r>
                        <a:rPr b="0" lang="ru-RU" sz="1900" spc="-1" strike="noStrike">
                          <a:solidFill>
                            <a:srgbClr val="808080"/>
                          </a:solidFill>
                          <a:latin typeface="Fixedsys"/>
                        </a:rPr>
                        <a:t> 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Fixedsys"/>
                        </a:rPr>
                        <a:t>даследавання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24000" y="-99360"/>
            <a:ext cx="83883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Этапы даследава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0" y="476280"/>
          <a:ext cx="9109080" cy="6915240"/>
        </p:xfrm>
        <a:graphic>
          <a:graphicData uri="http://schemas.openxmlformats.org/drawingml/2006/table">
            <a:tbl>
              <a:tblPr/>
              <a:tblGrid>
                <a:gridCol w="2941560"/>
                <a:gridCol w="6167520"/>
              </a:tblGrid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станоўка мэты і задач даследава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азанне дапамогі ў фармулёўцы мэты і задач даследава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рацоўка гіпотэзы (гіпотэз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ixedsys"/>
                        </a:rPr>
                        <a:t>Прапанова</a:t>
                      </a: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Fixedsys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ixedsys"/>
                        </a:rPr>
                        <a:t>выказаць</a:t>
                      </a: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Fixedsys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ixedsys"/>
                        </a:rPr>
                        <a:t>думкі</a:t>
                      </a: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Fixedsys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ixedsys"/>
                        </a:rPr>
                        <a:t>пра характар тых</a:t>
                      </a: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Fixedsys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ixedsys"/>
                        </a:rPr>
                        <a:t>залежнасцяў</a:t>
                      </a: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Fixedsys"/>
                        </a:rPr>
                        <a:t>,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ixedsys"/>
                        </a:rPr>
                        <a:t>якія</a:t>
                      </a: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Fixedsys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ixedsys"/>
                        </a:rPr>
                        <a:t>мяркуецца</a:t>
                      </a: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Fixedsys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ixedsys"/>
                        </a:rPr>
                        <a:t>даследаваць, устанавіць пры дапамозе эксперыменту</a:t>
                      </a: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Fixedsys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ixedsys"/>
                        </a:rPr>
                        <a:t>або</a:t>
                      </a: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Fixedsys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ixedsys"/>
                        </a:rPr>
                        <a:t>працы</a:t>
                      </a: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Fixedsys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ixedsys"/>
                        </a:rPr>
                        <a:t>з</a:t>
                      </a: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Fixedsys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ixedsys"/>
                        </a:rPr>
                        <a:t>літаратурай</a:t>
                      </a: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Fixedsys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ixedsys"/>
                        </a:rPr>
                        <a:t>Распрацоўка</a:t>
                      </a: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Fixedsys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ixedsys"/>
                        </a:rPr>
                        <a:t>методыкі</a:t>
                      </a: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Fixedsys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ixedsys"/>
                        </a:rPr>
                        <a:t>правядзення</a:t>
                      </a: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Fixedsys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ixedsys"/>
                        </a:rPr>
                        <a:t>даследавання</a:t>
                      </a: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Fixedsys"/>
                        </a:rPr>
                        <a:t>,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ixedsys"/>
                        </a:rPr>
                        <a:t>стварэнне</a:t>
                      </a: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Fixedsys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ixedsys"/>
                        </a:rPr>
                        <a:t>эксперыментальнай</a:t>
                      </a: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Fixedsys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ixedsys"/>
                        </a:rPr>
                        <a:t>усталёўк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ixedsys"/>
                        </a:rPr>
                        <a:t>Прапаноа</a:t>
                      </a: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Fixedsys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ixedsys"/>
                        </a:rPr>
                        <a:t>навучэнцам</a:t>
                      </a: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Fixedsys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ixedsys"/>
                        </a:rPr>
                        <a:t>розных</a:t>
                      </a: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Fixedsys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ixedsys"/>
                        </a:rPr>
                        <a:t>метадаў</a:t>
                      </a: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Fixedsys"/>
                        </a:rPr>
                        <a:t> вы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ixedsys"/>
                        </a:rPr>
                        <a:t>рашэння</a:t>
                      </a: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Fixedsys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ixedsys"/>
                        </a:rPr>
                        <a:t>задач</a:t>
                      </a: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Fixedsys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ixedsys"/>
                        </a:rPr>
                        <a:t>даследавання</a:t>
                      </a: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Fixedsys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ixedsys"/>
                        </a:rPr>
                        <a:t>Збор</a:t>
                      </a: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Fixedsys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ixedsys"/>
                        </a:rPr>
                        <a:t>і</a:t>
                      </a: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Fixedsys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ixedsys"/>
                        </a:rPr>
                        <a:t>сістэматызацыя</a:t>
                      </a: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Fixedsys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ixedsys"/>
                        </a:rPr>
                        <a:t>атрыманай</a:t>
                      </a: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Fixedsys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ixedsys"/>
                        </a:rPr>
                        <a:t>інфармацыі</a:t>
                      </a: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Fixedsys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ixedsys"/>
                        </a:rPr>
                        <a:t>Дапамога</a:t>
                      </a: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Fixedsys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ixedsys"/>
                        </a:rPr>
                        <a:t>навучэнцам</a:t>
                      </a: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Fixedsys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ixedsys"/>
                        </a:rPr>
                        <a:t>у</a:t>
                      </a: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Fixedsys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ixedsys"/>
                        </a:rPr>
                        <a:t>аналізе</a:t>
                      </a: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Fixedsys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ixedsys"/>
                        </a:rPr>
                        <a:t>розных</a:t>
                      </a: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Fixedsys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ixedsys"/>
                        </a:rPr>
                        <a:t>пунктаў гл</a:t>
                      </a:r>
                      <a:r>
                        <a:rPr b="0" lang="be-BY" sz="1400" spc="-1" strike="noStrike">
                          <a:solidFill>
                            <a:srgbClr val="000000"/>
                          </a:solidFill>
                          <a:latin typeface="Fixedsys"/>
                        </a:rPr>
                        <a:t>еджання</a:t>
                      </a: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Fixedsys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ixedsys"/>
                        </a:rPr>
                        <a:t>ў</a:t>
                      </a: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Fixedsys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ixedsys"/>
                        </a:rPr>
                        <a:t>літаратуры</a:t>
                      </a: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Fixedsys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ixedsys"/>
                        </a:rPr>
                        <a:t>на</a:t>
                      </a: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Fixedsys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ixedsys"/>
                        </a:rPr>
                        <a:t>праблему даследвання</a:t>
                      </a: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Fixedsys"/>
                        </a:rPr>
                        <a:t>,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ixedsys"/>
                        </a:rPr>
                        <a:t>фармулёўцы</a:t>
                      </a: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Fixedsys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ixedsys"/>
                        </a:rPr>
                        <a:t>ўласнага</a:t>
                      </a: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Fixedsys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ixedsys"/>
                        </a:rPr>
                        <a:t>бачання</a:t>
                      </a: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Fixedsys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ixedsys"/>
                        </a:rPr>
                        <a:t>прабле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ixedsys"/>
                        </a:rPr>
                        <a:t>Аналіз</a:t>
                      </a: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Fixedsys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ixedsys"/>
                        </a:rPr>
                        <a:t>і</a:t>
                      </a: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Fixedsys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ixedsys"/>
                        </a:rPr>
                        <a:t>абагульненне</a:t>
                      </a: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Fixedsys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ixedsys"/>
                        </a:rPr>
                        <a:t>дадзеных</a:t>
                      </a: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Fixedsys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ixedsys"/>
                        </a:rPr>
                        <a:t>і</a:t>
                      </a: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Fixedsys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ixedsys"/>
                        </a:rPr>
                        <a:t>матэрыялаў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пава розных падыходаў,  схем, шаблонаў для абагульнення інфармацыі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дрыхтоўка справаздач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ixedsys"/>
                        </a:rPr>
                        <a:t>Кансультаванне</a:t>
                      </a: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Fixedsys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ixedsys"/>
                        </a:rPr>
                        <a:t>па</a:t>
                      </a: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Fixedsys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ixedsys"/>
                        </a:rPr>
                        <a:t>падрыхтоўцы</a:t>
                      </a: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Fixedsys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ixedsys"/>
                        </a:rPr>
                        <a:t>справаздачы</a:t>
                      </a: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Fixedsys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ixedsys"/>
                        </a:rPr>
                        <a:t>і</a:t>
                      </a: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Fixedsys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ixedsys"/>
                        </a:rPr>
                        <a:t>публічнай</a:t>
                      </a: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Fixedsys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ixedsys"/>
                        </a:rPr>
                        <a:t>абароне</a:t>
                      </a: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Fixedsys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ixedsys"/>
                        </a:rPr>
                        <a:t>даследавання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эзентацыя і абарона вынікаў даследаванняў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памога і падтрымка напярэданні абаро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эфлексі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ганізацыя рэфлексі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бмеркаванне ходу і атрыманых вынікаў 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ганізацыя рэфлексі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611280" y="56228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Справаздача аб даследаванн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ытульны ліст (аўтар, тэма, школа, жанр працы, кіраўнік, го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м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одзіны (праблема, актуальнасць, прадмет, мэта, гіпотэза, задачы, этап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сноўная частка (раздзелы або параграфы): тэорыя пытання (што ўжо вядома, месца пытання ў шырэйшым кантэксце, змест даследавання); практыка (ход даследавання, апрацоўка і інтэрпрэтацыя атрыманых вынікаў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новы (высновы па кожнай задач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іс выкарыстаных крыніц (літаратура, інтэрнэ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даткі (калі трэб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Тэмы даследавання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ixedsys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Fixedsys"/>
              </a:rPr>
              <a:t>- эмпірычныя</a:t>
            </a:r>
            <a:r>
              <a:rPr b="0" lang="ru-RU" sz="24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400" spc="-1" strike="noStrike">
                <a:solidFill>
                  <a:srgbClr val="80808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эмы</a:t>
            </a:r>
            <a:r>
              <a:rPr b="0" lang="ru-RU" sz="2400" spc="-1" strike="noStrike">
                <a:solidFill>
                  <a:srgbClr val="80808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кія прадугледжваюць</a:t>
            </a:r>
            <a:r>
              <a:rPr b="0" lang="ru-RU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ядзенне</a:t>
            </a:r>
            <a:r>
              <a:rPr b="0" lang="ru-RU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ўласных</a:t>
            </a:r>
            <a:r>
              <a:rPr b="0" lang="ru-RU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іранняў</a:t>
            </a:r>
            <a:r>
              <a:rPr b="0" lang="ru-RU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0" lang="ru-RU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сперыментаў</a:t>
            </a:r>
            <a:r>
              <a:rPr b="0" lang="ru-RU" sz="2400" spc="-1" strike="noStrike">
                <a:solidFill>
                  <a:srgbClr val="808080"/>
                </a:solidFill>
                <a:latin typeface="Arial"/>
              </a:rPr>
              <a:t>;         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ixedsys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Fixedsys"/>
              </a:rPr>
              <a:t>- тэарэтычныя</a:t>
            </a:r>
            <a:r>
              <a:rPr b="0" lang="ru-RU" sz="24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400" spc="-1" strike="noStrike">
                <a:solidFill>
                  <a:srgbClr val="80808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этая група тэм, арыентаваная на вывучэнне</a:t>
            </a:r>
            <a:r>
              <a:rPr b="0" lang="ru-RU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0" lang="ru-RU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багульненне</a:t>
            </a:r>
            <a:r>
              <a:rPr b="0" lang="ru-RU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ктаў</a:t>
            </a:r>
            <a:r>
              <a:rPr b="0" lang="ru-RU" sz="2400" spc="-1" strike="noStrike">
                <a:solidFill>
                  <a:srgbClr val="80808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тэрыялаў</a:t>
            </a:r>
            <a:r>
              <a:rPr b="0" lang="ru-RU" sz="2400" spc="-1" strike="noStrike">
                <a:solidFill>
                  <a:srgbClr val="80808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кія змяшчаюцца</a:t>
            </a:r>
            <a:r>
              <a:rPr b="0" lang="ru-RU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ў</a:t>
            </a:r>
            <a:r>
              <a:rPr b="0" lang="ru-RU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зных</a:t>
            </a:r>
            <a:r>
              <a:rPr b="0" lang="ru-RU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ыніцах</a:t>
            </a:r>
            <a:r>
              <a:rPr b="0" lang="ru-RU" sz="2400" spc="-1" strike="noStrike">
                <a:solidFill>
                  <a:srgbClr val="80808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эта</a:t>
            </a:r>
            <a:r>
              <a:rPr b="0" lang="ru-RU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е, пра што</a:t>
            </a:r>
            <a:r>
              <a:rPr b="0" lang="ru-RU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а</a:t>
            </a:r>
            <a:r>
              <a:rPr b="0" lang="ru-RU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ытацца ў</a:t>
            </a:r>
            <a:r>
              <a:rPr b="0" lang="ru-RU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іншых</a:t>
            </a:r>
            <a:r>
              <a:rPr b="0" lang="ru-RU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дзей</a:t>
            </a:r>
            <a:r>
              <a:rPr b="0" lang="ru-RU" sz="2400" spc="-1" strike="noStrike">
                <a:solidFill>
                  <a:srgbClr val="80808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эта</a:t>
            </a:r>
            <a:r>
              <a:rPr b="0" lang="ru-RU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е, што</a:t>
            </a:r>
            <a:r>
              <a:rPr b="0" lang="ru-RU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ісана</a:t>
            </a:r>
            <a:r>
              <a:rPr b="0" lang="ru-RU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ў</a:t>
            </a:r>
            <a:r>
              <a:rPr b="0" lang="ru-RU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нігах</a:t>
            </a:r>
            <a:r>
              <a:rPr b="0" lang="ru-RU" sz="2400" spc="-1" strike="noStrike">
                <a:solidFill>
                  <a:srgbClr val="80808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0" lang="ru-RU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інш</a:t>
            </a:r>
            <a:r>
              <a:rPr b="0" lang="ru-RU" sz="2400" spc="-1" strike="noStrike">
                <a:solidFill>
                  <a:srgbClr val="80808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000" spc="-1" strike="noStrike">
                <a:solidFill>
                  <a:srgbClr val="ff3300"/>
                </a:solidFill>
                <a:latin typeface="Arial"/>
              </a:rPr>
              <a:t>Рэкамендацыі</a:t>
            </a: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по выбару тэмы даследаван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эма павінна быць цікавая вучню, павінна захапляць я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эма павінна быць выканальная, вырашэнне яе павінна прынесці рэальную карысць удзельнікам даследаванн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эма павінна быць арыгінальнай, у ёй неабходны элемент нечаканасці, незвычайнасці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эма павінна быць такой, каб работа магла быць выкананая адносна хут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эма павінна адпавядаць узроставым асаблівасцям дзяцей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эма павінна вызначацца з улікам наяўных рэсурсаў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400" spc="-1" strike="noStrike">
                <a:solidFill>
                  <a:srgbClr val="ff3300"/>
                </a:solidFill>
                <a:latin typeface="Arial"/>
              </a:rPr>
              <a:t>Змест</a:t>
            </a: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 лекцы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нні ўдзельнікам курса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няцце даследчай дзейнасці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ектаванне і даследаван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вукова-даследчая або навучальна-даследчая дзейнасць вучняў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следчыя навык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ынцыпы арганізацыі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вучэнца</a:t>
            </a:r>
            <a:r>
              <a:rPr b="0" i="1" lang="be-BY" sz="2400" spc="-1" strike="noStrike">
                <a:solidFill>
                  <a:srgbClr val="000000"/>
                </a:solidFill>
                <a:latin typeface="Arial"/>
              </a:rPr>
              <a:t>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апы даследава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раваздача аб даследаванн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б выбары тэмы даследава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бмежаванні на ўжыванне тэхналогіі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ітар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Магчымыя тэмы даследавання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Індэкс цытавання навукоўцаў-фізікаў Беларусі і краінаў Балты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ізічныя паняцці ў мастацкай літара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следаванне праводнасці сумесі правадніка і  дыэлектры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следаванне з'явы змочван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следаванне з'явы гістэрэзіс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следаванне размеркавання энергіі ў спектры лямпаў напальвання і энергазберагальнай  лям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следаванне ўплыву электрастатычнага поля на тум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следаванне эквіпатэнцыяльных паверхняў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ўленне навучэнцаў школы да энергазберажэння і іх уменні ашчадна карыстацца энергія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Магчымыя тэмы даследавання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8200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ум у школе і яго ўплыў на здароўе і самаадчуванне вучняў і настаўнікаў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ынаміка спажывання электрычнай энергіі ў сям'і на працягу тыд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ыднёвы расход электраэнергіі ў летні і зімовы ча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ыднёвы расход электраэнергіі ў беларускай і нямецкай сем'ях з 4-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чала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лежнасць  хуткасці награвання вады на сонцы ад розных умоў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сноўныя энергафагі ў дом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ход гарачай вады ў доме (кватэры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ход гарачай і халоднай вады пры мыцці ў ванне і душ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абы эканоміі  энергіі ў маім до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абы памяншэння сямейнай сметні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147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Магчымыя тэмы даследавання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Fixedsy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Fixedsys"/>
              </a:rPr>
              <a:t>Цеплавы</a:t>
            </a:r>
            <a:r>
              <a:rPr b="0" lang="ru-RU" sz="26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Fixedsys"/>
              </a:rPr>
              <a:t>стан</a:t>
            </a:r>
            <a:r>
              <a:rPr b="0" lang="ru-RU" sz="26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Fixedsys"/>
              </a:rPr>
              <a:t>школьнага</a:t>
            </a:r>
            <a:r>
              <a:rPr b="0" lang="ru-RU" sz="26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Fixedsys"/>
              </a:rPr>
              <a:t>будынка</a:t>
            </a:r>
            <a:r>
              <a:rPr b="0" lang="ru-RU" sz="2600" spc="-1" strike="noStrike">
                <a:solidFill>
                  <a:srgbClr val="808080"/>
                </a:solidFill>
                <a:latin typeface="Fixedsy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Fixedsy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Fixedsys"/>
              </a:rPr>
              <a:t>Што</a:t>
            </a:r>
            <a:r>
              <a:rPr b="0" lang="ru-RU" sz="26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Fixedsys"/>
              </a:rPr>
              <a:t>патрабуе больш выдаткаў</a:t>
            </a:r>
            <a:r>
              <a:rPr b="0" lang="ru-RU" sz="26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Fixedsys"/>
              </a:rPr>
              <a:t>для</a:t>
            </a:r>
            <a:r>
              <a:rPr b="0" lang="ru-RU" sz="26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Fixedsys"/>
              </a:rPr>
              <a:t>спажыўца</a:t>
            </a:r>
            <a:r>
              <a:rPr b="0" lang="ru-RU" sz="2600" spc="-1" strike="noStrike">
                <a:solidFill>
                  <a:srgbClr val="808080"/>
                </a:solidFill>
                <a:latin typeface="Fixedsys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Fixedsys"/>
              </a:rPr>
              <a:t>выкарыстанне</a:t>
            </a:r>
            <a:r>
              <a:rPr b="0" lang="ru-RU" sz="26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Fixedsys"/>
              </a:rPr>
              <a:t>аднаразовых</a:t>
            </a:r>
            <a:r>
              <a:rPr b="0" lang="ru-RU" sz="26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Fixedsys"/>
              </a:rPr>
              <a:t>пластмасавых</a:t>
            </a:r>
            <a:r>
              <a:rPr b="0" lang="ru-RU" sz="2600" spc="-1" strike="noStrike">
                <a:solidFill>
                  <a:srgbClr val="808080"/>
                </a:solidFill>
                <a:latin typeface="Fixedsys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Fixedsys"/>
              </a:rPr>
              <a:t>кубачкаў ці </a:t>
            </a:r>
            <a:r>
              <a:rPr b="0" lang="ru-RU" sz="26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Fixedsys"/>
              </a:rPr>
              <a:t>шматразовых</a:t>
            </a:r>
            <a:r>
              <a:rPr b="0" lang="ru-RU" sz="2600" spc="-1" strike="noStrike">
                <a:solidFill>
                  <a:srgbClr val="808080"/>
                </a:solidFill>
                <a:latin typeface="Fixedsys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Fixedsys"/>
              </a:rPr>
              <a:t>шкляных</a:t>
            </a:r>
            <a:r>
              <a:rPr b="0" lang="ru-RU" sz="2600" spc="-1" strike="noStrike">
                <a:solidFill>
                  <a:srgbClr val="808080"/>
                </a:solidFill>
                <a:latin typeface="Fixedsys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Fixedsys"/>
              </a:rPr>
              <a:t>пластмасавых</a:t>
            </a:r>
            <a:r>
              <a:rPr b="0" lang="ru-RU" sz="2600" spc="-1" strike="noStrike">
                <a:solidFill>
                  <a:srgbClr val="808080"/>
                </a:solidFill>
                <a:latin typeface="Fixedsys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Fixedsys"/>
              </a:rPr>
              <a:t>керамічных</a:t>
            </a:r>
            <a:r>
              <a:rPr b="0" lang="ru-RU" sz="2600" spc="-1" strike="noStrike">
                <a:solidFill>
                  <a:srgbClr val="808080"/>
                </a:solidFill>
                <a:latin typeface="Fixedsy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Fixedsy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Fixedsys"/>
              </a:rPr>
              <a:t>Выбар</a:t>
            </a:r>
            <a:r>
              <a:rPr b="0" lang="ru-RU" sz="26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Fixedsys"/>
              </a:rPr>
              <a:t>эканамічна</a:t>
            </a:r>
            <a:r>
              <a:rPr b="0" lang="ru-RU" sz="26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Fixedsys"/>
              </a:rPr>
              <a:t>выгоднага</a:t>
            </a:r>
            <a:r>
              <a:rPr b="0" lang="ru-RU" sz="26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Fixedsys"/>
              </a:rPr>
              <a:t>паліва</a:t>
            </a:r>
            <a:r>
              <a:rPr b="0" lang="ru-RU" sz="26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Fixedsys"/>
              </a:rPr>
              <a:t>для</a:t>
            </a:r>
            <a:r>
              <a:rPr b="0" lang="ru-RU" sz="26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Fixedsys"/>
              </a:rPr>
              <a:t>выкарыстання</a:t>
            </a:r>
            <a:r>
              <a:rPr b="0" lang="ru-RU" sz="26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Fixedsys"/>
              </a:rPr>
              <a:t>ва</a:t>
            </a:r>
            <a:r>
              <a:rPr b="0" lang="ru-RU" sz="26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Fixedsys"/>
              </a:rPr>
              <a:t>ўмовах</a:t>
            </a:r>
            <a:r>
              <a:rPr b="0" lang="ru-RU" sz="26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Fixedsys"/>
              </a:rPr>
              <a:t>пэўнага</a:t>
            </a:r>
            <a:r>
              <a:rPr b="0" lang="ru-RU" sz="26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Fixedsys"/>
              </a:rPr>
              <a:t>рэгіёна</a:t>
            </a:r>
            <a:r>
              <a:rPr b="0" lang="ru-RU" sz="2600" spc="-1" strike="noStrike">
                <a:solidFill>
                  <a:srgbClr val="808080"/>
                </a:solidFill>
                <a:latin typeface="Fixedsy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Fixedsy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Fixedsys"/>
              </a:rPr>
              <a:t>Магчымасці</a:t>
            </a:r>
            <a:r>
              <a:rPr b="0" lang="ru-RU" sz="26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Fixedsys"/>
              </a:rPr>
              <a:t>Беларусі</a:t>
            </a:r>
            <a:r>
              <a:rPr b="0" lang="ru-RU" sz="26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Fixedsys"/>
              </a:rPr>
              <a:t>для</a:t>
            </a:r>
            <a:r>
              <a:rPr b="0" lang="ru-RU" sz="26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Fixedsys"/>
              </a:rPr>
              <a:t>атрымання</a:t>
            </a:r>
            <a:r>
              <a:rPr b="0" lang="ru-RU" sz="26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Fixedsys"/>
              </a:rPr>
              <a:t>энергіі</a:t>
            </a:r>
            <a:r>
              <a:rPr b="0" lang="ru-RU" sz="26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Fixedsys"/>
              </a:rPr>
              <a:t>з</a:t>
            </a:r>
            <a:r>
              <a:rPr b="0" lang="ru-RU" sz="26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Fixedsys"/>
              </a:rPr>
              <a:t>дапамогай</a:t>
            </a:r>
            <a:r>
              <a:rPr b="0" lang="ru-RU" sz="26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Fixedsys"/>
              </a:rPr>
              <a:t>ветра</a:t>
            </a:r>
            <a:r>
              <a:rPr b="0" lang="ru-RU" sz="2600" spc="-1" strike="noStrike">
                <a:solidFill>
                  <a:srgbClr val="808080"/>
                </a:solidFill>
                <a:latin typeface="Fixedsys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Fixedsy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Fixedsys"/>
              </a:rPr>
              <a:t>Структура</a:t>
            </a:r>
            <a:r>
              <a:rPr b="0" lang="ru-RU" sz="2600" spc="-1" strike="noStrike">
                <a:solidFill>
                  <a:srgbClr val="808080"/>
                </a:solidFill>
                <a:latin typeface="Fixedsys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Fixedsys"/>
              </a:rPr>
              <a:t>вытворчасці</a:t>
            </a:r>
            <a:r>
              <a:rPr b="0" lang="ru-RU" sz="26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Fixedsys"/>
              </a:rPr>
              <a:t>і</a:t>
            </a:r>
            <a:r>
              <a:rPr b="0" lang="ru-RU" sz="26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Fixedsys"/>
              </a:rPr>
              <a:t>спажывання</a:t>
            </a:r>
            <a:r>
              <a:rPr b="0" lang="ru-RU" sz="26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Fixedsys"/>
              </a:rPr>
              <a:t>электраэнергіі</a:t>
            </a:r>
            <a:r>
              <a:rPr b="0" lang="ru-RU" sz="26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Fixedsys"/>
              </a:rPr>
              <a:t>ў</a:t>
            </a:r>
            <a:r>
              <a:rPr b="0" lang="ru-RU" sz="26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Fixedsys"/>
              </a:rPr>
              <a:t>вызначаным</a:t>
            </a:r>
            <a:r>
              <a:rPr b="0" lang="ru-RU" sz="26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Fixedsys"/>
              </a:rPr>
              <a:t>раёне</a:t>
            </a:r>
            <a:r>
              <a:rPr b="0" lang="ru-RU" sz="2600" spc="-1" strike="noStrike">
                <a:solidFill>
                  <a:srgbClr val="808080"/>
                </a:solidFill>
                <a:latin typeface="Fixedsy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Fixedsy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Fixedsys"/>
              </a:rPr>
              <a:t>Негатыўныя</a:t>
            </a:r>
            <a:r>
              <a:rPr b="0" lang="ru-RU" sz="26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Fixedsys"/>
              </a:rPr>
              <a:t>ўплывы</a:t>
            </a:r>
            <a:r>
              <a:rPr b="0" lang="ru-RU" sz="26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Fixedsys"/>
              </a:rPr>
              <a:t>на</a:t>
            </a:r>
            <a:r>
              <a:rPr b="0" lang="ru-RU" sz="26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Fixedsys"/>
              </a:rPr>
              <a:t>навакольнае асяроддзе</a:t>
            </a:r>
            <a:r>
              <a:rPr b="0" lang="ru-RU" sz="26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Fixedsys"/>
              </a:rPr>
              <a:t>з</a:t>
            </a:r>
            <a:r>
              <a:rPr b="0" lang="ru-RU" sz="26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Fixedsys"/>
              </a:rPr>
              <a:t>розных</a:t>
            </a:r>
            <a:r>
              <a:rPr b="0" lang="ru-RU" sz="26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Fixedsys"/>
              </a:rPr>
              <a:t>відаў</a:t>
            </a:r>
            <a:r>
              <a:rPr b="0" lang="ru-RU" sz="26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Fixedsys"/>
              </a:rPr>
              <a:t>паліва</a:t>
            </a:r>
            <a:r>
              <a:rPr b="0" lang="ru-RU" sz="2600" spc="-1" strike="noStrike">
                <a:solidFill>
                  <a:srgbClr val="808080"/>
                </a:solidFill>
                <a:latin typeface="Fixedsy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Fixedsy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Fixedsys"/>
              </a:rPr>
              <a:t>Характар</a:t>
            </a:r>
            <a:r>
              <a:rPr b="0" lang="ru-RU" sz="2600" spc="-1" strike="noStrike">
                <a:solidFill>
                  <a:srgbClr val="808080"/>
                </a:solidFill>
                <a:latin typeface="Fixedsys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Fixedsys"/>
              </a:rPr>
              <a:t>змены</a:t>
            </a:r>
            <a:r>
              <a:rPr b="0" lang="ru-RU" sz="26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Fixedsys"/>
              </a:rPr>
              <a:t>клімату</a:t>
            </a:r>
            <a:r>
              <a:rPr b="0" lang="ru-RU" sz="26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Fixedsys"/>
              </a:rPr>
              <a:t>ў</a:t>
            </a:r>
            <a:r>
              <a:rPr b="0" lang="ru-RU" sz="26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Fixedsys"/>
              </a:rPr>
              <a:t>рэгіёне</a:t>
            </a:r>
            <a:r>
              <a:rPr b="0" lang="ru-RU" sz="2600" spc="-1" strike="noStrike">
                <a:solidFill>
                  <a:srgbClr val="808080"/>
                </a:solidFill>
                <a:latin typeface="Fixedsy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Магчымыя тэмы даследавання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ажыванне розных відаў паліва  на душу насельніцтва ў Беларусі і Нямеччы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свед рэсурсазберажэння ў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лежнасць удзельнай магутнасці сонечнага выпраменьвання ад часу д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ўтаматызацыя ўключэння і адключэння электрычнасці як спосаб эканоміі электраэнергі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спектыўныя кірункі развіцця энергетыкі ў рэгіё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следаванне эфектыўнасці біягазавай усталёўк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страномі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лыў зменаў фаз Месяца на здароўе людз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вуковая фантастыка і астранамічныя адкрыцц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эорны паток Персеіды ў 2009 годз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Абмежаванні на ўжыванне тэхналогіі  даследчага навучан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імкненне чалавека да стабільнасці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цаёмістасц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дастатковасць навучальнага час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аданне настаўнікаў не павялічваць перагрузку лепшых вучняў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абое валоданне шматлікімі навучэнцамі даследчымі ўменням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ізкая ступень развіцця ў шматлікіх навучэнцаў важных псіхічных якасце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Важныя для даследчай дзейнасці псіхічныя якасц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Fixedsys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Fixedsys"/>
              </a:rPr>
              <a:t>цікаўнасць</a:t>
            </a:r>
            <a:r>
              <a:rPr b="0" lang="ru-RU" sz="2600" spc="-1" strike="noStrike">
                <a:solidFill>
                  <a:srgbClr val="808080"/>
                </a:solidFill>
                <a:latin typeface="Fixedsys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Fixedsys"/>
              </a:rPr>
              <a:t>дапытлівасць</a:t>
            </a:r>
            <a:r>
              <a:rPr b="0" lang="ru-RU" sz="2600" spc="-1" strike="noStrike">
                <a:solidFill>
                  <a:srgbClr val="808080"/>
                </a:solidFill>
                <a:latin typeface="Fixedsys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Fixedsys"/>
              </a:rPr>
              <a:t>патрэба ў спазнанні</a:t>
            </a:r>
            <a:r>
              <a:rPr b="0" lang="ru-RU" sz="2600" spc="-1" strike="noStrike">
                <a:solidFill>
                  <a:srgbClr val="808080"/>
                </a:solidFill>
                <a:latin typeface="Fixedsys"/>
              </a:rPr>
              <a:t>; </a:t>
            </a:r>
            <a:r>
              <a:rPr b="0" lang="ru-RU" sz="2600" spc="-1" strike="noStrike">
                <a:solidFill>
                  <a:srgbClr val="000000"/>
                </a:solidFill>
                <a:latin typeface="Fixedsys"/>
              </a:rPr>
              <a:t>адчувальнасць</a:t>
            </a:r>
            <a:r>
              <a:rPr b="0" lang="ru-RU" sz="26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Fixedsys"/>
              </a:rPr>
              <a:t>да</a:t>
            </a:r>
            <a:r>
              <a:rPr b="0" lang="ru-RU" sz="26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Fixedsys"/>
              </a:rPr>
              <a:t>праблем</a:t>
            </a:r>
            <a:r>
              <a:rPr b="0" lang="ru-RU" sz="2600" spc="-1" strike="noStrike">
                <a:solidFill>
                  <a:srgbClr val="808080"/>
                </a:solidFill>
                <a:latin typeface="Fixedsys"/>
              </a:rPr>
              <a:t>; </a:t>
            </a:r>
            <a:r>
              <a:rPr b="0" lang="ru-RU" sz="2600" spc="-1" strike="noStrike">
                <a:solidFill>
                  <a:srgbClr val="000000"/>
                </a:solidFill>
                <a:latin typeface="Fixedsys"/>
              </a:rPr>
              <a:t>здольнасць</a:t>
            </a:r>
            <a:r>
              <a:rPr b="0" lang="ru-RU" sz="26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Fixedsys"/>
              </a:rPr>
              <a:t>працягваць</a:t>
            </a:r>
            <a:r>
              <a:rPr b="0" lang="ru-RU" sz="26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Fixedsys"/>
              </a:rPr>
              <a:t>пошук</a:t>
            </a:r>
            <a:r>
              <a:rPr b="0" lang="ru-RU" sz="2600" spc="-1" strike="noStrike">
                <a:solidFill>
                  <a:srgbClr val="808080"/>
                </a:solidFill>
                <a:latin typeface="Fixedsys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Fixedsys"/>
              </a:rPr>
              <a:t>калі</a:t>
            </a:r>
            <a:r>
              <a:rPr b="0" lang="ru-RU" sz="26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Fixedsys"/>
              </a:rPr>
              <a:t>задача</a:t>
            </a:r>
            <a:r>
              <a:rPr b="0" lang="ru-RU" sz="26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Fixedsys"/>
              </a:rPr>
              <a:t>ўжо</a:t>
            </a:r>
            <a:r>
              <a:rPr b="0" lang="ru-RU" sz="26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Fixedsys"/>
              </a:rPr>
              <a:t>вырашаная</a:t>
            </a:r>
            <a:r>
              <a:rPr b="0" lang="ru-RU" sz="2600" spc="-1" strike="noStrike">
                <a:solidFill>
                  <a:srgbClr val="808080"/>
                </a:solidFill>
                <a:latin typeface="Fixedsys"/>
              </a:rPr>
              <a:t>; </a:t>
            </a:r>
            <a:r>
              <a:rPr b="0" lang="ru-RU" sz="2600" spc="-1" strike="noStrike">
                <a:solidFill>
                  <a:srgbClr val="000000"/>
                </a:solidFill>
                <a:latin typeface="Fixedsys"/>
              </a:rPr>
              <a:t>уменне</a:t>
            </a:r>
            <a:r>
              <a:rPr b="0" lang="ru-RU" sz="26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Fixedsys"/>
              </a:rPr>
              <a:t>лагічна</a:t>
            </a:r>
            <a:r>
              <a:rPr b="0" lang="ru-RU" sz="26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Fixedsys"/>
              </a:rPr>
              <a:t>мысліць</a:t>
            </a:r>
            <a:r>
              <a:rPr b="0" lang="ru-RU" sz="2600" spc="-1" strike="noStrike">
                <a:solidFill>
                  <a:srgbClr val="808080"/>
                </a:solidFill>
                <a:latin typeface="Fixedsys"/>
              </a:rPr>
              <a:t>; </a:t>
            </a:r>
            <a:r>
              <a:rPr b="0" lang="ru-RU" sz="2600" spc="-1" strike="noStrike">
                <a:solidFill>
                  <a:srgbClr val="000000"/>
                </a:solidFill>
                <a:latin typeface="Fixedsys"/>
              </a:rPr>
              <a:t>падвышаная</a:t>
            </a:r>
            <a:r>
              <a:rPr b="0" lang="ru-RU" sz="26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Fixedsys"/>
              </a:rPr>
              <a:t>цікавасць</a:t>
            </a:r>
            <a:r>
              <a:rPr b="0" lang="ru-RU" sz="26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Fixedsys"/>
              </a:rPr>
              <a:t>да</a:t>
            </a:r>
            <a:r>
              <a:rPr b="0" lang="ru-RU" sz="26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Fixedsys"/>
              </a:rPr>
              <a:t>адкрытых</a:t>
            </a:r>
            <a:r>
              <a:rPr b="0" lang="ru-RU" sz="26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Fixedsys"/>
              </a:rPr>
              <a:t>задач</a:t>
            </a:r>
            <a:r>
              <a:rPr b="0" lang="ru-RU" sz="2600" spc="-1" strike="noStrike">
                <a:solidFill>
                  <a:srgbClr val="808080"/>
                </a:solidFill>
                <a:latin typeface="Fixedsys"/>
              </a:rPr>
              <a:t>; </a:t>
            </a:r>
            <a:r>
              <a:rPr b="0" lang="ru-RU" sz="2600" spc="-1" strike="noStrike">
                <a:solidFill>
                  <a:srgbClr val="000000"/>
                </a:solidFill>
                <a:latin typeface="Fixedsys"/>
              </a:rPr>
              <a:t>арыгінальнасць</a:t>
            </a:r>
            <a:r>
              <a:rPr b="0" lang="ru-RU" sz="26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Fixedsys"/>
              </a:rPr>
              <a:t>і</a:t>
            </a:r>
            <a:r>
              <a:rPr b="0" lang="ru-RU" sz="26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Fixedsys"/>
              </a:rPr>
              <a:t>гнуткасць</a:t>
            </a:r>
            <a:r>
              <a:rPr b="0" lang="ru-RU" sz="26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Fixedsys"/>
              </a:rPr>
              <a:t>мыслення</a:t>
            </a:r>
            <a:r>
              <a:rPr b="0" lang="ru-RU" sz="2600" spc="-1" strike="noStrike">
                <a:solidFill>
                  <a:srgbClr val="808080"/>
                </a:solidFill>
                <a:latin typeface="Fixedsys"/>
              </a:rPr>
              <a:t>; </a:t>
            </a:r>
            <a:r>
              <a:rPr b="0" lang="ru-RU" sz="2600" spc="-1" strike="noStrike">
                <a:solidFill>
                  <a:srgbClr val="000000"/>
                </a:solidFill>
                <a:latin typeface="Fixedsys"/>
              </a:rPr>
              <a:t>лёгкасць</a:t>
            </a:r>
            <a:r>
              <a:rPr b="0" lang="ru-RU" sz="26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Fixedsys"/>
              </a:rPr>
              <a:t>генерацыі</a:t>
            </a:r>
            <a:r>
              <a:rPr b="0" lang="ru-RU" sz="26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Fixedsys"/>
              </a:rPr>
              <a:t>ідэй</a:t>
            </a:r>
            <a:r>
              <a:rPr b="0" lang="ru-RU" sz="2600" spc="-1" strike="noStrike">
                <a:solidFill>
                  <a:srgbClr val="808080"/>
                </a:solidFill>
                <a:latin typeface="Fixedsys"/>
              </a:rPr>
              <a:t>; </a:t>
            </a:r>
            <a:r>
              <a:rPr b="0" lang="ru-RU" sz="2600" spc="-1" strike="noStrike">
                <a:solidFill>
                  <a:srgbClr val="000000"/>
                </a:solidFill>
                <a:latin typeface="Fixedsys"/>
              </a:rPr>
              <a:t>здольнасць</a:t>
            </a:r>
            <a:r>
              <a:rPr b="0" lang="ru-RU" sz="26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Fixedsys"/>
              </a:rPr>
              <a:t>знаходзіць</a:t>
            </a:r>
            <a:r>
              <a:rPr b="0" lang="ru-RU" sz="26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Fixedsys"/>
              </a:rPr>
              <a:t>асацыяцыі</a:t>
            </a:r>
            <a:r>
              <a:rPr b="0" lang="ru-RU" sz="2600" spc="-1" strike="noStrike">
                <a:solidFill>
                  <a:srgbClr val="808080"/>
                </a:solidFill>
                <a:latin typeface="Fixedsys"/>
              </a:rPr>
              <a:t>; </a:t>
            </a:r>
            <a:r>
              <a:rPr b="0" lang="ru-RU" sz="2600" spc="-1" strike="noStrike">
                <a:solidFill>
                  <a:srgbClr val="000000"/>
                </a:solidFill>
                <a:latin typeface="Fixedsys"/>
              </a:rPr>
              <a:t>здольнасць</a:t>
            </a:r>
            <a:r>
              <a:rPr b="0" lang="ru-RU" sz="26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Fixedsys"/>
              </a:rPr>
              <a:t>да</a:t>
            </a:r>
            <a:r>
              <a:rPr b="0" lang="ru-RU" sz="26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Fixedsys"/>
              </a:rPr>
              <a:t>прагназавання</a:t>
            </a:r>
            <a:r>
              <a:rPr b="0" lang="ru-RU" sz="2600" spc="-1" strike="noStrike">
                <a:solidFill>
                  <a:srgbClr val="808080"/>
                </a:solidFill>
                <a:latin typeface="Fixedsys"/>
              </a:rPr>
              <a:t>; </a:t>
            </a:r>
            <a:r>
              <a:rPr b="0" lang="ru-RU" sz="2600" spc="-1" strike="noStrike">
                <a:solidFill>
                  <a:srgbClr val="000000"/>
                </a:solidFill>
                <a:latin typeface="Fixedsys"/>
              </a:rPr>
              <a:t>канцэнтрацыя</a:t>
            </a:r>
            <a:r>
              <a:rPr b="0" lang="ru-RU" sz="26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Fixedsys"/>
              </a:rPr>
              <a:t>ўвагі</a:t>
            </a:r>
            <a:r>
              <a:rPr b="0" lang="ru-RU" sz="2600" spc="-1" strike="noStrike">
                <a:solidFill>
                  <a:srgbClr val="808080"/>
                </a:solidFill>
                <a:latin typeface="Fixedsys"/>
              </a:rPr>
              <a:t>; </a:t>
            </a:r>
            <a:r>
              <a:rPr b="0" lang="ru-RU" sz="2600" spc="-1" strike="noStrike">
                <a:solidFill>
                  <a:srgbClr val="000000"/>
                </a:solidFill>
                <a:latin typeface="Fixedsys"/>
              </a:rPr>
              <a:t>добрая</a:t>
            </a:r>
            <a:r>
              <a:rPr b="0" lang="ru-RU" sz="26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Fixedsys"/>
              </a:rPr>
              <a:t>памяць</a:t>
            </a:r>
            <a:r>
              <a:rPr b="0" lang="ru-RU" sz="2600" spc="-1" strike="noStrike">
                <a:solidFill>
                  <a:srgbClr val="808080"/>
                </a:solidFill>
                <a:latin typeface="Fixedsys"/>
              </a:rPr>
              <a:t>; </a:t>
            </a:r>
            <a:r>
              <a:rPr b="0" lang="ru-RU" sz="2600" spc="-1" strike="noStrike">
                <a:solidFill>
                  <a:srgbClr val="000000"/>
                </a:solidFill>
                <a:latin typeface="Fixedsys"/>
              </a:rPr>
              <a:t>здольнасць</a:t>
            </a:r>
            <a:r>
              <a:rPr b="0" lang="ru-RU" sz="26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Fixedsys"/>
              </a:rPr>
              <a:t>да</a:t>
            </a:r>
            <a:r>
              <a:rPr b="0" lang="ru-RU" sz="26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Fixedsys"/>
              </a:rPr>
              <a:t>ацэнкі</a:t>
            </a:r>
            <a:r>
              <a:rPr b="0" lang="ru-RU" sz="2600" spc="-1" strike="noStrike">
                <a:solidFill>
                  <a:srgbClr val="808080"/>
                </a:solidFill>
                <a:latin typeface="Fixedsys"/>
              </a:rPr>
              <a:t>; </a:t>
            </a:r>
            <a:r>
              <a:rPr b="0" lang="ru-RU" sz="2600" spc="-1" strike="noStrike">
                <a:solidFill>
                  <a:srgbClr val="000000"/>
                </a:solidFill>
                <a:latin typeface="Fixedsys"/>
              </a:rPr>
              <a:t>шырыня</a:t>
            </a:r>
            <a:r>
              <a:rPr b="0" lang="ru-RU" sz="26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Fixedsys"/>
              </a:rPr>
              <a:t>інтарэсаў</a:t>
            </a:r>
            <a:r>
              <a:rPr b="0" lang="ru-RU" sz="2600" spc="-1" strike="noStrike">
                <a:solidFill>
                  <a:srgbClr val="808080"/>
                </a:solidFill>
                <a:latin typeface="Fixedsys"/>
              </a:rPr>
              <a:t>; </a:t>
            </a:r>
            <a:r>
              <a:rPr b="0" lang="ru-RU" sz="2600" spc="-1" strike="noStrike">
                <a:solidFill>
                  <a:srgbClr val="000000"/>
                </a:solidFill>
                <a:latin typeface="Fixedsys"/>
              </a:rPr>
              <a:t>імкненне</a:t>
            </a:r>
            <a:r>
              <a:rPr b="0" lang="ru-RU" sz="26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Fixedsys"/>
              </a:rPr>
              <a:t>да</a:t>
            </a:r>
            <a:r>
              <a:rPr b="0" lang="ru-RU" sz="26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Fixedsys"/>
              </a:rPr>
              <a:t>дасканаласці</a:t>
            </a:r>
            <a:r>
              <a:rPr b="0" lang="ru-RU" sz="2600" spc="-1" strike="noStrike">
                <a:solidFill>
                  <a:srgbClr val="808080"/>
                </a:solidFill>
                <a:latin typeface="Fixedsys"/>
              </a:rPr>
              <a:t>; </a:t>
            </a:r>
            <a:r>
              <a:rPr b="0" lang="ru-RU" sz="2600" spc="-1" strike="noStrike">
                <a:solidFill>
                  <a:srgbClr val="000000"/>
                </a:solidFill>
                <a:latin typeface="Fixedsys"/>
              </a:rPr>
              <a:t>самастойнасць</a:t>
            </a:r>
            <a:r>
              <a:rPr b="0" lang="ru-RU" sz="2600" spc="-1" strike="noStrike">
                <a:solidFill>
                  <a:srgbClr val="808080"/>
                </a:solidFill>
                <a:latin typeface="Fixedsys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08080"/>
                </a:solidFill>
                <a:latin typeface="Fixedsys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Fixedsys"/>
              </a:rPr>
              <a:t>сацыяльная</a:t>
            </a:r>
            <a:r>
              <a:rPr b="0" lang="ru-RU" sz="26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Fixedsys"/>
              </a:rPr>
              <a:t>аўтаномнасць</a:t>
            </a:r>
            <a:r>
              <a:rPr b="0" lang="ru-RU" sz="2600" spc="-1" strike="noStrike">
                <a:solidFill>
                  <a:srgbClr val="808080"/>
                </a:solidFill>
                <a:latin typeface="Fixedsys"/>
              </a:rPr>
              <a:t>; </a:t>
            </a:r>
            <a:r>
              <a:rPr b="0" lang="ru-RU" sz="2600" spc="-1" strike="noStrike">
                <a:solidFill>
                  <a:srgbClr val="000000"/>
                </a:solidFill>
                <a:latin typeface="Fixedsys"/>
              </a:rPr>
              <a:t>эгацэнтрызм</a:t>
            </a:r>
            <a:r>
              <a:rPr b="0" lang="ru-RU" sz="2600" spc="-1" strike="noStrike">
                <a:solidFill>
                  <a:srgbClr val="808080"/>
                </a:solidFill>
                <a:latin typeface="Fixedsys"/>
              </a:rPr>
              <a:t>; </a:t>
            </a:r>
            <a:r>
              <a:rPr b="0" lang="ru-RU" sz="2600" spc="-1" strike="noStrike">
                <a:solidFill>
                  <a:srgbClr val="000000"/>
                </a:solidFill>
                <a:latin typeface="Fixedsys"/>
              </a:rPr>
              <a:t>лідэрства</a:t>
            </a:r>
            <a:r>
              <a:rPr b="0" lang="ru-RU" sz="2600" spc="-1" strike="noStrike">
                <a:solidFill>
                  <a:srgbClr val="808080"/>
                </a:solidFill>
                <a:latin typeface="Fixedsys"/>
              </a:rPr>
              <a:t>; </a:t>
            </a:r>
            <a:r>
              <a:rPr b="0" lang="ru-RU" sz="2600" spc="-1" strike="noStrike">
                <a:solidFill>
                  <a:srgbClr val="000000"/>
                </a:solidFill>
                <a:latin typeface="Fixedsys"/>
              </a:rPr>
              <a:t>уменне і жаданне спаборнічац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Патрабаванні да настаўніка, які арганізуе даследаванні вучня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ць досвед даследчай дзейнасці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ць арганізоўваць камунікацыю: весці дыялог з вучнем, быць гатовым да партнёрскага тыпу адносі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чувацца  даследчыкам; займаць даследчую пазіцыю і  дэманстраваць даследчае стаўленне да  сябе, да сваго прадмета,  да іншых людз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эманстраваць вялікія чаканні, веру  ў творчыя здольнасці кожнага навучэнц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раскрываць навучэнцам ісціну і не навязваць ім гатовых вырашэнняў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ахвочваць навучэнцаў да задавання пытання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Даследаванні на ўро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4360" y="595008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800" spc="-1" strike="noStrike">
                <a:solidFill>
                  <a:srgbClr val="000000"/>
                </a:solidFill>
                <a:latin typeface="Arial"/>
              </a:rPr>
              <a:t>Ад лабараторных работ па фізіцы, ад практычных работ па хіміі, 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ЭКСПЕРЫМЕНТАЛЬНЫХ ДАСЛЕДАВАННЯЎ ВУЧНЯ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5826240" cy="43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Літара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Зачесова Е.В. Написание текстов: рекомендации юным авторам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учебных исследований и их руководителям // школьные технологии,  2006. - № 5. – С. 105 – 111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2. Зимняя И.А. Ключевые компетенции – новая парадигма результата  образования // Высшее образование сегодня, 2003 - № 5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3. Кларин М.В. Инновационные модели обучения в зарубежных  педагогических поисках. – М., 1994. – С. 84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4. Кларин М.В. Характерные черты исследовательского подхода: обучение на основе решений проблем // Школьные технологии, 2004. - № 1. – С. 11-24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5. Леонтович А.В. Учебно-исследовательская деятельность школьников    как модель педагогической технологии // Школьные технологии, 1999. № 1-2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Літара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Леонтович А.В. Концептуальные основания моделирования исследовательской деятельности учащихся // Школьные технологии, 2006. - № 5. – С. 63-71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7. Обухов А.С. Эффективность применения проектной и исследовательской деятельности в обучении // Школьные технологии, 2006. - № 5. – С. 86-90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8. Петунин О.В. Учебно-исследовательской и научно-исследовательской деятельность старших школьников по биологии // Инновации в образовании, 2006. № 2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9. Савенков А.И. Психологические основы исследовательского подхода к обучению: Учебное пособие. – М.: «Ось-89», 2006 – 480 с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0.Савенков А.И. Исследовательское обучение и проектирование в современном образовательном пространстве // Исследовательская работа школьников, 2004. - № 1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Заданн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0000"/>
                </a:solidFill>
                <a:latin typeface="Arial"/>
              </a:rPr>
              <a:t>Пытанн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эзі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няцц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х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пазіцы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бар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сацыяцы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д сах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Літара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.Слободянюк А.И. и др. Исследовательская деятельность учащихся по физике. Мн.:  Мн.: Красико-Принт, 288. – 144  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. Тяглова Е.В. Методика апробации результатов исследовательской деятельности учащихся // Школьные технологии, 2007. - № 1. – С. 103 -118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3. Черемных Г.В. Художественно-графическое представление результатов исследовател   ьской работы школьников // Школьные технологии, 2006. - № 5. – С. 91-9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wy A/ Planning the school curriculum. Pari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197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fpmi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bsu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by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UniXXI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index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htl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6. www.greenbelarus.info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7.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</a:rPr>
              <a:t>www.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</a:rPr>
              <a:t>исследователь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</a:rPr>
              <a:t>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8.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www.researcher.r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. Интернет-портал«Исследовательская деятельность школьнико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tfolio.1september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nadsky.inf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Такім чынам,  мы разглядзелі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ixedsy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ixedsys"/>
              </a:rPr>
              <a:t>Паняцце</a:t>
            </a:r>
            <a:r>
              <a:rPr b="0" lang="ru-RU" sz="32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Fixedsys"/>
              </a:rPr>
              <a:t>даследчай</a:t>
            </a:r>
            <a:r>
              <a:rPr b="0" lang="ru-RU" sz="32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Fixedsys"/>
              </a:rPr>
              <a:t>дзейнасці</a:t>
            </a:r>
            <a:r>
              <a:rPr b="0" lang="ru-RU" sz="3200" spc="-1" strike="noStrike">
                <a:solidFill>
                  <a:srgbClr val="808080"/>
                </a:solidFill>
                <a:latin typeface="Fixedsy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ixedsy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ixedsys"/>
              </a:rPr>
              <a:t>Чым</a:t>
            </a:r>
            <a:r>
              <a:rPr b="0" lang="ru-RU" sz="32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Fixedsys"/>
              </a:rPr>
              <a:t>адрозніваюцца</a:t>
            </a:r>
            <a:r>
              <a:rPr b="0" lang="ru-RU" sz="3200" spc="-1" strike="noStrike">
                <a:solidFill>
                  <a:srgbClr val="808080"/>
                </a:solidFill>
                <a:latin typeface="Fixedsys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Fixedsys"/>
              </a:rPr>
              <a:t>навукова</a:t>
            </a:r>
            <a:r>
              <a:rPr b="0" lang="ru-RU" sz="3200" spc="-1" strike="noStrike">
                <a:solidFill>
                  <a:srgbClr val="808080"/>
                </a:solidFill>
                <a:latin typeface="Fixedsys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Fixedsys"/>
              </a:rPr>
              <a:t>даследчая</a:t>
            </a:r>
            <a:r>
              <a:rPr b="0" lang="ru-RU" sz="32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Fixedsys"/>
              </a:rPr>
              <a:t>дзейнасць</a:t>
            </a:r>
            <a:r>
              <a:rPr b="0" lang="ru-RU" sz="32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Fixedsys"/>
              </a:rPr>
              <a:t>і</a:t>
            </a:r>
            <a:r>
              <a:rPr b="0" lang="ru-RU" sz="32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Fixedsys"/>
              </a:rPr>
              <a:t>навучальна</a:t>
            </a:r>
            <a:r>
              <a:rPr b="0" lang="ru-RU" sz="3200" spc="-1" strike="noStrike">
                <a:solidFill>
                  <a:srgbClr val="808080"/>
                </a:solidFill>
                <a:latin typeface="Fixedsys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Fixedsys"/>
              </a:rPr>
              <a:t>даследчая</a:t>
            </a:r>
            <a:r>
              <a:rPr b="0" lang="ru-RU" sz="32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Fixedsys"/>
              </a:rPr>
              <a:t>дзейнасць</a:t>
            </a:r>
            <a:r>
              <a:rPr b="0" lang="ru-RU" sz="3200" spc="-1" strike="noStrike">
                <a:solidFill>
                  <a:srgbClr val="808080"/>
                </a:solidFill>
                <a:latin typeface="Fixedsy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ixedsy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ixedsys"/>
              </a:rPr>
              <a:t>Сукупнасць</a:t>
            </a:r>
            <a:r>
              <a:rPr b="0" lang="ru-RU" sz="32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Fixedsys"/>
              </a:rPr>
              <a:t>даследчых</a:t>
            </a:r>
            <a:r>
              <a:rPr b="0" lang="ru-RU" sz="32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Fixedsys"/>
              </a:rPr>
              <a:t>навыкаў</a:t>
            </a:r>
            <a:r>
              <a:rPr b="0" lang="ru-RU" sz="3200" spc="-1" strike="noStrike">
                <a:solidFill>
                  <a:srgbClr val="808080"/>
                </a:solidFill>
                <a:latin typeface="Fixedsy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ixedsy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ixedsys"/>
              </a:rPr>
              <a:t>Этапы</a:t>
            </a:r>
            <a:r>
              <a:rPr b="0" lang="ru-RU" sz="32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Fixedsys"/>
              </a:rPr>
              <a:t>даследава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ixedsy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ixedsys"/>
              </a:rPr>
              <a:t>Змест</a:t>
            </a:r>
            <a:r>
              <a:rPr b="0" lang="ru-RU" sz="32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Fixedsys"/>
              </a:rPr>
              <a:t>справаздачы</a:t>
            </a:r>
            <a:r>
              <a:rPr b="0" lang="ru-RU" sz="32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Fixedsys"/>
              </a:rPr>
              <a:t>аб</a:t>
            </a:r>
            <a:r>
              <a:rPr b="0" lang="ru-RU" sz="32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Fixedsys"/>
              </a:rPr>
              <a:t>завершаным</a:t>
            </a:r>
            <a:r>
              <a:rPr b="0" lang="ru-RU" sz="3200" spc="-1" strike="noStrike">
                <a:solidFill>
                  <a:srgbClr val="808080"/>
                </a:solidFill>
                <a:latin typeface="Fixedsys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Fixedsys"/>
              </a:rPr>
              <a:t>даследаванн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Найди друзей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87640" y="1557360"/>
            <a:ext cx="3168720" cy="3024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Зберажэм планету раза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42920" y="5229360"/>
            <a:ext cx="7274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8360" y="5734080"/>
            <a:ext cx="82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000000"/>
                </a:solidFill>
                <a:latin typeface="Arial"/>
              </a:rPr>
              <a:t>Дзяку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 ўвагу, сябры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Паняцце даследчай дзейнасц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следаванн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гэта працэс выпрацоўкі новых ведаў, адзін з відаў пазнавальнай дзейнасці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е два ўзроўні: эмпірычны і тэарэтыч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Д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гэта дзейнасць па здабыванні новых ведаў шляхам даследавання; гэта адмысловы від інтэлектуальна-творчай дзейнасці, які абумоўлены пошукавай актыўнасцю чалавека і будуецца на базе даследчых паводзі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Паняцце даследчай дзейнасці навучэнца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ад даследчай дзейнасцю разумеецца дзейнасць навучэнцаў, якая звязаная з пошукам адказа на творчую, даследчую задачу з загадзя невядомым рашэннем і якая прадугледжвае наяўнасць асноўных этапаў, характэрных для даследавання ў навуковай сфер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станоўку праблем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вучэнне тэорыі, прысвечанай дадзенай праблематыц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дбор методык даследавання і практычнае авалоданне імі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бор уласнага матэрыялу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го аналіз і абагульненн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ласныя высно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Схема рэпрадуктыўнай дзейнасц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e-BY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33829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ндартная сітуацы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26920" y="4869000"/>
            <a:ext cx="345600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ыпавая задач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87280" y="3716280"/>
            <a:ext cx="54723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ixedsys"/>
              </a:rPr>
              <a:t>спосаб</a:t>
            </a:r>
            <a:r>
              <a:rPr b="0" lang="ru-RU" sz="24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Fixedsys"/>
              </a:rPr>
              <a:t>рашэння</a:t>
            </a:r>
            <a:r>
              <a:rPr b="0" lang="ru-RU" sz="24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Fixedsys"/>
              </a:rPr>
              <a:t>вядо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76360" y="2708280"/>
            <a:ext cx="648036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ixedsys"/>
              </a:rPr>
              <a:t>рэпрадуктыўныя</a:t>
            </a:r>
            <a:r>
              <a:rPr b="0" lang="ru-RU" sz="24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Fixedsys"/>
              </a:rPr>
              <a:t>паводзіны</a:t>
            </a:r>
            <a:r>
              <a:rPr b="0" lang="ru-RU" sz="24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Fixedsys"/>
              </a:rPr>
              <a:t>і</a:t>
            </a:r>
            <a:r>
              <a:rPr b="0" lang="ru-RU" sz="24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Fixedsys"/>
              </a:rPr>
              <a:t>дзейнасц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1628640"/>
            <a:ext cx="6408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своеныя спосабы рэпрадуктыўна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зейнасц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2124000" y="551628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627280" y="4437000"/>
            <a:ext cx="216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995640" y="3357720"/>
            <a:ext cx="21600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4716360" y="2349000"/>
            <a:ext cx="21600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4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Схема  даследчай  дзейнасц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e-BY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5877000"/>
            <a:ext cx="33829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блемная  сітуацы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26920" y="4869000"/>
            <a:ext cx="345600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овая  задач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87280" y="3716280"/>
            <a:ext cx="54723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яма гатовых способаў рашэнн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476360" y="2708280"/>
            <a:ext cx="648036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ixedsys"/>
              </a:rPr>
              <a:t>пошукавая</a:t>
            </a:r>
            <a:r>
              <a:rPr b="0" lang="ru-RU" sz="24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Fixedsys"/>
              </a:rPr>
              <a:t>актыўнасць</a:t>
            </a:r>
            <a:r>
              <a:rPr b="0" lang="ru-RU" sz="2400" spc="-1" strike="noStrike">
                <a:solidFill>
                  <a:srgbClr val="808080"/>
                </a:solidFill>
                <a:latin typeface="Fixedsys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Fixedsys"/>
              </a:rPr>
              <a:t>даследчы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ixedsys"/>
              </a:rPr>
              <a:t>паводзіны</a:t>
            </a:r>
            <a:r>
              <a:rPr b="0" lang="ru-RU" sz="24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Fixedsys"/>
              </a:rPr>
              <a:t>і</a:t>
            </a:r>
            <a:r>
              <a:rPr b="0" lang="ru-RU" sz="24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Fixedsys"/>
              </a:rPr>
              <a:t>дзейнасц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79640" y="1628640"/>
            <a:ext cx="6408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ixedsys"/>
              </a:rPr>
              <a:t>засвоеныя</a:t>
            </a:r>
            <a:r>
              <a:rPr b="0" lang="ru-RU" sz="24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Fixedsys"/>
              </a:rPr>
              <a:t>даследчыя</a:t>
            </a:r>
            <a:r>
              <a:rPr b="0" lang="ru-RU" sz="2400" spc="-1" strike="noStrike">
                <a:solidFill>
                  <a:srgbClr val="808080"/>
                </a:solidFill>
                <a:latin typeface="Fixedsy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Fixedsys"/>
              </a:rPr>
              <a:t>ўменн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124000" y="551628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627280" y="4437000"/>
            <a:ext cx="216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3995640" y="3357720"/>
            <a:ext cx="21600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716360" y="2349000"/>
            <a:ext cx="21600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Параўнаем Науковую ДД и Навучальную Д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916000" y="1413000"/>
            <a:ext cx="2957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вуковая даследчая дзейнасц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12000" y="1413000"/>
            <a:ext cx="2674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вучальная даследчая дзейнасц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8360" y="1700280"/>
            <a:ext cx="1727280" cy="446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зіцы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аўн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Навукова-даследчая ці навучальна-даследчая дзейнасць вучняў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вукова-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ал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мэта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дукаванне новых ведаў у агульнакультурным значэнн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трыманыя веды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юць аб'ектыўную навіз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тады даследавання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іранне, эксперымент, аналіз, мадэляванне, праектаванне, абагульнен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рмы прадстаўлення вынікаў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ысертацыя, артыкул, даклад, тэзісы, выступ на навуковай канферэнцы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вучальна-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ал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мэта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быццё навучэнцамі навыкаў даследавання як універсальнага спосабу засваення рэчаіснасці; самастойнае атрыманне веда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трыманыя веды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юць, як правіла, суб'ектыўную навіз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тады даследавання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іранне і досвед, праца з навуковай і навучальнай літаратура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рмы прадстаўлення вынікаў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эферат, артыкул, тэзісы, выступ на вучнёўскай канферэнцыі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0T16:36:07Z</dcterms:created>
  <dc:creator>Николай Запрудский</dc:creator>
  <dc:description/>
  <dc:language>en-US</dc:language>
  <cp:lastModifiedBy>Lambada</cp:lastModifiedBy>
  <dcterms:modified xsi:type="dcterms:W3CDTF">2008-12-12T21:01:24Z</dcterms:modified>
  <cp:revision>84</cp:revision>
  <dc:subject/>
  <dc:title>Управление исследовательской деятельностью учащихся</dc:title>
</cp:coreProperties>
</file>