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4.gif" ContentType="image/gif"/>
  <Override PartName="/ppt/media/image24.png" ContentType="image/png"/>
  <Override PartName="/ppt/media/image23.jpeg" ContentType="image/jpeg"/>
  <Override PartName="/ppt/media/image20.gif" ContentType="image/gif"/>
  <Override PartName="/ppt/media/image21.png" ContentType="image/png"/>
  <Override PartName="/ppt/media/image19.png" ContentType="image/png"/>
  <Override PartName="/ppt/media/image13.gif" ContentType="image/gif"/>
  <Override PartName="/ppt/media/image1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30.gif" ContentType="image/gif"/>
  <Override PartName="/ppt/media/image15.png" ContentType="image/png"/>
  <Override PartName="/ppt/media/image12.gif" ContentType="image/gi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35.gif" ContentType="image/gif"/>
  <Override PartName="/ppt/media/image14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D76-8478-47A1-9878-1B3212C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8DE-ACC7-411C-A640-4CBBE7A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DD2-F387-47FD-A0FA-1A69E0E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FDF-B0AF-4C38-B3D2-D1C302AE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2C6-B3D9-46AC-A8E4-784B0D24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88F-6211-4DF6-897D-5E3AE7A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809-D900-4CC1-9826-7FD5A0E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9CD-C35B-4763-9382-D0B27F1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F12-9DEE-4AD1-B9D8-CCF530F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96A-7A24-422E-93C9-68113C38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FC1-4DDB-44E2-8151-B3959DF0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C1C-9A4C-42E0-B675-D860408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e-BY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62CF-89AE-49E8-B556-F596EEFFD48A}" type="slidenum">
              <a:rPr b="0" lang="be-BY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0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 Black"/>
              </a:rPr>
              <a:t>Дынамі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000000"/>
                </a:solidFill>
                <a:latin typeface="Arial"/>
              </a:rPr>
              <a:t>Беларускі гуманітарны ліцэ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769080" cy="243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0920" y="1371600"/>
            <a:ext cx="39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934920" cy="84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Інерцыяльныя сістэмы адлі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4178880"/>
            <a:ext cx="744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а) СА, звязаная з Зямлё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б) СА, звязаная з аўтамабілем, які рухаецца раўнамерна і прамалінейна адносна Зямл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в) СА, звязаная з аўтамабілем, што рухаецца паскоран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50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08360" y="148212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Кніга ляжыць на стале. Сіла цяжару скампенсавана сілай пругкасці стала (нармальнай сілай рэакцыі апо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357228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Ці з’яўляецца І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Інерцыяльныя сістэмы адлі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381312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а) Любыя СА, звязаная з Зямлёй, з’яўляюццца І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б) Любыя СА, якія рухаюцца раўнамерна прамалінейна адносна Зямлі з’яўляюцца І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в) Любыя СА, якія рухаюцца з паскарэннем адносна Зямлі, не з’яўляюцца інерцыяльным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808360" cy="250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16360" y="24199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Выснов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Першы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97040" y="1843200"/>
            <a:ext cx="74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3. Дае вызначэнне з’яве інерцы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7047000" cy="200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Інерцы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2987640" y="602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533920" cy="1785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4361760"/>
            <a:ext cx="744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ІНЕРЦЫЯ –з’ява захавання скорасці цела пры адсутнасці знешніх уздзеянняў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Рух свабоднага цела называюць рухам па інерцыі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Зада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5715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Чаму мы насаджваем малаток на рукаятку такім чына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6200" y="1268280"/>
            <a:ext cx="1549440" cy="2016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2000" y="16272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Чаму хлопчык не будзе адчуваць моцнага ўдар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5152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Чаму стан спакою целаў можна назіраць значна часцей, чым раўнамерны прамалінейны рух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713640" y="3141720"/>
            <a:ext cx="11714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Маса ц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69360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– мера інертнасці ц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35216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– мера гравітацыйнага ўзаемадзеяння целаў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5454360"/>
            <a:ext cx="52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– мера энергаёмістасці це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2990880" cy="1057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5373720"/>
            <a:ext cx="1944720" cy="936720"/>
          </a:xfrm>
          <a:prstGeom prst="rect">
            <a:avLst/>
          </a:pr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=mc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Маса – мера інертнасці ц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357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Адносі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модуляў паскарэнняў двух узаемадзейных целаў роўна адваротнай адносіне іх масаў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92700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Інертнасць –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уласцівасць,якая належыць усім цела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Яна заключаецца ў тым, што немагчыма скорасць цела змяніць імгнен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2990880" cy="105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4000" y="5229360"/>
            <a:ext cx="2952720" cy="1079280"/>
          </a:xfrm>
          <a:prstGeom prst="rect">
            <a:avLst/>
          </a:pr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: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=m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:m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62800" y="537372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Гэтая формула атрыма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эксперыменталь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7520" y="1125360"/>
            <a:ext cx="272412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520" y="2133720"/>
            <a:ext cx="2724120" cy="60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Маса ц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4724280"/>
            <a:ext cx="46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Закон захавання масы: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пры любых працэсах у сістэме, яе маса застаецца нязменн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92880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Маса - 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велічыня скалярная і адытыўная, г.зн. маса цела роўна суме масаў усіх часціцаў, з якіх складаецца ц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9960" y="2781360"/>
            <a:ext cx="63072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цела не залежыць ад скорасц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(пры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&lt;&lt;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і пры ўзаемадзеянн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вызначае модуль атрыманаг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целам паскарэ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Задан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242064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Прыдумайце некалькі спосабаў вымярэння масы ц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Зада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257364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Растлумачце з’я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07944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493560"/>
            <a:ext cx="8712360" cy="58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be-BY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Дынаміка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дказвае на пытанне, чаму рухаюцца целы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Задача дынамікі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тана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ві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ь законы ўзаемадзеяння целаў</a:t>
            </a:r>
            <a:r>
              <a:rPr b="1" lang="be-BY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значыць уплыў гэтых узаемадзеянняў на механічны рух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1908000" cy="1136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Сі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140976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Сіла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– фізічная вектарная велічыня, якая характарызуе дзеянне аднаго цела на другое, у выніку якога цела дэфармуецца і змяняе скорасц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5074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Адзінка вымярэння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сілы</a:t>
            </a: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Ньютан (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56832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000000"/>
                </a:solidFill>
                <a:latin typeface="Arial"/>
              </a:rPr>
              <a:t>Дзеянне сілы </a:t>
            </a:r>
            <a:r>
              <a:rPr b="0" i="1" lang="be-BY" sz="2800" spc="-1" strike="noStrike">
                <a:solidFill>
                  <a:srgbClr val="000000"/>
                </a:solidFill>
                <a:latin typeface="Arial"/>
              </a:rPr>
              <a:t> залежыць ад напрамку, велічыні і пункту прыкладан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Віды сі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27280" y="16891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цяжару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– сіл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з якой Зямля прыцягвае да сябе іншыя це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97756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пругкасці - 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сіла, якая ўзнікае пры дэфармацыі цела і накіравана ў супрацьлеглы дэфармацыі бок. (</a:t>
            </a: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рэакцыі апоры і сіла нацягнення ніці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628640"/>
            <a:ext cx="1944720" cy="1079640"/>
          </a:xfrm>
          <a:prstGeom prst="rect">
            <a:avLst/>
          </a:pr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=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49608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ціску - 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сіла, з якой цела дзейнічае на апору альбо вадкасць ці газ дзейнічаюць на сценкі пасудзі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37928" t="13147" r="0" b="0"/>
          <a:stretch/>
        </p:blipFill>
        <p:spPr>
          <a:xfrm>
            <a:off x="574560" y="2960640"/>
            <a:ext cx="1710000" cy="190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93760" y="4967280"/>
            <a:ext cx="219060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Віды сі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987640" y="602136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140480"/>
            <a:ext cx="60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трэння 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– сіл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якая ўзнікае пры руху аднаго цела па паверхні другога. (сіла супраціўлення = сіла трэння, якая ўзнікае пры руху цела ў вадкасці і газе) Накіраваныя супраць рух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3192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Сіла Архімеда – 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сіла, з якой цела  выштурхоўваецца з вадкасці ці газу. Накіравана вертыкальна ўвер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41280" y="4869000"/>
            <a:ext cx="1998720" cy="1481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2286000" cy="15051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>
            <a:off x="2843280" y="55155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ія сілы дзейнічаюць на сця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8360" y="2948040"/>
            <a:ext cx="166680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Раўнадзейная сі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211640" y="165996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Вектарная сума сіл, якія дзейнічаюць на цела, называецца </a:t>
            </a: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раўнадзейнай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сіла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357192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268360" y="4149720"/>
            <a:ext cx="4270680" cy="90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Раўнадзейная сі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64000" y="2347200"/>
            <a:ext cx="31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Як накіравана раўнадзейная сіл, калі сабака стаіць на месц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4322880"/>
            <a:ext cx="4762440" cy="241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3915000" cy="3086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64000" y="1123560"/>
            <a:ext cx="29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Якія сілы дзейнічаюць на саба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213440"/>
            <a:ext cx="319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Знайдзіце раўнадзейную сіл, якія дзейнічаюць на ц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Як будзе рухацца цел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Раўнадзейная сі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2920" y="4943520"/>
            <a:ext cx="74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Апішыце, як мянялася раўнадзейная сіла.  Як пры гэтым рухаўся парашутыст?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05816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Другі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140000" y="1557000"/>
            <a:ext cx="45464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ўно было заўважана, што чым большая сіла дзейнічае на цела, тым хутчэй яно змяняе скорасць, і чым большая маса цела, тым павольней яно змяняе скорасц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5734080"/>
            <a:ext cx="2737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34674" r="0" b="0"/>
          <a:stretch/>
        </p:blipFill>
        <p:spPr>
          <a:xfrm>
            <a:off x="468360" y="1700280"/>
            <a:ext cx="3672000" cy="239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4221000"/>
            <a:ext cx="80647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карэнне, якое набывае цела, прама прапарцыянальна раўнадзейнай усіх сіл, якія дзейнічаюць на цела і адваротна прапарцыянальна яго мас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 Black"/>
              </a:rPr>
              <a:t>Заданне: Вызначыце масу  цела і паскарэнне, з якім яно будзе рухац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4223880"/>
            <a:ext cx="759600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 force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9.9 N, right</a:t>
            </a:r>
            <a:r>
              <a:rPr b="1" lang="be-BY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acceler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5 m/s/s, 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vertical forces balance but the 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forces do not. The net for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n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29.9 N, right - 60 N, left = 69.9 N, r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ss is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(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gra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g) = 2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e acceleration is</a:t>
            </a:r>
            <a:r>
              <a:rPr b="0" lang="be-B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(69.9 N) / (20 kg) =3.50 m/s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6696000" cy="288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Трэці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00720" y="1557000"/>
            <a:ext cx="418608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лы пры ўзаемадзеяннні целаў узнікаюць пара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этыя сілы роўныя па велічы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5734080"/>
            <a:ext cx="2737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238560" cy="1904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4149720"/>
            <a:ext cx="514836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572000" y="4221000"/>
            <a:ext cx="422928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Трэці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643280" y="5734080"/>
            <a:ext cx="2737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2060640"/>
            <a:ext cx="56894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ілы, з якімі целы дзейнічаюць адно на другое, адной прыроды роўныя па модулю і процілеглыя па напрамку, накіраваныя ўздоўж адной прам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2276640" cy="3743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564000" y="4797360"/>
            <a:ext cx="58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Законы Ньютана выконваюцца ў інерцыяльных сістэмах адлік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9400" y="642312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0000"/>
                </a:solidFill>
                <a:latin typeface="Arial"/>
              </a:rPr>
              <a:t>ТАВАРЫСТВА БЕЛАРУСКАЙ 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71640" y="7650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ы Ньюта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38104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Зада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640" y="3933720"/>
            <a:ext cx="403884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3068640"/>
            <a:ext cx="781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Прывядзіце прыклады праяўлення трэцяга закону Ньюта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155736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000000"/>
                </a:solidFill>
                <a:latin typeface="Arial"/>
              </a:rPr>
              <a:t>У навакольным свеце практычна любое цела можа адносна дадзенай сістэмы адліку знаходзіцца ў спакоі, рухацца раўнамерна альбо з паскарэнн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5157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СІСТЭМА АДЛІКУ =(ЦЕЛА АДЛІКУ + СІСТЭМА КААРДЫНАТ + НЕРУХОМЫ ГАДЗІННІК)</a:t>
            </a: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728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Сістэма адлі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Раўнамерны рух.</a:t>
            </a: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4476960"/>
            <a:ext cx="81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Арыстоцель лічыў, што раўнамерны рух трэба пастаянна падтрымлівац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562200" cy="180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258920" y="1916280"/>
            <a:ext cx="215244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Раўнамерны рух.</a:t>
            </a:r>
            <a:r>
              <a:rPr b="0" lang="be-BY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9640" y="501336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Цела будзе рухацца бясконца доўга з пастаяннай скорасцю (паскарэнне =0) па ідэальна гладкай гарызантальнай паверхні ў беспаветранай прастор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29156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Галілей сфармуляваў </a:t>
            </a:r>
            <a:r>
              <a:rPr b="1" lang="be-BY" sz="3200" spc="-1" strike="noStrike">
                <a:solidFill>
                  <a:srgbClr val="000000"/>
                </a:solidFill>
                <a:latin typeface="Arial"/>
              </a:rPr>
              <a:t>закон інерцыі</a:t>
            </a: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4032000" cy="2111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1051200"/>
            <a:ext cx="81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Галілей заўважыў, чым меншы вугал нахілу плоскасці, тым менш паскарэн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2565360"/>
            <a:ext cx="2857320" cy="12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Першы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865600" y="2077920"/>
            <a:ext cx="627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0000"/>
                </a:solidFill>
                <a:latin typeface="Arial"/>
              </a:rPr>
              <a:t>Існуюць такія сістэмы адліку, якія называюць інерцыяльнымі, адносна якіх цела, што рухаецца паступальна, захоўвае сваю скорасць пастаяннай або знаходзіцца ў спакоі, калі на яго не дзейнічаюць іншыя целы (або дзеяннне іншых цел скампенсавана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505240"/>
            <a:ext cx="3384720" cy="155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Першы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1920960"/>
            <a:ext cx="74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1. Устанаўлівае, калі цела пакоіцца і рухаецца раўнамерна прамаліней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498840"/>
            <a:ext cx="74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Калі на цела не ўздейнічаюць іншыя целы альбо іх дзеянне скампенсавана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22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0000"/>
                </a:solidFill>
                <a:latin typeface="Arial Black"/>
              </a:rPr>
              <a:t>Першы закон Нью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3640" cy="777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4360" y="1914840"/>
            <a:ext cx="74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2. Дае вызначэнне інерцыяльных сістэм адліку (ІС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3315960"/>
            <a:ext cx="74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400" spc="-1" strike="noStrike">
                <a:solidFill>
                  <a:srgbClr val="000000"/>
                </a:solidFill>
                <a:latin typeface="Arial"/>
              </a:rPr>
              <a:t>ІСА</a:t>
            </a:r>
            <a:r>
              <a:rPr b="0" i="1" lang="be-BY" sz="2400" spc="-1" strike="noStrike">
                <a:solidFill>
                  <a:srgbClr val="000000"/>
                </a:solidFill>
                <a:latin typeface="Arial"/>
              </a:rPr>
              <a:t> – гэта сістэмы адліку, у якіх выконваецца першы з-н Ньютана (Захаванне скорасці цела пры адсутнасці  некампенсаванага ўздзеян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21:29Z</dcterms:created>
  <dc:creator>*</dc:creator>
  <dc:description/>
  <dc:language>en-US</dc:language>
  <cp:lastModifiedBy>*</cp:lastModifiedBy>
  <dcterms:modified xsi:type="dcterms:W3CDTF">2005-11-29T13:38:18Z</dcterms:modified>
  <cp:revision>347</cp:revision>
  <dc:subject/>
  <dc:title>Настаўнiк. Школа. Грамадзтва.</dc:title>
</cp:coreProperties>
</file>