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ED6D-6FAF-47D2-93AB-AE9A98E7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310F-8633-458B-B378-5E0465FD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72F4-5401-4D1C-AD2C-559B6A32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428A-7F41-4FEF-BD65-AB448B7D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CDC3-A3C2-4358-A8AF-D7C13F98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6892-1B0B-48AF-903B-23D44724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DD30-86E8-41CB-9F3A-27631B89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4FE1-09EC-441E-958B-B904DB27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2C71-2BB7-49EF-88EE-E9D73535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5648-8678-4513-A419-88961E6B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5B07-5D5A-4AD2-A901-561EE7B4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462C-C7C7-40AF-9F6D-0053D5EC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8187-3B27-4CE2-BE92-EDBF8750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86C9-8A18-47BB-934E-309C449F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CF74-7EAD-4BD2-A2B5-1B56B25C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A25C-3206-4BCA-8114-4A32B71A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24EA-C25F-4596-BEDA-066904AD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F03E-8993-437B-9EBA-470F2D6D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3D4C-6105-4237-BDEE-197E1246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4F3C-3B05-4748-A008-3AA85F40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5DF1-94A4-4A72-AEE8-011DF332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E33F-F2FF-4647-8406-F47FBADA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94A8-5A28-4127-B982-955CBA31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D93C-2C24-45D4-A109-6D396BC6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e-BY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e-BY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e-BY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938E-DB89-4FB9-873A-348535DAA9B2}" type="slidenum">
              <a:rPr b="0" lang="be-BY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e-BY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e-BY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e-BY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CAC3-FDFD-4D85-9017-07EBB4B796B3}" type="slidenum">
              <a:rPr b="0" lang="be-BY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483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5400" spc="-1" strike="noStrike">
                <a:solidFill>
                  <a:srgbClr val="feec94"/>
                </a:solidFill>
                <a:latin typeface="Times New Roman"/>
              </a:rPr>
              <a:t>Унутраная энергія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692360" y="5949720"/>
            <a:ext cx="550368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ffffff"/>
                </a:solidFill>
                <a:latin typeface="Times New Roman"/>
              </a:rPr>
              <a:t>Беларускі гуманітарны ліцэ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42132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Цеплаперадач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гэта працэс змянення ўнутранай энергіі цела без здзяйснення работ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ΔU=Q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 , так як А=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олькасць цеплаты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эта тая частка ўнутранай энергіі, якую атрымлівае (аддае) цела пры цеплаперадач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Існуюць тры спосабы цеплаперадач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Цеплаабме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анвекцы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ыпраменьванн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71280" y="4076640"/>
            <a:ext cx="6118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feec94"/>
                </a:solidFill>
                <a:latin typeface="Arial Black"/>
              </a:rPr>
              <a:t>За кошт якой энергіі ракета здзяйсняе работу і пры тым яшчэ павялічвае сваю механічную энергію? 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555640" y="404280"/>
            <a:ext cx="6048360" cy="39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кета</a:t>
            </a:r>
            <a:r>
              <a:rPr b="0" lang="be-BY" sz="2400" spc="-1" strike="noStrike">
                <a:solidFill>
                  <a:srgbClr val="ffffff"/>
                </a:solidFill>
                <a:latin typeface="Times New Roman"/>
              </a:rPr>
              <a:t> падымае груз – значыць яна здзяйсняе работ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Times New Roman"/>
              </a:rPr>
              <a:t>Кінетычная энергія ракеты ўзрстае, таму што ракета павялічвае скорасць. Патэнцыяльная энергія таксама павялічваецца, так як яна ўсё вышэй падымаецца над Зямлё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11667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 Black"/>
              </a:rPr>
              <a:t>Ці змяняецца пры гэтым механічная энергія гіры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116160" cy="3311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16360" y="1268280"/>
            <a:ext cx="383400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Times New Roman"/>
              </a:rPr>
              <a:t>У гэтым доследзе мы назіра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Times New Roman"/>
              </a:rPr>
              <a:t>пераўтварэнне ўнутрана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Times New Roman"/>
              </a:rPr>
              <a:t>энергіі гарача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Times New Roman"/>
              </a:rPr>
              <a:t>цела ў механічную рабо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Малекулярна-кінетычная тэорыя</a:t>
            </a:r>
            <a:r>
              <a:rPr b="1" lang="be-BY" sz="3200" spc="-1" strike="noStrike">
                <a:solidFill>
                  <a:srgbClr val="feec94"/>
                </a:solidFill>
                <a:latin typeface="Times New Roman"/>
              </a:rPr>
              <a:t>. </a:t>
            </a:r>
            <a:br>
              <a:rPr sz="3200"/>
            </a:br>
            <a:br>
              <a:rPr sz="3200"/>
            </a:br>
            <a:r>
              <a:rPr b="1" lang="be-BY" sz="2400" spc="-1" strike="noStrike">
                <a:solidFill>
                  <a:srgbClr val="feec94"/>
                </a:solidFill>
                <a:latin typeface="Times New Roman"/>
              </a:rPr>
              <a:t>У аснове гэтай тэорыі ляжаць 3 сцверджанні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be-BY" sz="2400" spc="-1" strike="noStrike">
                <a:solidFill>
                  <a:srgbClr val="feec94"/>
                </a:solidFill>
                <a:latin typeface="Times New Roman"/>
              </a:rPr>
              <a:t>• Усе целы складаюцца з малых часціц (малекул, атамаў, іонаў), паміж якімі ёсць прамежкі</a:t>
            </a:r>
            <a:br>
              <a:rPr sz="2400"/>
            </a:br>
            <a:br>
              <a:rPr sz="2400"/>
            </a:br>
            <a:r>
              <a:rPr b="1" lang="be-BY" sz="2400" spc="-1" strike="noStrike">
                <a:solidFill>
                  <a:srgbClr val="feec94"/>
                </a:solidFill>
                <a:latin typeface="Times New Roman"/>
              </a:rPr>
              <a:t>• Часціцы целаў пастаянна рухаюцца</a:t>
            </a:r>
            <a:br>
              <a:rPr sz="2400"/>
            </a:br>
            <a:br>
              <a:rPr sz="2400"/>
            </a:br>
            <a:r>
              <a:rPr b="1" lang="be-BY" sz="2400" spc="-1" strike="noStrike">
                <a:solidFill>
                  <a:srgbClr val="feec94"/>
                </a:solidFill>
                <a:latin typeface="Times New Roman"/>
              </a:rPr>
              <a:t>• Часціцы целаў узаемадзейнічаюць паміж сабой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740720" y="1557360"/>
            <a:ext cx="9525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be-BY" sz="2400" spc="-1" strike="noStrike">
                <a:solidFill>
                  <a:srgbClr val="feec94"/>
                </a:solidFill>
                <a:latin typeface="Times New Roman"/>
              </a:rPr>
              <a:t>Усе целы складаюцца з малых часціц (малекул, атамаў, іонаў), паміж якімі ёсць прамежкі. </a:t>
            </a:r>
            <a:br>
              <a:rPr sz="32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казы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ыфузія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таздымкі часціц з дапамогай электроннага мікраскопу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еплавое расшырэнне рэчыаў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3933360"/>
            <a:ext cx="4038480" cy="21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ы змешванні 100 мл вады і 100 мл спірту атрымаем 190 мл ( а не 200) вадкасці. Чаму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3959280" cy="247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85928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eec94"/>
                </a:solidFill>
                <a:latin typeface="Times New Roman"/>
              </a:rPr>
              <a:t>Часціцы целаў пастаянна рухаюцца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435640" y="1339920"/>
            <a:ext cx="2665440" cy="2665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435640" y="4292640"/>
            <a:ext cx="2819520" cy="2122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казы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ыфузі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роўнаўскі ру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feec94"/>
                </a:solidFill>
                <a:latin typeface="Times New Roman"/>
              </a:rPr>
              <a:t>• </a:t>
            </a:r>
            <a:r>
              <a:rPr b="1" lang="be-BY" sz="2400" spc="-1" strike="noStrike">
                <a:solidFill>
                  <a:srgbClr val="feec94"/>
                </a:solidFill>
                <a:latin typeface="Times New Roman"/>
              </a:rPr>
              <a:t>Часціцы целаў узаемадзейнічаюць паміж сабой : прыцягваюцца і адштурхоўваюцца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140360" y="2133720"/>
            <a:ext cx="4770360" cy="2336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каз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існаванне сілы пругкасц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існаванне сіл паверхневага нацягнен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Унутраная энергія це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ўна суме кінетычнай і патэнцыяльнай энергій усіх часціц, з якіх складаецца цел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эмпература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мера сярэдней кінетычнай энергіі хаатычнага руху малеку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&lt;E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&gt; ~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&lt;E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&gt; = 2/3k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5157720"/>
            <a:ext cx="82296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ытанне: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Як вылічыць сярэднюю скорасць руху малекул, калі вядома яго тэмператур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посабы змянення ўнутранай энергі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дзяйсненне целам ці над целам рабо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Цеплаперадач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ΔU=A+Q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13:41:53Z</dcterms:created>
  <dc:creator>*</dc:creator>
  <dc:description/>
  <dc:language>en-US</dc:language>
  <cp:lastModifiedBy>*</cp:lastModifiedBy>
  <dcterms:modified xsi:type="dcterms:W3CDTF">2005-10-04T12:00:32Z</dcterms:modified>
  <cp:revision>21</cp:revision>
  <dc:subject/>
  <dc:title>Внутренняя энергия. </dc:title>
</cp:coreProperties>
</file>