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applause.wav" ContentType="audio/x-wav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715-5FA6-4E4F-BEAB-253E5B8C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360-67D3-4BB5-85E0-5D83EE58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CD4-07B4-4047-A401-55BE89F3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9A0-32E0-4988-9B77-1665938A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CBBB-E5B0-47AD-96B6-CF5C1069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8788-396D-4EC7-8173-53814AD5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A199-8FEF-46F0-9EF1-C19E6F56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0A89-6C40-4AB6-88EC-86F0D4C3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2305-7AD1-4CCA-BA39-C4BA4841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72DC-A6C7-4F94-BD9F-9A4B2506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1944-678B-474F-9655-E3760D45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80B-96F1-4502-AA61-D38A8E1D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A85C-897C-4FC7-A0DC-C390A94C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1A87-82DB-4F58-B333-0515AB4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85A9-C0A9-4A93-93FE-D001637A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5B1F-18D4-4608-8E60-DB02E1C3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AB49-86D5-4753-8586-E758C720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47A-357E-4AE4-BDDC-122504C4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08F-1E60-4575-9D0A-5002358C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0D3-835A-4E6B-A42C-A5B1B58C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194-064F-4FA8-9416-A9A73416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2D6-3B08-432B-8090-27C08A3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6D4-B674-4663-B729-EF99601B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E46-2B5C-4E92-B3B1-4283062A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A94F-B1FD-46EF-97FA-D479F7C868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1EE3-D1C8-4828-82CE-E6A8F16B4B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4836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Times New Roman"/>
              </a:rPr>
              <a:t>Разлік цеплавой энергіі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92360" y="5949720"/>
            <a:ext cx="55036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Times New Roman"/>
              </a:rPr>
              <a:t>Беларускі гуманітарны ліцэ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213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Фазавыя пера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16570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озніваюць наступныя фазавыя перахо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ўлен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ышталізацы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аўтварэн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ндэнсацы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ла</a:t>
            </a:r>
            <a:r>
              <a:rPr b="1" lang="be-BY" sz="3600" spc="-1" strike="noStrike">
                <a:solidFill>
                  <a:srgbClr val="000000"/>
                </a:solidFill>
                <a:latin typeface="Arial Black"/>
              </a:rPr>
              <a:t>ў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ленне і крышталізацы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752480" y="16570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аход рэчыва з цвёрдай фазы ў вадкую называец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аротны працэс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вярдзен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лі п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ярдзенні вадкасці атрымліваецца крышталічнае цвёрдае цела, то такі працэс называецц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шталізацыя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572000"/>
            <a:ext cx="6072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36840" y="2903400"/>
            <a:ext cx="60721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6840" y="2903400"/>
            <a:ext cx="60721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752480" y="16570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447920"/>
            <a:ext cx="607248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касць цеплаты, якая паглынаец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зяляец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 плаўленні (крышталізацыі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апарцыйна масе расплаўленага (крышталізаванага) рэчы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эфіцыентам прапарцыйнасці з’яўляецца ўдзельная  цеплата плаўлення дадзенага рэчы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=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6680" y="4726080"/>
            <a:ext cx="35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удзельная цеплата плаўленн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8360" y="5562720"/>
            <a:ext cx="63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фармулюйце фізічны змест удзельнай цеплпты згаранн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ла</a:t>
            </a:r>
            <a:r>
              <a:rPr b="1" lang="be-BY" sz="3600" spc="-1" strike="noStrike">
                <a:solidFill>
                  <a:srgbClr val="000000"/>
                </a:solidFill>
                <a:latin typeface="Arial Black"/>
              </a:rPr>
              <a:t>ў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ленне і крышталізацы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лаўленне і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крышталізацы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66320" y="165708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валак свінцу паклалі ў лыжку і памясцілі над награвальніка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іртоўка не гарэла і свінец меў пакаёвую тэмператур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0 °С. 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C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ёрды свіне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тупова награваўся да тэ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7 °С. З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ён пачаў плавіцц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а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адначасова існуе цвёрдая і вадкая фа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ішыце працэсы, што адбываюцца на участка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, EF, FG, 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4572000"/>
            <a:ext cx="6072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66680" y="431640"/>
            <a:ext cx="2819520" cy="93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68580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лаўленне і крышталізацы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752480" y="16570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447920"/>
            <a:ext cx="607248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эмпературай плаўлен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зенаг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рэчыва называюць тэмпературу, пры якой адначасова існуюц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вадкая і цвёрдая фазы гэтыга рэчы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ература пла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е залежыць ад хуткасц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награванн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сканчэння плаўлення тэмпература цела і расплава застаецца аднолькава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дчас крышталізацыі тэмпература вадкасці і крышталізаванай фазы таксама аднолькав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ература крышталізацыі любога рэчыва роўна тэмпературы яго плаўле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Заданн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66320" y="165708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572000"/>
            <a:ext cx="6072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3200400" cy="939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6858000" cy="1974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77720" y="2133720"/>
            <a:ext cx="717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віце формулу для разліку колькасці цепла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кожнага ўчастка графі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парэнне і кандэнсацы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ўтварэнне, якое адбываецца з паверхні называец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арэнн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ўтварэнне, якое адбываецца па ўсім аб’ёме з утварэннем новых паверхняў (бурбалак) унутры вадкасц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іпенн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парэнне і кандэнсацы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е рэальныя газ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, азот,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значаных умовах здольныя пераўтварацца ў вадкасць. Аднак, такое пераўтварэнне можа адбывацца толькі пры тэмпературы, ніжэй 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кр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</a:rPr>
              <a:t>ы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т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</a:rPr>
              <a:t>ы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ч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</a:rPr>
              <a:t>ную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</a:rPr>
              <a:t>тэмпературу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ыклад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 к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ерат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ў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47,3 К, для аз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6 К, для кислор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,3 К. 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каёвай тэмперату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≈ 300 К)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мо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ходзіцца і ў вадкім, і ў газападобным стане, а азот і кісларод – толькі ў выглядзе газаў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31640" y="1628280"/>
            <a:ext cx="4267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 выпарэнні з паверхні вадкасці вылятаюць найбольш хуткія малекулы, кінетычная энергія якіх перавышае энергію сувязі з іншымімалекуламі вадкасц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эта вядзе да памяншэння сярэдняй кінетычнай энергіі астатніх малекул. Тэмпература вадкасці 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___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парэнн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і кандэнсацы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37040" cy="4325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46920" y="3429000"/>
            <a:ext cx="277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Пар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ўтварэн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к Вы думаеце, ад чаго залежыць скорасць выпарэння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7531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люнку прадстаўлены 3 спосабы цеплаабмену Назавіце іх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733560" cy="1911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0200" y="685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Разлік колькасці цепла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Пар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ўтварэн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лошч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но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верхні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ша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кая ўплывае на скорасць выпарэнн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7531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Пар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ўтварэн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эмпература рэчыв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руга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кая ўплывае на скорасць выпарэнн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71720" y="1523880"/>
            <a:ext cx="58770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Пар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ўтварэн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Шчыльнасць пары над паверхняй, з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кой адбываецца выпарэнн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рэця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кая ўплывае на хуткасць выпарэнн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286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араўтварэнн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46483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од рэчы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цвёртая прычына рознай скорасці параўтварэнн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200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і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пен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е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адкасцей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191120" y="10663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іпенн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ц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інтэнсіўна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ур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ўтварэнне, якое адбываецца па ўсім аб’ёме вадкасці ўнутры шматлікіх бурбалак насычанай пары, якія павялічваюцца ў памерах і ўсплываюць на паверхн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і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пен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е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адкасцей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0" y="1066680"/>
            <a:ext cx="3581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дчас кіпення вадкасц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эмпер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дкасці і пары над яе паверхняй аднолькавая і застаецца пастаяннай да поўнага выкіпання вадкасці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 змяншэнні ціску вадкасць пачынае кіпець пры меншай тэмператур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66680" y="1595520"/>
            <a:ext cx="3276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і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пен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е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адкасцей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876920" y="2285640"/>
            <a:ext cx="3581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зельная цеплата параўтварэн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лічыня, лікава роўная .................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990720"/>
            <a:ext cx="3581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ькасць цеплаты, неабходная для пераўтварэння вадкасці ў пару пры тэмпературы кіпення вылічваецца па формул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 = L 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5200" y="3809880"/>
            <a:ext cx="4611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колькасці цеплаты, паглынута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кг вадкасці пры пераходзе 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у пры дадзенай тэмперату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274320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юцца 2 эксперыментальныя ўстаноўкі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іпень з першай колб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іваюць да вады ў каларыметры, а вада з другой колбы самастойна пераходзіць у каларыметр у выглядзе пары, дзе зноў становіцца вадкасц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ЛУМАЧЦЕ, чаму ў другім каларыметры тэмпература падымаецца вышэй, калі колькасць дабаўленай вадкасці аднолькав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278000"/>
            <a:ext cx="5105520" cy="1617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6680" y="4572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Заданн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ндэнсацы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ндэнсацыя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эта пераход рэчыва з газападобнага стану ў вадк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2728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1f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21f48"/>
                </a:solidFill>
                <a:latin typeface="Times New Roman"/>
              </a:rPr>
              <a:t>Кандэнсацы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цэ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варотны працэсу выпарэн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энсацыі малекулы пары вяртаюцца ў вадкасц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аўтварэн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аз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дкасць з пункту глежжання МКТ  тлумачыцца тым, што пры збліжэнні малекул, паміж імі ўзнікаюць сілы прыцягнення і малекулы «зліпаюцц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утвараючы кропелькі вадкасц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95280" y="1547640"/>
            <a:ext cx="27464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плаа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’я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ў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іі аднаго цела ва ўнутраную энергію  іншаг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зя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ння механічна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ькасць ц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кая пераходзіць ад аднаго цела да другога пры цеплаабме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28800" y="4190760"/>
            <a:ext cx="6045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нні 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 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чатковай тэ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атуры вы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 к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касць цеплаты, якая был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ч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г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нне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95280" y="3047760"/>
            <a:ext cx="7391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р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эт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олб 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каторыя напоўненыя вадой, а некаторыя спірт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о дзе налі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867640" cy="1930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Заданн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5650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i="1" lang="be-BY" sz="2800" spc="-1" strike="noStrike">
                <a:solidFill>
                  <a:srgbClr val="000000"/>
                </a:solidFill>
                <a:latin typeface="Times New Roman"/>
              </a:rPr>
              <a:t>еп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аправоднасць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 цеплаты ад больш нагрэтых целаў да больш халодных у выніку цеплавога руху і ўзаемадзеяння часціц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лаправоднасць забяспечваецца хаатычнам рухам і ўзаемадзеяннем малекул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 </a:t>
            </a:r>
            <a:r>
              <a:rPr b="1" i="1" lang="be-BY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лаправоднасці няма пераносу рэчы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кая пераходзіць ад аднаго цела да другога пры цеплаабме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ькасць цепл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рыма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дадз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ы цеплаабме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арцыйна масе 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і змяненню яго тэмперату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э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п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’яўляецца ўдзельная цепла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істас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эч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0" y="4114440"/>
            <a:ext cx="29973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Q– атрыман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дадз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плата, Д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зельная цеплаё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эч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Дж/(кг°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m– маса цела, к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з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ератур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, °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26132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ная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ё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істасц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д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льны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я цеплаёмістасці некаторых рэчываў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, Дж/(кг°С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ні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20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60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ату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00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е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0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200 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100 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700 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5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н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ёмістасць рэчы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ізічная велічыня, лікава роўная колькасці цеплаты, якую патрэбна перадац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г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а рэчы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г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у яго н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С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зінка вымярэнн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Дж/(кг°С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арэнне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цэс выдзялення энергіі ў выніку хімічнай рэакцыі акіслення рэчыв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+ 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Q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дзельная цеплата згаранн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кая выдзяляецца пры поўным згаранні 1 кг рэчы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0" y="4647960"/>
            <a:ext cx="29973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Q – выдзеленая пры згаранні цеплата, Д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а, к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1120" y="4778280"/>
            <a:ext cx="1584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 = qm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1200" y="45720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Гарэн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ькі патрэбна спаліць дроваў, каб нагрэць  1 л вады пакаёвай тэмпературы (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да кіпення? (лічыць, што ўся цеплата, ідзе на награванне вад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6160" y="45720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Заданн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56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Фазавыя пера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эчыва пры вызначаных умовах можа знаходзіцца ў розных агрэгатных станах (фазах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ёрд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дкім і газападоб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з ад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зы ў інш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ц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фаз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</a:rPr>
              <a:t>а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вым пер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</a:rPr>
              <a:t>а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ход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</a:rPr>
              <a:t>а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21f48"/>
                </a:solidFill>
                <a:latin typeface="Times New Roman"/>
              </a:rPr>
              <a:t>Ф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  <a:ea typeface="Times New Roman"/>
              </a:rPr>
              <a:t>аз</a:t>
            </a:r>
            <a:r>
              <a:rPr b="1" i="1" lang="ru-RU" sz="2400" spc="-1" strike="noStrike">
                <a:solidFill>
                  <a:srgbClr val="121f48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аднародная частка рэчыва з аднолькавымі фізічнымі ўласцівасцямі па ўсім аб’ё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3657600"/>
            <a:ext cx="6286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2:36:37Z</dcterms:created>
  <dc:creator>*</dc:creator>
  <dc:description/>
  <dc:language>en-US</dc:language>
  <cp:lastModifiedBy>*</cp:lastModifiedBy>
  <dcterms:modified xsi:type="dcterms:W3CDTF">2005-10-04T12:39:56Z</dcterms:modified>
  <cp:revision>64</cp:revision>
  <dc:subject/>
  <dc:title>теплообмен – это явление перехода внутренней энергии одного тела во внутреннюю энергию другого тела без совершения механической работы. А количество теплоты – это энергия, перешедшая от одного тела к другому в ходе теплообмена. </dc:title>
</cp:coreProperties>
</file>