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5.png" ContentType="image/png"/>
  <Override PartName="/ppt/media/image22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9.gif" ContentType="image/gif"/>
  <Override PartName="/ppt/media/image10.gif" ContentType="image/gif"/>
  <Override PartName="/ppt/media/image12.gif" ContentType="image/gif"/>
  <Override PartName="/ppt/media/image3.png" ContentType="image/png"/>
  <Override PartName="/ppt/media/image26.png" ContentType="image/png"/>
  <Override PartName="/ppt/media/image2.jpeg" ContentType="image/jpeg"/>
  <Override PartName="/ppt/media/image28.png" ContentType="image/png"/>
  <Override PartName="/ppt/media/image1.wmf" ContentType="image/x-wmf"/>
  <Override PartName="/ppt/media/image15.gif" ContentType="image/gif"/>
  <Override PartName="/ppt/media/image18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3.png" ContentType="image/png"/>
  <Override PartName="/ppt/media/image20.gif" ContentType="image/gif"/>
  <Override PartName="/ppt/media/image30.gif" ContentType="image/gif"/>
  <Override PartName="/ppt/media/image23.png" ContentType="image/png"/>
  <Override PartName="/ppt/media/image14.png" ContentType="image/png"/>
  <Override PartName="/ppt/media/image2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CFA6-FECB-4ED9-9C5D-50FE9BF4FA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0000"/>
                </a:solidFill>
                <a:latin typeface="Times New Roman"/>
              </a:rPr>
              <a:t>Сацыялiзаваны – умее прыстасавацца да сытуацыi i здольны зьмянiць яе у лепшы б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0000"/>
                </a:solidFill>
                <a:latin typeface="Times New Roman"/>
              </a:rPr>
              <a:t>Сацыялiзаваны – умее прыстасавацца да сытуацыi i здольны зьмянiць яе у лепшы б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0000"/>
                </a:solidFill>
                <a:latin typeface="Times New Roman"/>
              </a:rPr>
              <a:t>Сацыялiзаваны – умее прыстасавацца да сытуацыi i здольны зьмянiць яе у лепшы б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0000"/>
                </a:solidFill>
                <a:latin typeface="Times New Roman"/>
              </a:rPr>
              <a:t>Сацыялiзаваны – умее прыстасавацца да сытуацыi i здольны зьмянiць яе у лепшы б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38E-3FE0-4305-8B93-3F23320F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D0B-46AE-47CE-8EE3-C087C0B4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180-8BE2-42CF-8AE5-571A203C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75F-CA1D-4C07-9E0C-1144AEFF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63B8-EA9A-46C3-A48A-FEB375C2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FF84-D057-41DE-84AA-9CB236E1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652A-7F7E-4A20-AE3D-2AB300BB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C0A9-1E12-47B3-9C81-C7E56E63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2D39-3D33-4863-BFC9-C5CA1A24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69B9-2647-4C35-9EEB-BA8F3057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79E4-0D6D-4F1D-BBC9-B6D2A0A5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6DF-A98A-42D0-98F7-B0987172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4CD7-5835-48DA-9EC1-F50907F7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5299-646B-49A3-B444-0FDCA06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7177-29CB-43F2-B3EE-84F4ECA7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239E-37F3-40DC-865F-00F15538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E705-776B-4400-9FB7-66B1EF39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0D1-AD16-4958-A9A0-98F11A2C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43A-A139-44B0-8D5D-4E6A6519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D35-CC03-4CBB-88AC-661339A7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EC2-9482-4B92-A59B-7F5C3890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E94-E088-4E83-96E1-03A0707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E2B-0DA2-4CE9-9F06-FA99BA2C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1E3-27DC-41B8-9099-37C1C33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0931-1BB0-4ECF-8007-4CAAAE2EBA43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EA14-BA12-45FF-8360-FA8E05508C18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770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 Black"/>
              </a:rPr>
              <a:t>Электрычныя з</a:t>
            </a:r>
            <a:r>
              <a:rPr b="0" lang="be-BY" sz="4800" spc="-1" strike="noStrike">
                <a:solidFill>
                  <a:srgbClr val="003366"/>
                </a:solidFill>
                <a:latin typeface="Arial Black"/>
              </a:rPr>
              <a:t>’явы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003366"/>
                </a:solidFill>
                <a:latin typeface="Arial"/>
              </a:rPr>
              <a:t>Беларускі гуманітарны ліцэ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58920" y="358920"/>
          <a:ext cx="72360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358920"/>
                    <a:ext cx="7236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219320" y="3352680"/>
            <a:ext cx="6769080" cy="2436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90920" y="1371600"/>
            <a:ext cx="39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   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3366"/>
                </a:solidFill>
                <a:latin typeface="Arial Black"/>
              </a:rPr>
              <a:t>Будова АТАМА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58920" y="358920"/>
          <a:ext cx="72360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358920"/>
                    <a:ext cx="7236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58920" y="1125360"/>
            <a:ext cx="7467480" cy="5257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892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580000" y="836280"/>
            <a:ext cx="3317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be-BY" sz="3200" spc="-1" strike="noStrike">
                <a:solidFill>
                  <a:srgbClr val="003366"/>
                </a:solidFill>
                <a:latin typeface="Arial"/>
              </a:rPr>
              <a:t>Атам – электрычна- нейтральная часціца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be-BY" sz="3200" spc="-1" strike="noStrike">
                <a:solidFill>
                  <a:srgbClr val="003366"/>
                </a:solidFill>
                <a:latin typeface="Arial"/>
              </a:rPr>
              <a:t>Памер Атама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~ </a:t>
            </a:r>
            <a:r>
              <a:rPr b="0" lang="be-BY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0 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– 1</a:t>
            </a:r>
            <a:r>
              <a:rPr b="0" lang="be-BY" sz="3200" spc="-1" strike="noStrike" baseline="30000">
                <a:solidFill>
                  <a:srgbClr val="0033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76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01760" y="1413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486400" cy="5443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24000" y="620280"/>
            <a:ext cx="8424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be-BY" sz="2800" spc="-1" strike="noStrike">
                <a:solidFill>
                  <a:srgbClr val="003366"/>
                </a:solidFill>
                <a:latin typeface="Times New Roman"/>
              </a:rPr>
              <a:t>Вывады.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Не бывае зараду без часціц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Зарад часціцы не залежыць ад масы. (Маса пратона нашмат большая за масу электрона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Зарад – дыскрэтная велічыня, г. зн ён прымае значэнні, кратныя элементарнаму  зараду е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1" i="1" lang="be-BY" sz="3200" spc="-1" strike="noStrike">
                <a:solidFill>
                  <a:srgbClr val="003366"/>
                </a:solidFill>
                <a:latin typeface="Times New Roman"/>
              </a:rPr>
              <a:t>| q| = Ne,  e =1,6× 10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be-BY" sz="3200" spc="-1" strike="noStrike" baseline="30000">
                <a:solidFill>
                  <a:srgbClr val="003366"/>
                </a:solidFill>
                <a:latin typeface="Times New Roman"/>
              </a:rPr>
              <a:t>-</a:t>
            </a:r>
            <a:r>
              <a:rPr b="1" i="1" lang="be-BY" sz="3200" spc="-1" strike="noStrike">
                <a:solidFill>
                  <a:srgbClr val="003366"/>
                </a:solidFill>
                <a:latin typeface="Times New Roman"/>
              </a:rPr>
              <a:t>19 Кл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Існуе 2 віды зараду. Носьбітам элементарнага адмоўнага зараду з’яўляецца электрон. Носьбітам элементарнага дадатнага зараду – пратон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3366"/>
                </a:solidFill>
                <a:latin typeface="Arial Black"/>
              </a:rPr>
              <a:t>Праваднікі і дыэлектрыкі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067280" y="1557000"/>
            <a:ext cx="45432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Праваднікі – рэчывы, у якіх ёсць свабодныя зараджаныя часціцы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Дыэлектрыкі – рэчывы, якія не маюць свабодных зараджаных часціц. Зарад па іх не перамяшчаецц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024000" cy="2521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653000"/>
            <a:ext cx="3600360" cy="93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3366"/>
                </a:solidFill>
                <a:latin typeface="Arial Black"/>
              </a:rPr>
              <a:t>Праваднікі і дыэлектрыкі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471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200" spc="-1" strike="noStrike">
                <a:solidFill>
                  <a:srgbClr val="003366"/>
                </a:solidFill>
                <a:latin typeface="Arial Black"/>
              </a:rPr>
              <a:t>Праваднікі і </a:t>
            </a:r>
            <a:r>
              <a:rPr b="0" lang="be-BY" sz="4200" spc="-1" strike="noStrike">
                <a:solidFill>
                  <a:srgbClr val="003366"/>
                </a:solidFill>
                <a:latin typeface="Arial Black"/>
              </a:rPr>
              <a:t>дыэлектрыкі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3048120" cy="1581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1176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01760" y="1413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03876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003366"/>
                </a:solidFill>
                <a:latin typeface="Arial"/>
              </a:rPr>
              <a:t>Электрызацыя цел трэннем</a:t>
            </a:r>
            <a:r>
              <a:rPr b="1" lang="be-BY" sz="3600" spc="-1" strike="noStrike">
                <a:solidFill>
                  <a:srgbClr val="003366"/>
                </a:solidFill>
                <a:latin typeface="Arial Black"/>
              </a:rPr>
              <a:t>  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456000" cy="207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1692360" y="3860640"/>
          <a:ext cx="218124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3860640"/>
                    <a:ext cx="21812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11280" y="3789360"/>
            <a:ext cx="8064360" cy="2540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611280" y="1700280"/>
            <a:ext cx="3300480" cy="195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3366"/>
                </a:solidFill>
                <a:latin typeface="Verdana"/>
              </a:rPr>
              <a:t>Электрызацыя трэннем тлумачыцца пераходам часткі электронаў ад аднаго цела да другога.</a:t>
            </a:r>
            <a:br>
              <a:rPr sz="4000"/>
            </a:br>
            <a:br>
              <a:rPr sz="4000"/>
            </a:br>
            <a:r>
              <a:rPr b="1" lang="be-BY" sz="4000" spc="-1" strike="noStrike">
                <a:solidFill>
                  <a:srgbClr val="003366"/>
                </a:solidFill>
                <a:latin typeface="Verdana"/>
              </a:rPr>
              <a:t>Таму целы зараджаюцца разнайменна і заўсёды прыцягваюцца</a:t>
            </a:r>
            <a:r>
              <a:rPr b="1" lang="be-BY" sz="4000" spc="-1" strike="noStrike">
                <a:solidFill>
                  <a:srgbClr val="003366"/>
                </a:solidFill>
                <a:latin typeface="Times New Roman"/>
              </a:rPr>
              <a:t> .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75080" y="2198520"/>
            <a:ext cx="268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3366"/>
                </a:solidFill>
                <a:latin typeface="Arial"/>
              </a:rPr>
              <a:t>Электрызацыя цел праз уплыў</a:t>
            </a:r>
            <a:br>
              <a:rPr sz="4000"/>
            </a:br>
            <a:r>
              <a:rPr b="1" lang="be-BY" sz="4000" spc="-1" strike="noStrike">
                <a:solidFill>
                  <a:srgbClr val="003366"/>
                </a:solidFill>
                <a:latin typeface="Arial"/>
              </a:rPr>
              <a:t> (электрастатычная індукцыя)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92360" y="3860640"/>
          <a:ext cx="218124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860640"/>
                    <a:ext cx="21812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24000" y="2276640"/>
            <a:ext cx="8321400" cy="1706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7490160" cy="1460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3366"/>
                </a:solidFill>
                <a:latin typeface="Arial"/>
              </a:rPr>
              <a:t>Электрызацыя цел праз уплыў</a:t>
            </a:r>
            <a:br>
              <a:rPr sz="4000"/>
            </a:br>
            <a:r>
              <a:rPr b="1" lang="be-BY" sz="4000" spc="-1" strike="noStrike">
                <a:solidFill>
                  <a:srgbClr val="003366"/>
                </a:solidFill>
                <a:latin typeface="Arial"/>
              </a:rPr>
              <a:t> (электрастатычная індукцыя)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1471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003366"/>
                </a:solidFill>
                <a:latin typeface="Times New Roman"/>
              </a:rPr>
              <a:t>пераразмеркаванне зарадаў у целе, якое выклікаецца ўздзеяннем другого зараджанага цела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8244000" cy="2195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58920" y="358920"/>
          <a:ext cx="72360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358920"/>
                    <a:ext cx="7236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9325080" cy="6991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544500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66"/>
                </a:solidFill>
                <a:latin typeface="Arial"/>
              </a:rPr>
              <a:t>Заданне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66"/>
                </a:solidFill>
                <a:latin typeface="Arial"/>
              </a:rPr>
              <a:t>Перакладзіце на беларускую мов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211560" cy="3457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1176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1760" y="1413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13244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3366"/>
                </a:solidFill>
                <a:latin typeface="Times New Roman"/>
              </a:rPr>
              <a:t>Растлумачце з’яву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386000" y="1600200"/>
          <a:ext cx="218124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1600200"/>
                    <a:ext cx="21812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523880" y="1843200"/>
            <a:ext cx="5208840" cy="390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3366"/>
                </a:solidFill>
                <a:latin typeface="Arial Black"/>
              </a:rPr>
              <a:t>Што пакажа электрометр?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35880" cy="4275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353440" cy="3760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3366"/>
                </a:solidFill>
                <a:latin typeface="Times New Roman"/>
              </a:rPr>
              <a:t>Выкарыстанне электрызацыі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386000" y="1600200"/>
          <a:ext cx="218124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1600200"/>
                    <a:ext cx="21812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557360"/>
            <a:ext cx="7427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003366"/>
                </a:solidFill>
                <a:latin typeface="Times New Roman"/>
              </a:rPr>
              <a:t>Капіравальныя апараты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003366"/>
                </a:solidFill>
                <a:latin typeface="Times New Roman"/>
              </a:rPr>
              <a:t>Лазерныя друкаркі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003366"/>
                </a:solidFill>
                <a:latin typeface="Times New Roman"/>
              </a:rPr>
              <a:t>Ачыстка вады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58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 Black"/>
              </a:rPr>
              <a:t>Электрызацыя – </a:t>
            </a:r>
            <a:r>
              <a:rPr b="1" lang="be-BY" sz="4000" spc="-1" strike="noStrike">
                <a:solidFill>
                  <a:srgbClr val="003366"/>
                </a:solidFill>
                <a:latin typeface="Arial Black"/>
              </a:rPr>
              <a:t>перадача целу электрычнага зарад</a:t>
            </a:r>
            <a:r>
              <a:rPr b="1" lang="ru-RU" sz="4000" spc="-1" strike="noStrike">
                <a:solidFill>
                  <a:srgbClr val="003366"/>
                </a:solidFill>
                <a:latin typeface="Arial Black"/>
              </a:rPr>
              <a:t>у</a:t>
            </a:r>
            <a:r>
              <a:rPr b="1" lang="be-BY" sz="4000" spc="-1" strike="noStrike">
                <a:solidFill>
                  <a:srgbClr val="003366"/>
                </a:solidFill>
                <a:latin typeface="Arial Black"/>
              </a:rPr>
              <a:t>.</a:t>
            </a:r>
            <a:br>
              <a:rPr sz="4000"/>
            </a:b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Arial Black"/>
              </a:rPr>
              <a:t>Зараджаныя целы маюць уласцівасць прыцягвацца альбо адштурхоўвацца з сілай, большай за гравітацыйную.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58920" y="358920"/>
          <a:ext cx="72360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358920"/>
                    <a:ext cx="7236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3366"/>
                </a:solidFill>
                <a:latin typeface="Arial Black"/>
              </a:rPr>
              <a:t>Прыклады электрызацыі</a:t>
            </a:r>
            <a:r>
              <a:rPr b="1" lang="be-BY" sz="3200" spc="-1" strike="noStrike">
                <a:solidFill>
                  <a:srgbClr val="003366"/>
                </a:solidFill>
                <a:latin typeface="Arial Black"/>
              </a:rPr>
              <a:t> 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31280" y="1700280"/>
            <a:ext cx="15127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3366"/>
                </a:solidFill>
                <a:latin typeface="Arial Black"/>
              </a:rPr>
              <a:t>Узаемадзеянне зараджаных цел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Пры кантакце электрычныя зарады ўзнікаюць на абодвух целах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Сілы ўзаемадзеяння памяншаюцца з павелічэннем адлегласці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Існуюць 2 тыпы зараду: адмоўны і дадатны. Аднаіменна зараджаныя целы  адштурхоўваюцца, рознаіменныя – прыцягваюцц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2924280"/>
            <a:ext cx="1238400" cy="1438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84720" y="1700280"/>
            <a:ext cx="1800360" cy="94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be-BY" sz="4000" spc="-1" strike="noStrike">
                <a:solidFill>
                  <a:srgbClr val="003366"/>
                </a:solidFill>
                <a:latin typeface="Arial Black"/>
              </a:rPr>
              <a:t>Электраскоп – 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Arial Black"/>
              </a:rPr>
              <a:t>прыбор для выяўлення электрычнага зараду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2832120" cy="4956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176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01760" y="1413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5530680" cy="595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51680" y="2565360"/>
            <a:ext cx="2165400" cy="2664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176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01760" y="1413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4987800" cy="3741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404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3366"/>
                </a:solidFill>
                <a:latin typeface="Arial"/>
              </a:rPr>
              <a:t>Электрометр  </a:t>
            </a: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–  прыбор, для вымярэння электрычнага зараду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3366"/>
                </a:solidFill>
                <a:latin typeface="Arial Black"/>
              </a:rPr>
              <a:t>Дослед Мілікен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21:29Z</dcterms:created>
  <dc:creator>*</dc:creator>
  <dc:description/>
  <dc:language>en-US</dc:language>
  <cp:lastModifiedBy>*</cp:lastModifiedBy>
  <dcterms:modified xsi:type="dcterms:W3CDTF">2005-11-01T08:12:56Z</dcterms:modified>
  <cp:revision>239</cp:revision>
  <dc:subject/>
  <dc:title>Настаўнiк. Школа. Грамадзтва.</dc:title>
</cp:coreProperties>
</file>