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png" ContentType="image/png"/>
  <Override PartName="/ppt/media/image5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B751-2E6F-4422-BE4F-2D268126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4E9-A731-4429-BD94-A4AA6EF6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303-2578-4850-BA5B-0C3F9E54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C4B-F879-4CBD-9964-F608A3AF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188C-0051-4AE8-93B0-365BDC86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4B10-10CE-40FA-90D4-5E51BC3A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CFFD-CE74-4EB0-9DC3-7B10EB0F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5750-720C-42DF-A791-193B8884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8192-E78B-446D-AD9F-5835D662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1B45-75DD-4581-A2FF-F81F7266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03CD-8E83-48E2-9D8D-0AE13DDD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9DC-186B-4D35-BF8F-BB72BF7D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B0B3-219A-49B6-AED7-CDDADD0F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F924-95E2-4F63-A02E-3426B0C6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19A5-FAEA-4454-8E03-61B690B0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5B80-CAA4-48B7-8160-0AAF60E9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4255-B7D5-47F9-9A45-61F16F09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FA5-6561-4654-B0EE-079EF86B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D68-7852-4DCB-97BD-E20D5EF0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F2D-E9D5-4269-B255-3C4F7175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1A5-D723-460B-BD47-15C2F512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4C0-BE7C-4CCF-A51A-7934D866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6CF-DCF1-4AD8-B5BB-1D1B5865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630-787F-44CC-9170-A876CC0B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67BC-2C75-43A9-BA94-49956F73AFC0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6626-7E72-4EDD-9545-7161B43AF341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70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 Black"/>
              </a:rPr>
              <a:t>С</a:t>
            </a:r>
            <a:r>
              <a:rPr b="0" lang="be-BY" sz="4800" spc="-1" strike="noStrike">
                <a:solidFill>
                  <a:srgbClr val="003366"/>
                </a:solidFill>
                <a:latin typeface="Arial Black"/>
              </a:rPr>
              <a:t>упраціўленне </a:t>
            </a:r>
            <a:r>
              <a:rPr b="0" lang="ru-RU" sz="4800" spc="-1" strike="noStrike">
                <a:solidFill>
                  <a:srgbClr val="003366"/>
                </a:solidFill>
                <a:latin typeface="Arial Black"/>
              </a:rPr>
              <a:t> правадн</a:t>
            </a:r>
            <a:r>
              <a:rPr b="0" lang="be-BY" sz="4800" spc="-1" strike="noStrike">
                <a:solidFill>
                  <a:srgbClr val="003366"/>
                </a:solidFill>
                <a:latin typeface="Arial Black"/>
              </a:rPr>
              <a:t>і</a:t>
            </a:r>
            <a:r>
              <a:rPr b="0" lang="ru-RU" sz="4800" spc="-1" strike="noStrike">
                <a:solidFill>
                  <a:srgbClr val="003366"/>
                </a:solidFill>
                <a:latin typeface="Arial Black"/>
              </a:rPr>
              <a:t>коў. Віды злучэнняў 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5943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58920" y="358920"/>
          <a:ext cx="72360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358920"/>
                    <a:ext cx="7236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590920" y="1371600"/>
            <a:ext cx="39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   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514600" y="3048120"/>
            <a:ext cx="4267080" cy="3043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38480" y="277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428640" y="380520"/>
            <a:ext cx="5181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Рэастат – прыбор, супрацiўленне якога можна змяняць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э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таты </a:t>
            </a: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выкарыстоўваюцца для рэгулявання току ў ланцугу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200400" cy="1477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143000" y="3886200"/>
            <a:ext cx="645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ывядзiце прыклады выкарыстання рэастата ў хатнiх прыладах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00400" y="152388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Якое злучэнне праваднiкоў называецца </a:t>
            </a:r>
            <a:r>
              <a:rPr b="1" lang="be-BY" sz="2800" spc="-1" strike="noStrike">
                <a:solidFill>
                  <a:srgbClr val="003366"/>
                </a:solidFill>
                <a:latin typeface="Times New Roman"/>
              </a:rPr>
              <a:t>паслядоўным?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ралельны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2800"/>
            </a:b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839960"/>
            <a:ext cx="2660760" cy="3178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40" y="310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380880"/>
            <a:ext cx="868680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 Black"/>
              </a:rPr>
              <a:t>В</a:t>
            </a:r>
            <a:r>
              <a:rPr b="0" lang="be-BY" sz="3600" spc="-1" strike="noStrike">
                <a:solidFill>
                  <a:srgbClr val="003366"/>
                </a:solidFill>
                <a:latin typeface="Arial Black"/>
              </a:rPr>
              <a:t>iды злучэнняў праваднiкоў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114800" y="3886200"/>
            <a:ext cx="4365720" cy="2479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38480" y="277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371240" y="685800"/>
            <a:ext cx="6553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</a:t>
            </a:r>
            <a:r>
              <a:rPr b="1" lang="be-BY" sz="2400" spc="-1" strike="noStrike">
                <a:solidFill>
                  <a:srgbClr val="000000"/>
                </a:solidFill>
                <a:latin typeface="Times New Roman"/>
              </a:rPr>
              <a:t>як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296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296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e-BY" sz="2400" spc="-1" strike="noStrike">
                <a:solidFill>
                  <a:srgbClr val="000000"/>
                </a:solidFill>
                <a:latin typeface="Times New Roman"/>
              </a:rPr>
              <a:t>згод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ну Ома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296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296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</a:t>
            </a:r>
            <a:r>
              <a:rPr b="1" lang="be-BY" sz="2400" spc="-1" strike="noStrike">
                <a:solidFill>
                  <a:srgbClr val="000000"/>
                </a:solidFill>
                <a:latin typeface="Times New Roman"/>
              </a:rPr>
              <a:t>падстаўляюч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e-BY" sz="2400" spc="-1" strike="noStrike">
                <a:solidFill>
                  <a:srgbClr val="000000"/>
                </a:solidFill>
                <a:latin typeface="Times New Roman"/>
              </a:rPr>
              <a:t>атрымае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296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296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Times New Roman"/>
              </a:rPr>
              <a:t>Ал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296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296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Times New Roman"/>
              </a:rPr>
              <a:t>тад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296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296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есем </a:t>
            </a:r>
            <a:r>
              <a:rPr b="1" lang="be-BY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e-BY" sz="2400" spc="-1" strike="noStrike">
                <a:solidFill>
                  <a:srgbClr val="000000"/>
                </a:solidFill>
                <a:latin typeface="Times New Roman"/>
              </a:rPr>
              <a:t>скароцiм агульны множнi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296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97040" y="762120"/>
            <a:ext cx="2051280" cy="388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8320" y="1335240"/>
            <a:ext cx="1523880" cy="314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791320" y="1981080"/>
            <a:ext cx="2971800" cy="384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286000" y="2590920"/>
            <a:ext cx="1600200" cy="428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438280" y="3335400"/>
            <a:ext cx="259092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2362320" y="4419720"/>
            <a:ext cx="2286000" cy="314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5105520" y="5105520"/>
            <a:ext cx="3429000" cy="1028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33240" y="257040"/>
            <a:ext cx="625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 Black"/>
              </a:rPr>
              <a:t>Законы </a:t>
            </a:r>
            <a:r>
              <a:rPr b="0" lang="be-BY" sz="2200" spc="-1" strike="noStrike">
                <a:solidFill>
                  <a:srgbClr val="003366"/>
                </a:solidFill>
                <a:latin typeface="Arial Black"/>
              </a:rPr>
              <a:t>паслядоўнага злучэння</a:t>
            </a:r>
            <a:r>
              <a:rPr b="0" lang="ru-RU" sz="2200" spc="-1" strike="noStrike">
                <a:solidFill>
                  <a:srgbClr val="003366"/>
                </a:solidFill>
                <a:latin typeface="Arial Black"/>
              </a:rPr>
              <a:t> пр</a:t>
            </a:r>
            <a:r>
              <a:rPr b="0" lang="be-BY" sz="2200" spc="-1" strike="noStrike">
                <a:solidFill>
                  <a:srgbClr val="003366"/>
                </a:solidFill>
                <a:latin typeface="Arial Black"/>
              </a:rPr>
              <a:t>а</a:t>
            </a:r>
            <a:r>
              <a:rPr b="0" lang="ru-RU" sz="2200" spc="-1" strike="noStrike">
                <a:solidFill>
                  <a:srgbClr val="003366"/>
                </a:solidFill>
                <a:latin typeface="Arial Black"/>
              </a:rPr>
              <a:t>в</a:t>
            </a:r>
            <a:r>
              <a:rPr b="0" lang="be-BY" sz="2200" spc="-1" strike="noStrike">
                <a:solidFill>
                  <a:srgbClr val="003366"/>
                </a:solidFill>
                <a:latin typeface="Arial Black"/>
              </a:rPr>
              <a:t>а</a:t>
            </a:r>
            <a:r>
              <a:rPr b="0" lang="ru-RU" sz="2200" spc="-1" strike="noStrike">
                <a:solidFill>
                  <a:srgbClr val="003366"/>
                </a:solidFill>
                <a:latin typeface="Arial Black"/>
              </a:rPr>
              <a:t>дн</a:t>
            </a:r>
            <a:r>
              <a:rPr b="0" lang="be-BY" sz="2200" spc="-1" strike="noStrike">
                <a:solidFill>
                  <a:srgbClr val="003366"/>
                </a:solidFill>
                <a:latin typeface="Arial Black"/>
              </a:rPr>
              <a:t>iкоў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838080" y="4952880"/>
            <a:ext cx="3505320" cy="1354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00400" y="251460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0" y="310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304920"/>
            <a:ext cx="8686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 Black"/>
              </a:rPr>
              <a:t>Законы </a:t>
            </a:r>
            <a:r>
              <a:rPr b="0" lang="be-BY" sz="3600" spc="-1" strike="noStrike">
                <a:solidFill>
                  <a:srgbClr val="003366"/>
                </a:solidFill>
                <a:latin typeface="Arial Black"/>
              </a:rPr>
              <a:t>паслядоўнага злучэння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9480" y="2205000"/>
            <a:ext cx="8534520" cy="2414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44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95280" y="4800600"/>
            <a:ext cx="5126040" cy="853920"/>
            <a:chOff x="1295280" y="4800600"/>
            <a:chExt cx="5126040" cy="853920"/>
          </a:xfrm>
        </p:grpSpPr>
        <p:sp>
          <p:nvSpPr>
            <p:cNvPr id="208" name=""/>
            <p:cNvSpPr/>
            <p:nvPr/>
          </p:nvSpPr>
          <p:spPr>
            <a:xfrm>
              <a:off x="1295280" y="4800600"/>
              <a:ext cx="5126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95280" y="4800600"/>
              <a:ext cx="44658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e-BY" sz="2400" spc="-1" strike="noStrike">
                  <a:solidFill>
                    <a:srgbClr val="000000"/>
                  </a:solidFill>
                  <a:latin typeface="Times New Roman"/>
                </a:rPr>
                <a:t>Агульнае супрацiўленне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be-BY" sz="2400" spc="-1" strike="noStrike">
                  <a:solidFill>
                    <a:srgbClr val="000000"/>
                  </a:solidFill>
                  <a:latin typeface="Times New Roman"/>
                </a:rPr>
                <a:t>паслядоўнага злучэння роўна суме супрацiўленняў яго асобных участкаў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00400" y="251460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0" y="310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04920"/>
            <a:ext cx="8686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 Black"/>
              </a:rPr>
              <a:t>Законы паралельн</a:t>
            </a:r>
            <a:r>
              <a:rPr b="0" lang="be-BY" sz="3600" spc="-1" strike="noStrike">
                <a:solidFill>
                  <a:srgbClr val="003366"/>
                </a:solidFill>
                <a:latin typeface="Arial Black"/>
              </a:rPr>
              <a:t>ага</a:t>
            </a:r>
            <a:r>
              <a:rPr b="0" lang="ru-RU" sz="36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0" lang="be-BY" sz="3600" spc="-1" strike="noStrike">
                <a:solidFill>
                  <a:srgbClr val="003366"/>
                </a:solidFill>
                <a:latin typeface="Arial Black"/>
              </a:rPr>
              <a:t>злучэння</a:t>
            </a:r>
            <a:r>
              <a:rPr b="0" lang="ru-RU" sz="36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0" lang="be-BY" sz="3600" spc="-1" strike="noStrike">
                <a:solidFill>
                  <a:srgbClr val="003366"/>
                </a:solidFill>
                <a:latin typeface="Arial Black"/>
              </a:rPr>
              <a:t>праваднiкоў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720960" cy="5062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4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715000" y="2209680"/>
            <a:ext cx="3429000" cy="3351960"/>
            <a:chOff x="5715000" y="2209680"/>
            <a:chExt cx="3429000" cy="3351960"/>
          </a:xfrm>
        </p:grpSpPr>
        <p:sp>
          <p:nvSpPr>
            <p:cNvPr id="218" name=""/>
            <p:cNvSpPr/>
            <p:nvPr/>
          </p:nvSpPr>
          <p:spPr>
            <a:xfrm>
              <a:off x="5715000" y="2209680"/>
              <a:ext cx="3429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15000" y="2209680"/>
              <a:ext cx="2987280" cy="33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e-BY" sz="2400" spc="-1" strike="noStrike">
                  <a:solidFill>
                    <a:srgbClr val="000000"/>
                  </a:solidFill>
                  <a:latin typeface="Times New Roman"/>
                </a:rPr>
                <a:t>Велiчыня, зваротная агульнаму супрацiўленню паралельнага злучэнн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р</a:t>
              </a:r>
              <a:r>
                <a:rPr b="0" lang="be-BY" sz="2400" spc="-1" strike="noStrike">
                  <a:solidFill>
                    <a:srgbClr val="000000"/>
                  </a:solidFill>
                  <a:latin typeface="Times New Roman"/>
                </a:rPr>
                <a:t>оў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суме вел</a:t>
              </a:r>
              <a:r>
                <a:rPr b="0" lang="be-BY" sz="2400" spc="-1" strike="noStrike">
                  <a:solidFill>
                    <a:srgbClr val="000000"/>
                  </a:solidFill>
                  <a:latin typeface="Times New Roman"/>
                </a:rPr>
                <a:t>iчын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be-BY" sz="2400" spc="-1" strike="noStrike">
                  <a:solidFill>
                    <a:srgbClr val="000000"/>
                  </a:solidFill>
                  <a:latin typeface="Times New Roman"/>
                </a:rPr>
                <a:t>зваротных супрацiўленняў яго асобных участкаў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505320" y="4038480"/>
            <a:ext cx="2171520" cy="606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</a:t>
            </a: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злiчыць супрацiўленне ў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частка </a:t>
            </a: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ланцуг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калi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= 2</a:t>
            </a: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 Ом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, R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= 4 </a:t>
            </a: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Ом.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6705720" cy="2593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</a:t>
            </a: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злiчыць супрацiўленне ў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частка </a:t>
            </a: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ланцуг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калi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= 2</a:t>
            </a: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 Ом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, R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= 4 </a:t>
            </a: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Ом.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715000" cy="3233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893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e-BY" sz="3200" spc="-1" strike="noStrike">
                <a:solidFill>
                  <a:srgbClr val="003366"/>
                </a:solidFill>
                <a:latin typeface="Times New Roman"/>
              </a:rPr>
              <a:t>Работа току</a:t>
            </a: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 – гэта работа электрычных сiл, якiя перамяшчаюць электрычныя зарады. </a:t>
            </a:r>
            <a:br>
              <a:rPr sz="3200"/>
            </a:b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Напружанне  – работа эл. сiл па перамяшчэнню адзiнкавага зараду, значыць </a:t>
            </a:r>
            <a:r>
              <a:rPr b="1" lang="be-BY" sz="32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lang="be-BY" sz="3200" spc="-1" strike="noStrike" baseline="-25000">
                <a:solidFill>
                  <a:srgbClr val="003366"/>
                </a:solidFill>
                <a:latin typeface="Times New Roman"/>
              </a:rPr>
              <a:t>эл</a:t>
            </a:r>
            <a:r>
              <a:rPr b="1" lang="be-BY" sz="32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be-BY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U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br>
              <a:rPr sz="3200"/>
            </a:b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Але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 = q/</a:t>
            </a:r>
            <a:r>
              <a:rPr b="1" lang="el-GR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Δ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q = I </a:t>
            </a:r>
            <a:r>
              <a:rPr b="1" lang="el-GR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Δ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be-BY" sz="3200" spc="-1" strike="noStrike" u="sng">
                <a:solidFill>
                  <a:srgbClr val="003366"/>
                </a:solidFill>
                <a:uFillTx/>
                <a:latin typeface="Times New Roman"/>
              </a:rPr>
              <a:t>А</a:t>
            </a:r>
            <a:r>
              <a:rPr b="1" lang="be-BY" sz="3200" spc="-1" strike="noStrike" u="sng" baseline="-25000">
                <a:solidFill>
                  <a:srgbClr val="003366"/>
                </a:solidFill>
                <a:uFillTx/>
                <a:latin typeface="Times New Roman"/>
              </a:rPr>
              <a:t>эл</a:t>
            </a:r>
            <a:r>
              <a:rPr b="1" lang="be-BY" sz="3200" spc="-1" strike="noStrike" u="sng">
                <a:solidFill>
                  <a:srgbClr val="003366"/>
                </a:solidFill>
                <a:uFillTx/>
                <a:latin typeface="Times New Roman"/>
              </a:rPr>
              <a:t> =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I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U </a:t>
            </a:r>
            <a:r>
              <a:rPr b="1" lang="el-GR" sz="32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Δ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 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1844280"/>
            <a:ext cx="8893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be-BY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be-BY" sz="3200" spc="-1" strike="noStrike" u="sng">
                <a:solidFill>
                  <a:srgbClr val="003366"/>
                </a:solidFill>
                <a:uFillTx/>
                <a:latin typeface="Times New Roman"/>
              </a:rPr>
              <a:t>А</a:t>
            </a:r>
            <a:r>
              <a:rPr b="1" lang="be-BY" sz="3200" spc="-1" strike="noStrike" u="sng" baseline="-25000">
                <a:solidFill>
                  <a:srgbClr val="003366"/>
                </a:solidFill>
                <a:uFillTx/>
                <a:latin typeface="Times New Roman"/>
              </a:rPr>
              <a:t>эл</a:t>
            </a:r>
            <a:r>
              <a:rPr b="1" lang="be-BY" sz="3200" spc="-1" strike="noStrike" u="sng">
                <a:solidFill>
                  <a:srgbClr val="003366"/>
                </a:solidFill>
                <a:uFillTx/>
                <a:latin typeface="Times New Roman"/>
              </a:rPr>
              <a:t> =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I U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l-GR" sz="32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Δ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 </a:t>
            </a:r>
            <a:br>
              <a:rPr sz="3200"/>
            </a:b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. Адзiнкi 1 В, 1 А, 1 с и 1 Дж выбраныя такiм чынам, што 1 В · 1 А · 1 с = 1 Дж</a:t>
            </a:r>
            <a:br>
              <a:rPr sz="3200"/>
            </a:br>
            <a:br>
              <a:rPr sz="3200"/>
            </a:br>
            <a:r>
              <a:rPr b="1" lang="be-BY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be-BY" sz="3200" spc="-1" strike="noStrike">
                <a:solidFill>
                  <a:srgbClr val="003366"/>
                </a:solidFill>
                <a:latin typeface="Times New Roman"/>
              </a:rPr>
              <a:t>Работа току</a:t>
            </a: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 – фiзiчная велiчыня, якая паказвае колькасць электраэнергii, якая ператварылася ў iншыя вiды энергii. </a:t>
            </a:r>
            <a:br>
              <a:rPr sz="3200"/>
            </a:b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Адзiнка вымярэння  - 1 джоўль.</a:t>
            </a:r>
            <a:r>
              <a:rPr b="1" lang="be-BY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8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Магутнасць току ў правадніку прамапрапарцыйна сіле току і напружаню на кацах гэтага правадніка.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Адзінкі  1 В, 1 А и 1 Вт выбраныя такім чынам, што 1 В · 1 А = 1 Вт.</a:t>
            </a:r>
            <a:br>
              <a:rPr sz="2800"/>
            </a:b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25908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утнасць току, В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іла току, 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ычнае напружанне, В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14400" y="3429000"/>
            <a:ext cx="3276720" cy="1625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1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58920" y="358920"/>
          <a:ext cx="72360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358920"/>
                    <a:ext cx="7236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81120" y="2590560"/>
            <a:ext cx="35053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I – сіла току, А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q – зарад, Кл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t – час, с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9480" y="838080"/>
            <a:ext cx="4038840" cy="3573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47760" y="4495680"/>
            <a:ext cx="860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Сіла току</a:t>
            </a: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 – фізічная велічыня, якая паказвае зарад, які праходзіць праз папярочнае сячэнне правадніка за адзінку часу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457200"/>
            <a:ext cx="4495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С</a:t>
            </a:r>
            <a:r>
              <a:rPr b="1" lang="be-BY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і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ла ток</a:t>
            </a:r>
            <a:r>
              <a:rPr b="1" lang="be-BY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у</a:t>
            </a:r>
            <a:r>
              <a:rPr b="1" lang="en-US" sz="3200" spc="-1" strike="noStrike">
                <a:solidFill>
                  <a:srgbClr val="003366"/>
                </a:solidFill>
                <a:latin typeface="Arial Black"/>
                <a:ea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5280" y="1412640"/>
            <a:ext cx="883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3366"/>
                </a:solidFill>
                <a:latin typeface="Tahoma"/>
              </a:rPr>
              <a:t>З дапамогай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з-н</a:t>
            </a:r>
            <a:r>
              <a:rPr b="0" lang="be-BY" sz="3200" spc="-1" strike="noStrike">
                <a:solidFill>
                  <a:srgbClr val="003366"/>
                </a:solidFill>
                <a:latin typeface="Tahoma"/>
              </a:rPr>
              <a:t>у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Ома </a:t>
            </a:r>
            <a:r>
              <a:rPr b="0" lang="be-BY" sz="3200" spc="-1" strike="noStrike">
                <a:solidFill>
                  <a:srgbClr val="003366"/>
                </a:solidFill>
                <a:latin typeface="Tahoma"/>
              </a:rPr>
              <a:t>атрымаем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2 формулы </a:t>
            </a:r>
            <a:r>
              <a:rPr b="0" lang="be-BY" sz="3200" spc="-1" strike="noStrike">
                <a:solidFill>
                  <a:srgbClr val="003366"/>
                </a:solidFill>
                <a:latin typeface="Tahoma"/>
              </a:rPr>
              <a:t>разлiку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работы </a:t>
            </a:r>
            <a:r>
              <a:rPr b="0" lang="be-BY" sz="3200" spc="-1" strike="noStrike">
                <a:solidFill>
                  <a:srgbClr val="003366"/>
                </a:solidFill>
                <a:latin typeface="Tahoma"/>
              </a:rPr>
              <a:t>электрычных сiл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:</a:t>
            </a:r>
            <a:br>
              <a:rPr sz="3200"/>
            </a:br>
            <a:r>
              <a:rPr b="1" lang="be-BY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be-BY" sz="3600" spc="-1" strike="noStrike" u="sng">
                <a:solidFill>
                  <a:srgbClr val="003366"/>
                </a:solidFill>
                <a:uFillTx/>
                <a:latin typeface="Times New Roman"/>
              </a:rPr>
              <a:t>А</a:t>
            </a:r>
            <a:r>
              <a:rPr b="1" lang="be-BY" sz="3600" spc="-1" strike="noStrike" u="sng" baseline="-25000">
                <a:solidFill>
                  <a:srgbClr val="003366"/>
                </a:solidFill>
                <a:uFillTx/>
                <a:latin typeface="Times New Roman"/>
              </a:rPr>
              <a:t>эл</a:t>
            </a:r>
            <a:r>
              <a:rPr b="1" lang="be-BY" sz="3600" spc="-1" strike="noStrike" u="sng">
                <a:solidFill>
                  <a:srgbClr val="003366"/>
                </a:solidFill>
                <a:uFillTx/>
                <a:latin typeface="Times New Roman"/>
              </a:rPr>
              <a:t> =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</a:rPr>
              <a:t>I</a:t>
            </a:r>
            <a:r>
              <a:rPr b="1" lang="en-US" sz="3600" spc="-1" strike="noStrike" u="sng" baseline="30000">
                <a:solidFill>
                  <a:srgbClr val="003366"/>
                </a:solidFill>
                <a:uFillTx/>
                <a:latin typeface="Times New Roman"/>
              </a:rPr>
              <a:t>2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</a:rPr>
              <a:t>R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l-GR" sz="3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Δ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 </a:t>
            </a:r>
            <a:br>
              <a:rPr sz="3600"/>
            </a:b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be-BY" sz="3600" spc="-1" strike="noStrike" u="sng">
                <a:solidFill>
                  <a:srgbClr val="003366"/>
                </a:solidFill>
                <a:uFillTx/>
                <a:latin typeface="Times New Roman"/>
              </a:rPr>
              <a:t>А</a:t>
            </a:r>
            <a:r>
              <a:rPr b="1" lang="be-BY" sz="3600" spc="-1" strike="noStrike" u="sng" baseline="-25000">
                <a:solidFill>
                  <a:srgbClr val="003366"/>
                </a:solidFill>
                <a:uFillTx/>
                <a:latin typeface="Times New Roman"/>
              </a:rPr>
              <a:t>эл</a:t>
            </a:r>
            <a:r>
              <a:rPr b="1" lang="be-BY" sz="3600" spc="-1" strike="noStrike" u="sng">
                <a:solidFill>
                  <a:srgbClr val="003366"/>
                </a:solidFill>
                <a:uFillTx/>
                <a:latin typeface="Times New Roman"/>
              </a:rPr>
              <a:t> =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</a:rPr>
              <a:t> (U</a:t>
            </a:r>
            <a:r>
              <a:rPr b="1" lang="en-US" sz="3600" spc="-1" strike="noStrike" u="sng" baseline="30000">
                <a:solidFill>
                  <a:srgbClr val="003366"/>
                </a:solidFill>
                <a:uFillTx/>
                <a:latin typeface="Times New Roman"/>
              </a:rPr>
              <a:t>2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</a:rPr>
              <a:t> /R)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l-GR" sz="3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Δ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 </a:t>
            </a:r>
            <a:br>
              <a:rPr sz="3600"/>
            </a:br>
            <a:br>
              <a:rPr sz="3600"/>
            </a:b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</a:rPr>
              <a:t>P </a:t>
            </a:r>
            <a:r>
              <a:rPr b="1" lang="be-BY" sz="3600" spc="-1" strike="noStrike" u="sng">
                <a:solidFill>
                  <a:srgbClr val="003366"/>
                </a:solidFill>
                <a:uFillTx/>
                <a:latin typeface="Times New Roman"/>
              </a:rPr>
              <a:t>=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</a:rPr>
              <a:t>I</a:t>
            </a:r>
            <a:r>
              <a:rPr b="1" lang="en-US" sz="3600" spc="-1" strike="noStrike" u="sng" baseline="30000">
                <a:solidFill>
                  <a:srgbClr val="003366"/>
                </a:solidFill>
                <a:uFillTx/>
                <a:latin typeface="Times New Roman"/>
              </a:rPr>
              <a:t>2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</a:rPr>
              <a:t>R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be-BY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</a:rPr>
              <a:t>P </a:t>
            </a:r>
            <a:r>
              <a:rPr b="1" lang="be-BY" sz="3600" spc="-1" strike="noStrike" u="sng">
                <a:solidFill>
                  <a:srgbClr val="003366"/>
                </a:solidFill>
                <a:uFillTx/>
                <a:latin typeface="Times New Roman"/>
              </a:rPr>
              <a:t> =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</a:rPr>
              <a:t> U</a:t>
            </a:r>
            <a:r>
              <a:rPr b="1" lang="en-US" sz="3600" spc="-1" strike="noStrike" u="sng" baseline="30000">
                <a:solidFill>
                  <a:srgbClr val="003366"/>
                </a:solidFill>
                <a:uFillTx/>
                <a:latin typeface="Times New Roman"/>
              </a:rPr>
              <a:t>2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</a:rPr>
              <a:t> /R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47242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280" y="1412640"/>
            <a:ext cx="883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 Black"/>
              </a:rPr>
              <a:t>Закон Джоўля-Ленца.</a:t>
            </a:r>
            <a:br>
              <a:rPr sz="4000"/>
            </a:b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Калi ўнутраная энергiя праваднiка не мяняецца, то колькасць цеплаты, якая вылучаецца ў праваднiку, роўна здабытку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квадрат</a:t>
            </a: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с</a:t>
            </a: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лы ток</a:t>
            </a: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, с</a:t>
            </a:r>
            <a:r>
              <a:rPr b="0" lang="be-BY" sz="3200" spc="-1" strike="noStrike">
                <a:solidFill>
                  <a:srgbClr val="003366"/>
                </a:solidFill>
                <a:latin typeface="Times New Roman"/>
              </a:rPr>
              <a:t>упрацiўлення i часу праходжання току.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be-BY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Q</a:t>
            </a:r>
            <a:r>
              <a:rPr b="1" lang="be-BY" sz="3200" spc="-1" strike="noStrike" u="sng">
                <a:solidFill>
                  <a:srgbClr val="003366"/>
                </a:solidFill>
                <a:uFillTx/>
                <a:latin typeface="Times New Roman"/>
              </a:rPr>
              <a:t> =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I</a:t>
            </a:r>
            <a:r>
              <a:rPr b="1" lang="en-US" sz="3200" spc="-1" strike="noStrike" u="sng" baseline="30000">
                <a:solidFill>
                  <a:srgbClr val="003366"/>
                </a:solidFill>
                <a:uFillTx/>
                <a:latin typeface="Times New Roman"/>
              </a:rPr>
              <a:t>2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R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l-GR" sz="32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Δ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 </a:t>
            </a:r>
            <a:br>
              <a:rPr sz="32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8320" y="47242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 Black"/>
              </a:rPr>
              <a:t>Закон Джоўля-Ленца.</a:t>
            </a:r>
            <a:br>
              <a:rPr sz="4400"/>
            </a:b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47242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6670440" cy="368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68360" y="2852640"/>
            <a:ext cx="8136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Узгадаем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ш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то </a:t>
            </a:r>
            <a:r>
              <a:rPr b="1" lang="el-GR" sz="2800" spc="-1" strike="noStrike">
                <a:solidFill>
                  <a:srgbClr val="003366"/>
                </a:solidFill>
                <a:latin typeface="Arial"/>
              </a:rPr>
              <a:t>Δ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U – 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гэта змяненне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ў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нутр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анай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энерг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ii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цела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праваднiка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), Q – 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колькасць цеплаты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аддадзеная праваднiком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(на 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гэта ўказвае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"м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нус"), A' – работа, 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здзейсненая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над пр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аваднi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к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Электр</a:t>
            </a:r>
            <a:r>
              <a:rPr b="0" lang="be-BY" sz="4400" spc="-1" strike="noStrike">
                <a:solidFill>
                  <a:srgbClr val="003366"/>
                </a:solidFill>
                <a:latin typeface="Times New Roman"/>
              </a:rPr>
              <a:t>анагравальныя прыборы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.</a:t>
            </a:r>
            <a:br>
              <a:rPr sz="4400"/>
            </a:b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48320" y="47242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00680" y="3500280"/>
            <a:ext cx="6872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Ля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мпы на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палу ў светлавую энергiю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ператвараюць менш за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5 % 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спажытай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электраэнергii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, а астатнюю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ператвараюць у цяпло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Таму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такія л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я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мпы </a:t>
            </a: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можна лiчыць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электранагравальнымi прыборамi.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Электр</a:t>
            </a:r>
            <a:r>
              <a:rPr b="0" lang="be-BY" sz="4400" spc="-1" strike="noStrike">
                <a:solidFill>
                  <a:srgbClr val="003366"/>
                </a:solidFill>
                <a:latin typeface="Times New Roman"/>
              </a:rPr>
              <a:t>анагравальныя прыборы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.</a:t>
            </a:r>
            <a:br>
              <a:rPr sz="4400"/>
            </a:b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48320" y="47242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01760" y="3500280"/>
            <a:ext cx="833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З якога матэрыялу вырабляюць нiць напалу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Чаму нiць мае форму спiралi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3366"/>
                </a:solidFill>
                <a:latin typeface="Arial"/>
              </a:rPr>
              <a:t>Для чаго служыць колба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38480" y="277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619280" y="3429000"/>
            <a:ext cx="6121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апружанне – гэта….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Адзінка напружання -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ыбор  для вымярэння  напружання -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Як ён уключаецца ў ланцуг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608800" cy="1089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 Black"/>
              </a:rPr>
              <a:t>Закон Ома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510552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4184640"/>
          <a:ext cx="731520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84640"/>
                    <a:ext cx="73152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33520" y="2286000"/>
            <a:ext cx="3276360" cy="1787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181480" y="2228760"/>
            <a:ext cx="1779840" cy="120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38480" y="277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9640" y="299736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800" spc="-1" strike="noStrike">
                <a:solidFill>
                  <a:srgbClr val="003366"/>
                </a:solidFill>
                <a:latin typeface="Times New Roman"/>
              </a:rPr>
              <a:t>Электрычнае супрацiўленне – гэта ўласцiвасць праваднiкоў ствараць перашкоды праходжанню электрычнага току. Супрацiўленне праваднiка залежыць ад яго даўжынi, плошчы папярочнага сячэння, роду рэчыва i тэмпературы.</a:t>
            </a: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54016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38480" y="277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9640" y="907560"/>
            <a:ext cx="830592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Якая прычына электрычнага 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супраціўлення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Узгадаем, што ток у металічным правадніку – гэта накіраваны рух свабодных электронаў, якія сутыкаюцца з іонамі крышталічнай рашоткі. Электроны аднолькавыя ва ўсіх крышталях, а іоны (іх памеры, парадак размяшчэння і шчыльнасць) – розныя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Менавіта таму розныя металы маюць рознае электрычнае супраціўленне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54016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38480" y="277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160" y="685800"/>
            <a:ext cx="8305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Літарамі A і B на малюнку абазначаныя канцы тонкага нікелінавага дроту, а літарай K – рухомы кантакт. Перасоўваючы яго, мы змяняем даўжыню ў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частка дроту, праз якi праходзiць ток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(участ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 AK). 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Пры левым палажэннi  кантакта К, лямпачка гарыць ярчэй, чым пры правым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Г. зн.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ш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о </a:t>
            </a:r>
            <a:r>
              <a:rPr b="1" i="1" lang="be-BY" sz="2400" spc="-1" strike="noStrike">
                <a:solidFill>
                  <a:srgbClr val="003366"/>
                </a:solidFill>
                <a:latin typeface="Arial"/>
              </a:rPr>
              <a:t>змяненне даўжыні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</a:t>
            </a:r>
            <a:r>
              <a:rPr b="1" lang="be-BY" sz="2400" spc="-1" strike="noStrike">
                <a:solidFill>
                  <a:srgbClr val="003366"/>
                </a:solidFill>
                <a:latin typeface="Arial"/>
              </a:rPr>
              <a:t>аваднiка вядзе да змянення яго супрацiўлення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0" y="4514760"/>
            <a:ext cx="4948200" cy="169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38480" y="277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160" y="685800"/>
            <a:ext cx="8305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be-BY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</a:t>
            </a:r>
            <a:r>
              <a:rPr b="1" lang="be-BY" sz="2800" spc="-1" strike="noStrike">
                <a:solidFill>
                  <a:srgbClr val="003366"/>
                </a:solidFill>
                <a:latin typeface="Arial"/>
              </a:rPr>
              <a:t>ы павелiчэннi плошчы папярочнага сячэння супрацiўленне праваднiка змяншаецца.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be-BY" sz="2800" spc="-1" strike="noStrike">
                <a:solidFill>
                  <a:srgbClr val="003366"/>
                </a:solidFill>
                <a:latin typeface="Arial"/>
              </a:rPr>
              <a:t>Супрацiўленне праваднiкоў залежыць ад тэмпературы. Растлумачце чаму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57400" y="4332240"/>
            <a:ext cx="5481720" cy="1881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38480" y="277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3366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67000" y="3535200"/>
            <a:ext cx="6457680" cy="2799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447920" y="380520"/>
            <a:ext cx="716256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</a:t>
            </a: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упрацiўленне праваднiка пры пастаяннай тэмпературы залежыць ад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од</a:t>
            </a: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рэчыва праваднiка,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даўжынi праваднiка,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3366"/>
                </a:solidFill>
                <a:latin typeface="Times New Roman"/>
              </a:rPr>
              <a:t>Плошчы папярочнага сячэння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0:21:29Z</dcterms:created>
  <dc:creator>*</dc:creator>
  <dc:description/>
  <dc:language>en-US</dc:language>
  <cp:lastModifiedBy>*</cp:lastModifiedBy>
  <dcterms:modified xsi:type="dcterms:W3CDTF">2005-11-01T08:30:29Z</dcterms:modified>
  <cp:revision>328</cp:revision>
  <dc:subject/>
  <dc:title>Настаўнiк. Школа. Грамадзтва.</dc:title>
</cp:coreProperties>
</file>